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19E-65BA-4DD2-AE2D-E8D7A138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3A0-61C2-453E-B4F9-0AA5E7C0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A46-6A75-4493-A6E2-173A132D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424-76DA-4B4D-9E28-BB0D8097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2E6-7972-4998-ABD4-9472D6CA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BA1-5B8B-4E6D-B44A-9FC8D27D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706-DC7F-4A98-8607-E09EF78B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C8E-59DE-4470-A784-0B59579A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631-6EDB-43C3-A42F-212B0D3A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DE1-9E49-415A-92C8-848B65A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F9D-D323-4A90-903A-8CD3880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D62-AE0C-424A-A199-1D8A8E84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486D-896F-41BF-AAC6-993DD4E603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FFD5-0A12-46E4-B5FD-938037D02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7158-E7FF-4687-B851-D79751092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Criteria for Research Activitie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2FE3-97D8-4700-99CF-01D3A6157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5120" y="1488960"/>
            <a:ext cx="7108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2495520" y="1504080"/>
            <a:ext cx="5202360" cy="5154480"/>
            <a:chOff x="2495520" y="1504080"/>
            <a:chExt cx="5202360" cy="5154480"/>
          </a:xfrm>
        </p:grpSpPr>
        <p:grpSp>
          <p:nvGrpSpPr>
            <p:cNvPr id="52" name="Group 46"/>
            <p:cNvGrpSpPr/>
            <p:nvPr/>
          </p:nvGrpSpPr>
          <p:grpSpPr>
            <a:xfrm>
              <a:off x="2495520" y="1504080"/>
              <a:ext cx="5202360" cy="5154480"/>
              <a:chOff x="2495520" y="1504080"/>
              <a:chExt cx="5202360" cy="5154480"/>
            </a:xfrm>
          </p:grpSpPr>
          <p:sp>
            <p:nvSpPr>
              <p:cNvPr id="53" name="Oval 67"/>
              <p:cNvSpPr/>
              <p:nvPr/>
            </p:nvSpPr>
            <p:spPr>
              <a:xfrm>
                <a:off x="2675520" y="1697760"/>
                <a:ext cx="4824720" cy="4751640"/>
              </a:xfrm>
              <a:prstGeom prst="ellipse">
                <a:avLst/>
              </a:prstGeom>
              <a:solidFill>
                <a:srgbClr val="8eb4e3"/>
              </a:solidFill>
              <a:ln w="10800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Isosceles Triangle 68"/>
              <p:cNvSpPr/>
              <p:nvPr/>
            </p:nvSpPr>
            <p:spPr>
              <a:xfrm>
                <a:off x="2495520" y="388548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Isosceles Triangle 69"/>
              <p:cNvSpPr/>
              <p:nvPr/>
            </p:nvSpPr>
            <p:spPr>
              <a:xfrm rot="2239800">
                <a:off x="3177360" y="223200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Isosceles Triangle 70"/>
              <p:cNvSpPr/>
              <p:nvPr/>
            </p:nvSpPr>
            <p:spPr>
              <a:xfrm rot="5659200">
                <a:off x="5014800" y="15094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Isosceles Triangle 71"/>
              <p:cNvSpPr/>
              <p:nvPr/>
            </p:nvSpPr>
            <p:spPr>
              <a:xfrm rot="12623400">
                <a:off x="7040880" y="511164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Isosceles Triangle 72"/>
              <p:cNvSpPr/>
              <p:nvPr/>
            </p:nvSpPr>
            <p:spPr>
              <a:xfrm rot="7923600">
                <a:off x="6603840" y="22809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Isosceles Triangle 73"/>
              <p:cNvSpPr/>
              <p:nvPr/>
            </p:nvSpPr>
            <p:spPr>
              <a:xfrm rot="18501600">
                <a:off x="3243240" y="553824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Isosceles Triangle 74"/>
              <p:cNvSpPr/>
              <p:nvPr/>
            </p:nvSpPr>
            <p:spPr>
              <a:xfrm rot="13861800">
                <a:off x="6027120" y="60022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Isosceles Triangle 75"/>
              <p:cNvSpPr/>
              <p:nvPr/>
            </p:nvSpPr>
            <p:spPr>
              <a:xfrm rot="16801200">
                <a:off x="4813560" y="62607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Isosceles Triangle 76"/>
              <p:cNvSpPr/>
              <p:nvPr/>
            </p:nvSpPr>
            <p:spPr>
              <a:xfrm rot="10461600">
                <a:off x="7320240" y="386856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Box 47"/>
            <p:cNvSpPr/>
            <p:nvPr/>
          </p:nvSpPr>
          <p:spPr>
            <a:xfrm rot="15177000">
              <a:off x="2502720" y="4564440"/>
              <a:ext cx="116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te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48"/>
            <p:cNvSpPr/>
            <p:nvPr/>
          </p:nvSpPr>
          <p:spPr>
            <a:xfrm rot="15543000">
              <a:off x="2585520" y="4058640"/>
              <a:ext cx="15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49"/>
            <p:cNvSpPr/>
            <p:nvPr/>
          </p:nvSpPr>
          <p:spPr>
            <a:xfrm rot="17272200">
              <a:off x="2542680" y="3156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50"/>
            <p:cNvSpPr/>
            <p:nvPr/>
          </p:nvSpPr>
          <p:spPr>
            <a:xfrm rot="18132000">
              <a:off x="3078000" y="2994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blem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51"/>
            <p:cNvSpPr/>
            <p:nvPr/>
          </p:nvSpPr>
          <p:spPr>
            <a:xfrm rot="19540200">
              <a:off x="3204720" y="2265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52"/>
            <p:cNvSpPr/>
            <p:nvPr/>
          </p:nvSpPr>
          <p:spPr>
            <a:xfrm rot="20122800">
              <a:off x="3802680" y="23619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ry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53"/>
            <p:cNvSpPr/>
            <p:nvPr/>
          </p:nvSpPr>
          <p:spPr>
            <a:xfrm rot="217200">
              <a:off x="4754520" y="210708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Box 54"/>
            <p:cNvSpPr/>
            <p:nvPr/>
          </p:nvSpPr>
          <p:spPr>
            <a:xfrm rot="907200">
              <a:off x="5308560" y="1891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Box 55"/>
            <p:cNvSpPr/>
            <p:nvPr/>
          </p:nvSpPr>
          <p:spPr>
            <a:xfrm rot="1968600">
              <a:off x="5461560" y="2403360"/>
              <a:ext cx="13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ticipatory 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56"/>
            <p:cNvSpPr/>
            <p:nvPr/>
          </p:nvSpPr>
          <p:spPr>
            <a:xfrm rot="3493800">
              <a:off x="6318720" y="2859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Box 57"/>
            <p:cNvSpPr/>
            <p:nvPr/>
          </p:nvSpPr>
          <p:spPr>
            <a:xfrm rot="4278000">
              <a:off x="6037560" y="343548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58"/>
            <p:cNvSpPr/>
            <p:nvPr/>
          </p:nvSpPr>
          <p:spPr>
            <a:xfrm rot="4933800">
              <a:off x="6459840" y="349992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rm-level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59"/>
            <p:cNvSpPr/>
            <p:nvPr/>
          </p:nvSpPr>
          <p:spPr>
            <a:xfrm rot="6523200">
              <a:off x="6014880" y="436104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ustainability / resili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60"/>
            <p:cNvSpPr/>
            <p:nvPr/>
          </p:nvSpPr>
          <p:spPr>
            <a:xfrm rot="6772200">
              <a:off x="6442920" y="458064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S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61"/>
            <p:cNvSpPr/>
            <p:nvPr/>
          </p:nvSpPr>
          <p:spPr>
            <a:xfrm rot="8275200">
              <a:off x="5904720" y="5430240"/>
              <a:ext cx="12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ta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2"/>
            <p:cNvSpPr/>
            <p:nvPr/>
          </p:nvSpPr>
          <p:spPr>
            <a:xfrm rot="9102000">
              <a:off x="5336640" y="52099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orecast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63"/>
            <p:cNvSpPr/>
            <p:nvPr/>
          </p:nvSpPr>
          <p:spPr>
            <a:xfrm rot="10084200">
              <a:off x="4893480" y="58507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64"/>
            <p:cNvSpPr/>
            <p:nvPr/>
          </p:nvSpPr>
          <p:spPr>
            <a:xfrm rot="11631000">
              <a:off x="4036320" y="548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caling appro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65"/>
            <p:cNvSpPr/>
            <p:nvPr/>
          </p:nvSpPr>
          <p:spPr>
            <a:xfrm rot="12174000">
              <a:off x="3741480" y="578340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ggregated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66"/>
            <p:cNvSpPr/>
            <p:nvPr/>
          </p:nvSpPr>
          <p:spPr>
            <a:xfrm rot="13439400">
              <a:off x="3100320" y="5020200"/>
              <a:ext cx="138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mplemntat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Chart 123" descr=""/>
          <p:cNvPicPr/>
          <p:nvPr/>
        </p:nvPicPr>
        <p:blipFill>
          <a:blip r:embed="rId2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5" name="Chart 124" descr=""/>
          <p:cNvPicPr/>
          <p:nvPr/>
        </p:nvPicPr>
        <p:blipFill>
          <a:blip r:embed="rId3"/>
          <a:stretch/>
        </p:blipFill>
        <p:spPr>
          <a:xfrm>
            <a:off x="2913120" y="2476440"/>
            <a:ext cx="4309920" cy="317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E4C2-10ED-4423-BD00-3A4059E1E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5"/>
          <p:cNvSpPr/>
          <p:nvPr/>
        </p:nvSpPr>
        <p:spPr>
          <a:xfrm rot="20589600">
            <a:off x="-503280" y="6681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3780000" y="30751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0"/>
          <p:cNvSpPr/>
          <p:nvPr/>
        </p:nvSpPr>
        <p:spPr>
          <a:xfrm>
            <a:off x="5032440" y="311940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3236-AB95-42C0-AB73-5A9EFD4AB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A4F2-B891-48B5-BBBB-314DFAA4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6:27Z</dcterms:modified>
  <cp:revision>83</cp:revision>
  <dc:subject/>
  <dc:title>PowerPoint Presentation</dc:title>
</cp:coreProperties>
</file>