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E1DF-C312-4604-BEAC-3FBAF65C9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71DC-F0EF-479C-BFBF-5C44CA9B1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148-4678-4E43-B2A2-E232EDFDD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BEE-A026-4E89-A9D5-BC50D28C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12FA-6D51-40D0-BFEE-6B423BA2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0088-2443-489A-A689-4B27EF8E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EED-3C2A-4D1E-A0B1-FD40F713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6FA5-C7F5-466B-8C64-A8A0A325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D4F8-2218-4F47-A540-C1359042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BD4F-562F-4798-96AF-AEA9F1F8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876B-0B2F-4F96-8997-4D0B461D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CE52-3BCE-46F3-A98D-C0327941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80FF-93E8-4A7E-9DF4-6B0F2FB3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090D-8B6C-468C-9351-55AA3ED42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19E5-BDD9-423C-83F6-9C909EA542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Project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7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2"/>
          <p:cNvSpPr/>
          <p:nvPr/>
        </p:nvSpPr>
        <p:spPr>
          <a:xfrm>
            <a:off x="6781680" y="3048120"/>
            <a:ext cx="2133720" cy="21333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 x 25 = Yr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25 x 15 = Yr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375 x 5 = Yr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6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Global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and Output/impact levels -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(management indic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and approval process by the USAID mission in Q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to si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nual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standardized forms for better reporting and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" y="1752480"/>
          <a:ext cx="8686800" cy="484668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1447560"/>
                <a:gridCol w="144792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ice hectares under improved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individuals who have received USG support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576440"/>
          <a:ext cx="8686800" cy="502920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ood security private enterprises (for profit), producers organizations, water users associations, women's groups, trade and business associations, and community-based organizations (CBOs) receiving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beneficiaries with home gardens or alternate crops as a proxy for access to nutritious foods an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Project Custom (Management)indicator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1576440"/>
          <a:ext cx="8686800" cy="419112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other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grand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pillover households using improved technologies from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8T16:22:07Z</dcterms:modified>
  <cp:revision>26</cp:revision>
  <dc:subject/>
  <dc:title>PowerPoint Presentation</dc:title>
</cp:coreProperties>
</file>