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0BFF-8A9A-4E67-B328-56F3A5A1D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283B-27AB-431C-823B-9773B7392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F58-72F0-4F55-B880-4FEB67E6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92C-8C95-4F10-80E6-0E38E8BD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5F0-A6FA-4274-B802-E32F2E16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D8F-40AA-4BD3-A5B6-EA4108E4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C2F-6D58-4D1D-8A54-4D3A231B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C42-9A4A-4085-B356-421D0A0B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E73-9691-4987-9992-50AD847B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8093-138A-485C-9CEE-3D15D951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B51-1522-4A3A-A6C4-8DCD11DF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40C-7B8A-41BE-9610-6B870BEE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69E-0316-40C1-A7BC-ACE6B331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D1C-67D5-488E-86B0-CD4AE390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AD70-031A-4444-818F-3862114F2D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Project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: Maiz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47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val 2"/>
          <p:cNvSpPr/>
          <p:nvPr/>
        </p:nvSpPr>
        <p:spPr>
          <a:xfrm>
            <a:off x="6781680" y="3048120"/>
            <a:ext cx="2133720" cy="21333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 x 25 = Yr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25 x 15 = Yr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375 x 5 = Yr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6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Global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 and Output/impact levels -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 (management indica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on and approval process by the USAID mission in Qr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to six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nual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standardized forms for better reporting and monit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Project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28600" y="1752480"/>
          <a:ext cx="8686800" cy="4846680"/>
        </p:xfrm>
        <a:graphic>
          <a:graphicData uri="http://schemas.openxmlformats.org/drawingml/2006/table">
            <a:tbl>
              <a:tblPr/>
              <a:tblGrid>
                <a:gridCol w="3352680"/>
                <a:gridCol w="838440"/>
                <a:gridCol w="1447560"/>
                <a:gridCol w="144792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farmers and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rice hectares under improved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individuals who have received USG supported short-term agricultural sector productivity or food security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Project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52280" y="1576440"/>
          <a:ext cx="8686800" cy="5029200"/>
        </p:xfrm>
        <a:graphic>
          <a:graphicData uri="http://schemas.openxmlformats.org/drawingml/2006/table">
            <a:tbl>
              <a:tblPr/>
              <a:tblGrid>
                <a:gridCol w="3353040"/>
                <a:gridCol w="838080"/>
                <a:gridCol w="1447920"/>
                <a:gridCol w="144756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food security private enterprises (for profit), producers organizations, water users associations, women's groups, trade and business associations, and community-based organizations (CBOs) receiving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rural households benefiting directly from USG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beneficiaries with home gardens or alternate crops as a proxy for access to nutritious foods and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Project Custom (Management)indicators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280" y="1576440"/>
          <a:ext cx="8686800" cy="4191120"/>
        </p:xfrm>
        <a:graphic>
          <a:graphicData uri="http://schemas.openxmlformats.org/drawingml/2006/table">
            <a:tbl>
              <a:tblPr/>
              <a:tblGrid>
                <a:gridCol w="3353040"/>
                <a:gridCol w="838080"/>
                <a:gridCol w="1447920"/>
                <a:gridCol w="144756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mother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by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grand baby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pillover households using improved technologies from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08T16:22:07Z</dcterms:modified>
  <cp:revision>26</cp:revision>
  <dc:subject/>
  <dc:title>PowerPoint Presentation</dc:title>
</cp:coreProperties>
</file>