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EA3D42-25CE-4D60-8D8F-D95835A08B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2F874-471C-44A1-9B12-DC27F37875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90499F-F0C4-4B42-9BE9-6DDF1C9A7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73696-5FC0-4DE1-BC58-28488EEDD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97C661-35E4-42CA-A50D-DD89956D66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50037-DEB8-4938-94E7-650C186B1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2BA56-C609-4B51-9C79-34F9C79C7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9ABB7-8BEC-485F-A201-05BF8D07F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88A52-B46A-4519-B6DF-A1D275EB1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0A161-53F9-4DC8-AD46-19D9E9833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AF18B-2A5C-47D0-9CA8-71F03FFA5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14AA9-78D5-49DD-AFBA-DECC8F30A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E301-7A15-48EA-89BD-A98F375D62B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lawi Team: Agro-ecological Intensifica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ept 2013. Day 1 discussions Africa RISING Planning Meeting, Lilongw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ments /questions </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is GIS used in M&amp;E?</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ubled up legume technology has already been confirmed in Malawi, how are you synergizing with previous research?</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gration is missing? </a:t>
            </a:r>
            <a:r>
              <a:rPr b="0" i="1" lang="en-US" sz="3200" spc="-1" strike="noStrike">
                <a:solidFill>
                  <a:srgbClr val="000000"/>
                </a:solidFill>
                <a:latin typeface="Calibri"/>
              </a:rPr>
              <a:t>(comment not clear)</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op-livestock integration?</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hanges do you want to see at the end of the program (major outcome)?</a:t>
            </a:r>
            <a:endParaRPr b="0" lang="en-US" sz="3200" spc="-1" strike="noStrike">
              <a:solidFill>
                <a:srgbClr val="000000"/>
              </a:solidFill>
              <a:latin typeface="Calibri"/>
            </a:endParaRPr>
          </a:p>
          <a:p>
            <a:pPr marL="514440" indent="-514440">
              <a:spcBef>
                <a:spcPts val="799"/>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mments /questions </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51"/>
              </a:spcBef>
              <a:buClr>
                <a:srgbClr val="000000"/>
              </a:buClr>
              <a:buFont typeface="Calibri"/>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changes do you want to see at the end of the program (major outcomes)</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 your presentation, you downplayed the role of demonstrations, explain why? </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Comment: this was discussed in the context of farmers owning the trials/technology (co-learning with farmers).</a:t>
            </a:r>
            <a:endParaRPr b="0" lang="en-US" sz="26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tential for mechanized farming</a:t>
            </a:r>
            <a:endParaRPr b="0" lang="en-US" sz="3000" spc="-1" strike="noStrike">
              <a:solidFill>
                <a:srgbClr val="000000"/>
              </a:solidFill>
              <a:latin typeface="Calibri"/>
            </a:endParaRPr>
          </a:p>
          <a:p>
            <a:pPr marL="514440" indent="-514440">
              <a:lnSpc>
                <a:spcPct val="90000"/>
              </a:lnSpc>
              <a:spcBef>
                <a:spcPts val="751"/>
              </a:spcBef>
              <a:buClr>
                <a:srgbClr val="000000"/>
              </a:buClr>
              <a:buFont typeface="Calibri"/>
              <a:buAutoNum type="alphaLcParenR"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tegration of different work packages (Project Managers to discus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se of GIS for M and E?</a:t>
            </a:r>
            <a:endParaRPr b="0" lang="en-US" sz="4400" spc="-1" strike="noStrike">
              <a:solidFill>
                <a:srgbClr val="000000"/>
              </a:solidFill>
              <a:latin typeface="Calibri"/>
            </a:endParaRPr>
          </a:p>
        </p:txBody>
      </p:sp>
      <p:sp>
        <p:nvSpPr>
          <p:cNvPr id="48" name=""/>
          <p:cNvSpPr txBox="1"/>
          <p:nvPr/>
        </p:nvSpPr>
        <p:spPr>
          <a:xfrm>
            <a:off x="304560" y="1600200"/>
            <a:ext cx="838188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project farmers are geo-referenced, farmers can be tracked at any time for the M &amp; 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il mapping, carbon as an indicator of sustainability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ole of remote sensing to track new lands being opened for agriculture from forests – we suspect there is no more land in project sites (Dedza and Ntcheu), for expansion of arable land </a:t>
            </a:r>
            <a:r>
              <a:rPr b="0" i="1" lang="en-US" sz="3200" spc="-1" strike="noStrike">
                <a:solidFill>
                  <a:srgbClr val="000000"/>
                </a:solidFill>
                <a:latin typeface="Calibri"/>
              </a:rPr>
              <a:t>(this should be verifi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ubled up legume technology has already been confirmed in Malawi, how are you synergizing with previous research?</a:t>
            </a:r>
            <a:endParaRPr b="0" lang="en-US" sz="3200" spc="-1" strike="noStrike">
              <a:solidFill>
                <a:srgbClr val="000000"/>
              </a:solidFill>
              <a:latin typeface="Calibri"/>
            </a:endParaRPr>
          </a:p>
        </p:txBody>
      </p:sp>
      <p:sp>
        <p:nvSpPr>
          <p:cNvPr id="50" name=""/>
          <p:cNvSpPr txBox="1"/>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AR, we are not introducing new technologies. We are working on technologies that 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rop-livestock integration</a:t>
            </a:r>
            <a:endParaRPr b="0" lang="en-US" sz="4400" spc="-1" strike="noStrike">
              <a:solidFill>
                <a:srgbClr val="000000"/>
              </a:solidFill>
              <a:latin typeface="Calibri"/>
            </a:endParaRPr>
          </a:p>
        </p:txBody>
      </p:sp>
      <p:sp>
        <p:nvSpPr>
          <p:cNvPr id="52" name=""/>
          <p:cNvSpPr txBox="1"/>
          <p:nvPr/>
        </p:nvSpPr>
        <p:spPr>
          <a:xfrm>
            <a:off x="457200" y="1371240"/>
            <a:ext cx="822960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versified forage sourc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iven the emphasis on smallholder livestock production, there is need to look at diversified forage sources and not just shrubs (e.g legumes, grasses etc) in the fodder banks and by products from soybean processing.</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clude the monogastrics </a:t>
            </a:r>
            <a:r>
              <a:rPr b="0" lang="en-US" sz="3200" spc="-1" strike="noStrike">
                <a:solidFill>
                  <a:srgbClr val="000000"/>
                </a:solidFill>
                <a:latin typeface="Calibri"/>
              </a:rPr>
              <a:t>e.g. local poultr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ribute to HH food nutrition and incom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6858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What changes do you want to see at the end of the program (major outcomes)?</a:t>
            </a:r>
            <a:br>
              <a:rPr sz="4000"/>
            </a:br>
            <a:endParaRPr b="0" lang="en-US" sz="3600" spc="-1" strike="noStrike">
              <a:solidFill>
                <a:srgbClr val="000000"/>
              </a:solidFill>
              <a:latin typeface="Calibri"/>
            </a:endParaRPr>
          </a:p>
        </p:txBody>
      </p:sp>
      <p:sp>
        <p:nvSpPr>
          <p:cNvPr id="54" name=""/>
          <p:cNvSpPr txBox="1"/>
          <p:nvPr/>
        </p:nvSpPr>
        <p:spPr>
          <a:xfrm>
            <a:off x="457200" y="182844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tcomes:  crop production and nutri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d security (crop produc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tion security (proteins, calori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stainable environmental management (sustainable intensific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rket participation (input/output markets) enhance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ther questions/comments?</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tential for mechanized farming?  Producing ridges through ‘group owned or village level owned ’ equipment – not individual farmers buying equipment as this initial investment per farmer is prohibi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 all players in the R4D platforms so that we get same messages to the farm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ntegration </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ow do we integrate the different sets of surveys data: (IFPRI, Wageninge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results the surveys, how will this information be integr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project activities be changed every time we get survey results? How would this impact on the M and 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3T13:29:49Z</dcterms:created>
  <dc:creator>Windows User</dc:creator>
  <dc:description/>
  <dc:language>en-US</dc:language>
  <cp:lastModifiedBy>Ewen Le Borgne</cp:lastModifiedBy>
  <dcterms:modified xsi:type="dcterms:W3CDTF">2013-09-05T07:34:13Z</dcterms:modified>
  <cp:revision>45</cp:revision>
  <dc:subject/>
  <dc:title>Comments</dc:title>
</cp:coreProperties>
</file>