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1883A-1288-4F3D-9045-5937AC6511B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50451-BEFE-4B6B-AE56-59D6F478D67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67201-15C0-41B3-9E19-348B32D34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B6B16-442D-4772-B518-630AFF40C21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B4BE4-19A7-49B9-B8A5-BB6D8CDACD2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166AF-5B36-49EE-BEDA-99E7CD25B0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85A91-4F08-40A3-B7CE-FAD547F9B5C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01ECF-B69A-43B0-B23A-A9D6E36CA71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DBC18-4AAC-43E3-A244-001B14021C7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9309-CBA8-4798-AAC7-CDCAF96F5D7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0FFD2-1560-4762-8D37-F66454AE035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56CF6-77EF-4314-9138-3F2300DC14C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283C-2B96-4F3D-901A-0641CE98CA7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0" y="19098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4"/>
          <a:stretch/>
        </p:blipFill>
        <p:spPr>
          <a:xfrm>
            <a:off x="1752480" y="5002200"/>
            <a:ext cx="5639040" cy="1703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7772400" cy="47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Are multi-stakeholder platforms the answer to demand-driven research on sustainable intensification? The case of Babati,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Hillbur, Per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ambria"/>
              </a:rPr>
              <a:t>1,3</a:t>
            </a: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 and McCormack, Caitlin</a:t>
            </a:r>
            <a:r>
              <a:rPr b="1" lang="en-GB" sz="2400" spc="-1" strike="noStrike" baseline="30000">
                <a:solidFill>
                  <a:srgbClr val="000000"/>
                </a:solidFill>
                <a:latin typeface="Cambria"/>
              </a:rPr>
              <a:t>2,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baseline="30000">
                <a:solidFill>
                  <a:srgbClr val="000000"/>
                </a:solidFill>
                <a:latin typeface="Cambr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baseline="30000">
                <a:solidFill>
                  <a:srgbClr val="000000"/>
                </a:solidFill>
                <a:latin typeface="Cambria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Malmö University, Swe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Swedish University of Agricultural Sciences (SLU), Swed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baseline="30000">
                <a:solidFill>
                  <a:srgbClr val="000000"/>
                </a:solidFill>
                <a:latin typeface="Cambria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International Institute of Tropical Agriculture (IITA), Arusha, Tanzan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6840" y="2514600"/>
            <a:ext cx="8002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aper explores the challenge to implement sustainable intensification by a combination of science-driven promotion of agricultural technologies and a demand-driven process in a local organizational contex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what ways do research-for-development (R4D) platforms respond to the need for demand-driven research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are the barriers and opportunities for R4D platforms to support a research program on sustainable agricultural intensifica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overall performance of the R4D platform approach in a local context in terms of provision of a demand-driven approach to sustainable intensifica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alibri"/>
              </a:rPr>
              <a:t>Introduction and objec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valuation of a local R4D platform (JUMBA) based on project documentation and 14 semi-structured interviews with key stakeholders in the proces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alysis: three dimensions of platform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ec821c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establishment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ec821c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functioning, an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>
              <a:spcBef>
                <a:spcPts val="499"/>
              </a:spcBef>
              <a:buClr>
                <a:srgbClr val="ec821c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atform outcom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ddition to these dimensions, we have added a relational dimension to explore how platform members build networks and relations within and outside the platform itself. The relational dimension is essential to understand the platform’s potential for long-term impac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Research 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57200" y="19162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</a:rPr>
              <a:t>Establishment – origin and structur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Close link between JUMBA and Africa RISING – sometimes confla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High representa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</a:rPr>
              <a:t>Functioning – communication and coordinatio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The role and capacity of the management committ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Communication – a major challenge: + and 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Lack of facilitation – financial and capacity buil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</a:rPr>
              <a:t>Outcom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Scoping activity; Objectives and work plan for 15/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grated part of Babati District Council annual budget and activity pl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Generally few tangible outcomes on the gr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v-SE" sz="1800" spc="-1" strike="noStrike">
                <a:solidFill>
                  <a:srgbClr val="000000"/>
                </a:solidFill>
                <a:latin typeface="Calibri"/>
              </a:rPr>
              <a:t>Relation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Strengthening local network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98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Calibri"/>
              </a:rPr>
              <a:t>Connecting to District Council - sustain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Main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Future relation JUMBA - Africa RIS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Membership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Leadership and coordination; capacity buil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Private sector involv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Ward level platforms to reach far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000000"/>
                </a:solidFill>
                <a:latin typeface="Calibri"/>
              </a:rPr>
              <a:t>Discuss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80600" y="2205000"/>
            <a:ext cx="8147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R4DPs have considerable potential for sustainable intensification – capacity building and conflict resolution – locally developed 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Not independent/mature yet – need for facili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Closer to the farmers – ward level essent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Social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farmer groups, social capital, gender equ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uman (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educ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000000"/>
                </a:solidFill>
                <a:latin typeface="Calibri"/>
              </a:rPr>
              <a:t>Conclusion and relevance to SI dimen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08:08:26Z</dcterms:created>
  <dc:creator>IZeledon</dc:creator>
  <dc:description/>
  <dc:language>en-US</dc:language>
  <cp:lastModifiedBy>Odhong, Jonathan (IITA)</cp:lastModifiedBy>
  <cp:lastPrinted>2011-10-06T11:45:23Z</cp:lastPrinted>
  <dcterms:modified xsi:type="dcterms:W3CDTF">2016-07-03T13:33:22Z</dcterms:modified>
  <cp:revision>87</cp:revision>
  <dc:subject/>
  <dc:title>Slide 1</dc:title>
</cp:coreProperties>
</file>