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8.jpeg" ContentType="image/jpeg"/>
  <Override PartName="/ppt/media/image20.png" ContentType="image/png"/>
  <Override PartName="/ppt/media/image7.jpeg" ContentType="image/jpeg"/>
  <Override PartName="/ppt/media/image13.png" ContentType="image/png"/>
  <Override PartName="/ppt/media/image18.png" ContentType="image/png"/>
  <Override PartName="/ppt/media/image6.jpeg" ContentType="image/jpeg"/>
  <Override PartName="/ppt/media/image29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30.jpeg" ContentType="image/jpeg"/>
  <Override PartName="/ppt/media/image3.png" ContentType="image/png"/>
  <Override PartName="/ppt/media/image2.wmf" ContentType="image/x-wmf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77854-D7BE-4EE1-9BC5-BCA4E5CDDA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BAA2-EC74-49E8-9D41-7EAEDF0C6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B179-3D7A-4A04-A052-535957710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8CB3-10D2-4B18-A010-1E0DD3F4CB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1964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29800" y="243828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1964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29800" y="4428720"/>
            <a:ext cx="35330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07960" y="1447560"/>
            <a:ext cx="10972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320" y="442872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320" y="2438280"/>
            <a:ext cx="5354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4428720"/>
            <a:ext cx="10972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1224900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1" descr=""/>
          <p:cNvPicPr/>
          <p:nvPr/>
        </p:nvPicPr>
        <p:blipFill>
          <a:blip r:embed="rId1"/>
          <a:stretch/>
        </p:blipFill>
        <p:spPr>
          <a:xfrm>
            <a:off x="171360" y="5753160"/>
            <a:ext cx="3762360" cy="103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7458120" y="5554800"/>
            <a:ext cx="1736640" cy="1303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10093320" y="5700600"/>
            <a:ext cx="1143000" cy="960480"/>
          </a:xfrm>
          <a:prstGeom prst="rect">
            <a:avLst/>
          </a:prstGeom>
          <a:ln w="0">
            <a:noFill/>
          </a:ln>
        </p:spPr>
      </p:pic>
      <p:sp>
        <p:nvSpPr>
          <p:cNvPr id="49" name="Title 1"/>
          <p:cNvSpPr/>
          <p:nvPr/>
        </p:nvSpPr>
        <p:spPr>
          <a:xfrm>
            <a:off x="878040" y="2703600"/>
            <a:ext cx="971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ustainable Intensification of Maize-Legume Systems for the Eastern Province of Zambia-Africa RISING (SIMLEZA-AR) Project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4"/>
          <a:stretch/>
        </p:blipFill>
        <p:spPr>
          <a:xfrm>
            <a:off x="5218200" y="5867280"/>
            <a:ext cx="1038240" cy="99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Chart 3" descr=""/>
          <p:cNvPicPr/>
          <p:nvPr/>
        </p:nvPicPr>
        <p:blipFill>
          <a:blip r:embed="rId1"/>
          <a:stretch/>
        </p:blipFill>
        <p:spPr>
          <a:xfrm>
            <a:off x="433440" y="695160"/>
            <a:ext cx="10917360" cy="58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1480" y="74880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c00000"/>
                </a:solidFill>
                <a:latin typeface="Arial"/>
              </a:rPr>
              <a:t>Maize Productivity under different CA and CV manual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Content Placeholder 3" descr=""/>
          <p:cNvPicPr/>
          <p:nvPr/>
        </p:nvPicPr>
        <p:blipFill>
          <a:blip r:embed="rId1"/>
          <a:stretch/>
        </p:blipFill>
        <p:spPr>
          <a:xfrm>
            <a:off x="500040" y="4078440"/>
            <a:ext cx="4449960" cy="2438280"/>
          </a:xfrm>
          <a:prstGeom prst="rect">
            <a:avLst/>
          </a:prstGeom>
          <a:ln w="0">
            <a:noFill/>
          </a:ln>
        </p:spPr>
      </p:pic>
      <p:pic>
        <p:nvPicPr>
          <p:cNvPr id="82" name="Chart 4" descr=""/>
          <p:cNvPicPr/>
          <p:nvPr/>
        </p:nvPicPr>
        <p:blipFill>
          <a:blip r:embed="rId2"/>
          <a:stretch/>
        </p:blipFill>
        <p:spPr>
          <a:xfrm>
            <a:off x="5986440" y="1432080"/>
            <a:ext cx="4572000" cy="2401560"/>
          </a:xfrm>
          <a:prstGeom prst="rect">
            <a:avLst/>
          </a:prstGeom>
          <a:ln w="0">
            <a:noFill/>
          </a:ln>
        </p:spPr>
      </p:pic>
      <p:pic>
        <p:nvPicPr>
          <p:cNvPr id="83" name="Chart 5" descr=""/>
          <p:cNvPicPr/>
          <p:nvPr/>
        </p:nvPicPr>
        <p:blipFill>
          <a:blip r:embed="rId3"/>
          <a:stretch/>
        </p:blipFill>
        <p:spPr>
          <a:xfrm>
            <a:off x="195120" y="1432080"/>
            <a:ext cx="4681800" cy="2725560"/>
          </a:xfrm>
          <a:prstGeom prst="rect">
            <a:avLst/>
          </a:prstGeom>
          <a:ln w="0">
            <a:noFill/>
          </a:ln>
        </p:spPr>
      </p:pic>
      <p:pic>
        <p:nvPicPr>
          <p:cNvPr id="84" name="Chart 6" descr=""/>
          <p:cNvPicPr/>
          <p:nvPr/>
        </p:nvPicPr>
        <p:blipFill>
          <a:blip r:embed="rId4"/>
          <a:stretch/>
        </p:blipFill>
        <p:spPr>
          <a:xfrm>
            <a:off x="5986440" y="3919680"/>
            <a:ext cx="4718160" cy="251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0040" y="801360"/>
            <a:ext cx="11009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roductivity under different tillage practices (Mechanise syst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Content Placeholder 3" descr=""/>
          <p:cNvPicPr/>
          <p:nvPr/>
        </p:nvPicPr>
        <p:blipFill>
          <a:blip r:embed="rId1"/>
          <a:stretch/>
        </p:blipFill>
        <p:spPr>
          <a:xfrm>
            <a:off x="360360" y="1487520"/>
            <a:ext cx="3814920" cy="2835360"/>
          </a:xfrm>
          <a:prstGeom prst="rect">
            <a:avLst/>
          </a:prstGeom>
          <a:ln w="0">
            <a:noFill/>
          </a:ln>
        </p:spPr>
      </p:pic>
      <p:pic>
        <p:nvPicPr>
          <p:cNvPr id="87" name="Chart 4" descr=""/>
          <p:cNvPicPr/>
          <p:nvPr/>
        </p:nvPicPr>
        <p:blipFill>
          <a:blip r:embed="rId2"/>
          <a:stretch/>
        </p:blipFill>
        <p:spPr>
          <a:xfrm>
            <a:off x="6443640" y="1414440"/>
            <a:ext cx="45720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Chart 5" descr=""/>
          <p:cNvPicPr/>
          <p:nvPr/>
        </p:nvPicPr>
        <p:blipFill>
          <a:blip r:embed="rId3"/>
          <a:stretch/>
        </p:blipFill>
        <p:spPr>
          <a:xfrm>
            <a:off x="3005280" y="4157640"/>
            <a:ext cx="4273560" cy="25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5400" y="6132240"/>
            <a:ext cx="114872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Soybean Yields (2012-2015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1393920" y="808200"/>
            <a:ext cx="9293040" cy="553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5987880"/>
            <a:ext cx="118159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umulative Distributions of Maize-Soybean Rotation Benefits (2012-201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878040" y="303120"/>
            <a:ext cx="9467640" cy="581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2192120" cy="763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enefit Cost Ratios (Maize-Soybean Rotation)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Chart 5"/>
          <p:cNvGraphicFramePr/>
          <p:nvPr/>
        </p:nvGraphicFramePr>
        <p:xfrm>
          <a:off x="-50760" y="712800"/>
          <a:ext cx="12293640" cy="55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Char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712800"/>
                    <a:ext cx="1229364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Oval 3"/>
          <p:cNvSpPr/>
          <p:nvPr/>
        </p:nvSpPr>
        <p:spPr>
          <a:xfrm>
            <a:off x="4376880" y="984240"/>
            <a:ext cx="1547640" cy="15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 benefits are context specific (state contin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 technology benefits are most apparent in down-side risk mitiga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le 1"/>
          <p:cNvSpPr/>
          <p:nvPr/>
        </p:nvSpPr>
        <p:spPr>
          <a:xfrm>
            <a:off x="519120" y="1434960"/>
            <a:ext cx="11673000" cy="11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Adaption of SIMLEZA-AR technologies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519120" y="3227400"/>
            <a:ext cx="1108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ly weed management – Herbicide use, maintaining recommended mulching  levels,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ety choice ( Maize &amp; legume)  according to farmer circumstance,  seasonal quality and agro-ecological se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ing  CA principles  to farmer circum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oculation  &amp; rotation    of maize  and legumes to improve y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Environmental Impac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39960" y="2387160"/>
            <a:ext cx="1097280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&amp; water us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nutrient recycl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oil health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rbon sequencing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aflatoxin levels – through use of mulch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ative impact of herbicides  on the ecosystem </a:t>
            </a:r>
            <a:r>
              <a:rPr b="0" lang="en-ZW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tion of downside  risk </a:t>
            </a:r>
            <a:r>
              <a:rPr b="0" lang="en-ZW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ture Technolog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maize &amp; legume varieties  ( 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ed CA – Animal drawn Rip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al CA -  Dibble st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ybean ino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-legume rotations/ inter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d management strategies– herbicides and  soil 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le 1"/>
          <p:cNvSpPr/>
          <p:nvPr/>
        </p:nvSpPr>
        <p:spPr>
          <a:xfrm>
            <a:off x="776160" y="1401840"/>
            <a:ext cx="10972800" cy="42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Enhancing adoption &amp; adaptation of  GAPs (maize/legume crop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Soybean processing and product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Arial"/>
              </a:rPr>
              <a:t>Maize and legume variety diversification and enhancing seed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73800" y="655200"/>
            <a:ext cx="5037120" cy="5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Print &amp; Electronic med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Content Placeholder 2" descr=""/>
          <p:cNvPicPr/>
          <p:nvPr/>
        </p:nvPicPr>
        <p:blipFill>
          <a:blip r:embed="rId1"/>
          <a:stretch/>
        </p:blipFill>
        <p:spPr>
          <a:xfrm>
            <a:off x="7378560" y="1515960"/>
            <a:ext cx="4691160" cy="3517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7237440" y="501156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4722840" y="1238400"/>
            <a:ext cx="2655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s of Zambia &amp; The Post newspapers (article published on 7 February 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dio Breeze from Chip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tional Television of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41400" y="1387440"/>
            <a:ext cx="4721040" cy="35416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7"/>
          <p:cNvSpPr/>
          <p:nvPr/>
        </p:nvSpPr>
        <p:spPr>
          <a:xfrm>
            <a:off x="-47520" y="4881600"/>
            <a:ext cx="503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, TV &amp; Newspaper journalists intervie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rict Agricultural Co-ordin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-47520" y="5934240"/>
            <a:ext cx="1051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400" spc="-1" strike="noStrike">
                <a:solidFill>
                  <a:srgbClr val="000000"/>
                </a:solidFill>
                <a:latin typeface="Arial"/>
                <a:ea typeface="Arial"/>
              </a:rPr>
              <a:t>Kuphindula ndi TLC radio program with Radio Bree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7960" y="1079640"/>
            <a:ext cx="109728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mbria"/>
              </a:rPr>
              <a:t>Scaling out cont.…...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07960" y="1955880"/>
            <a:ext cx="10972800" cy="42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d partnerships – with public extension  system and N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extension agents, healthy workers, technicians &amp; lead far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Msc &amp; 1 PhD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nds on training on use of mechanised CA equipment (rippers, direct seeders, jab plan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 use of herbici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publications   in peer reviewed journa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2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ong extension services to improve adoption &amp; promote sustainable intensification practices  required (maize-legume intercropping,  maize-legume rotation, inoculation of legume seeds etc)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understanding of adoption &amp; dis-adoption  dynamics of sustainable intensification practices/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eed for alternative  cover crops   in area where livestock is an important component of livelihood strategies (reduce crop-livestock compet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time and budget allocation on document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46240" y="3281040"/>
            <a:ext cx="117093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iko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Good Agricultural Practices (GAP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09480" y="2438280"/>
            <a:ext cx="109728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Timely planting &amp; wee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Inoculation of legumes ( soybe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Crop rotation/ associations (intercropp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Soil cover ( mulch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Application of recommended fertilis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2000" spc="-1" strike="noStrike">
                <a:solidFill>
                  <a:srgbClr val="000000"/>
                </a:solidFill>
                <a:latin typeface="Arial"/>
              </a:rPr>
              <a:t>Pest and disease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4600" y="1009440"/>
            <a:ext cx="85136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Field visits in February 2015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6773760" y="6000840"/>
            <a:ext cx="498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6678720" y="2265480"/>
            <a:ext cx="4979880" cy="3735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2"/>
          <a:stretch/>
        </p:blipFill>
        <p:spPr>
          <a:xfrm>
            <a:off x="534960" y="2265480"/>
            <a:ext cx="4622760" cy="346716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534960" y="5732640"/>
            <a:ext cx="497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n site discussions with host farmers &amp; neighbors in each c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"/>
          <p:cNvPicPr/>
          <p:nvPr/>
        </p:nvPicPr>
        <p:blipFill>
          <a:blip r:embed="rId3"/>
          <a:stretch/>
        </p:blipFill>
        <p:spPr>
          <a:xfrm>
            <a:off x="4334040" y="2784600"/>
            <a:ext cx="3170160" cy="23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5320" y="1318680"/>
            <a:ext cx="520056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  <a:ea typeface="Times New Roman"/>
              </a:rPr>
              <a:t>Baby CA demonst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" y="5049720"/>
            <a:ext cx="357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4 drought tolerant maize varieties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95400" y="2190600"/>
            <a:ext cx="3849480" cy="288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406080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4019400" y="5076720"/>
            <a:ext cx="38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ze &amp; cowpea rotation under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"/>
          <p:cNvPicPr/>
          <p:nvPr/>
        </p:nvPicPr>
        <p:blipFill>
          <a:blip r:embed="rId3"/>
          <a:stretch/>
        </p:blipFill>
        <p:spPr>
          <a:xfrm>
            <a:off x="8097840" y="2190600"/>
            <a:ext cx="3848040" cy="28861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1"/>
          <p:cNvSpPr/>
          <p:nvPr/>
        </p:nvSpPr>
        <p:spPr>
          <a:xfrm>
            <a:off x="8097840" y="5049720"/>
            <a:ext cx="384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ed control using herbicides in 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4189320" y="1187280"/>
            <a:ext cx="7961400" cy="5349960"/>
          </a:xfrm>
          <a:prstGeom prst="rect">
            <a:avLst/>
          </a:prstGeom>
          <a:ln w="25560">
            <a:solidFill>
              <a:srgbClr val="bbe0e3"/>
            </a:solidFill>
            <a:miter/>
          </a:ln>
        </p:spPr>
      </p:pic>
      <p:sp>
        <p:nvSpPr>
          <p:cNvPr id="68" name="TextBox 4"/>
          <p:cNvSpPr/>
          <p:nvPr/>
        </p:nvSpPr>
        <p:spPr>
          <a:xfrm>
            <a:off x="0" y="1405080"/>
            <a:ext cx="3860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27 farmers hosted ‘’Baby CA’’ demonstration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 farmers hosted ‘’Mother CA’’ trials across 7 c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4196160" y="6488280"/>
            <a:ext cx="76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Baby CA demonstrations in each agricultural camp (2014/15 seas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2240" y="1462320"/>
            <a:ext cx="109728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00000"/>
              </a:solidFill>
              <a:latin typeface="Arial"/>
              <a:ea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91880" y="2333520"/>
            <a:ext cx="11653560" cy="43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hart 3" descr=""/>
          <p:cNvPicPr/>
          <p:nvPr/>
        </p:nvPicPr>
        <p:blipFill>
          <a:blip r:embed="rId1"/>
          <a:stretch/>
        </p:blipFill>
        <p:spPr>
          <a:xfrm>
            <a:off x="1060560" y="353880"/>
            <a:ext cx="9412200" cy="607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609480" y="798480"/>
            <a:ext cx="852192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7960" y="1447560"/>
            <a:ext cx="10972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10972800" cy="3810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9480" y="1209600"/>
            <a:ext cx="8952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12:39:41Z</dcterms:created>
  <dc:creator>Setegn Gebeyehu</dc:creator>
  <dc:description/>
  <dc:language>en-US</dc:language>
  <cp:lastModifiedBy>Mutenje M</cp:lastModifiedBy>
  <dcterms:modified xsi:type="dcterms:W3CDTF">2015-07-15T09:00:30Z</dcterms:modified>
  <cp:revision>127</cp:revision>
  <dc:subject/>
  <dc:title>PowerPoint Presentation</dc:title>
</cp:coreProperties>
</file>