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30.jpeg" ContentType="image/jpeg"/>
  <Override PartName="/ppt/media/image3.png" ContentType="image/png"/>
  <Override PartName="/ppt/media/image2.wmf" ContentType="image/x-wmf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E818-E3D9-4001-B92E-AE339B615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7EF0-0A2A-49CC-9D2A-F29F8B958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AEDD-EC09-41BB-9D75-A9D5CB78D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970F-5D35-4BD4-9080-33C1ABB7E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1447560"/>
            <a:ext cx="10972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1224900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171360" y="5753160"/>
            <a:ext cx="3762360" cy="103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458120" y="5554800"/>
            <a:ext cx="173664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0093320" y="570060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878040" y="2703600"/>
            <a:ext cx="971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ustainable Intensification of Maize-Legume Systems for the Eastern Province of Zambia-Africa RISING (SIMLEZA-AR) Projec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5218200" y="5867280"/>
            <a:ext cx="1038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433440" y="695160"/>
            <a:ext cx="10917360" cy="58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1480" y="74880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c00000"/>
                </a:solidFill>
                <a:latin typeface="Arial"/>
              </a:rPr>
              <a:t>Maize Productivity under different CA and CV manual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3" descr=""/>
          <p:cNvPicPr/>
          <p:nvPr/>
        </p:nvPicPr>
        <p:blipFill>
          <a:blip r:embed="rId1"/>
          <a:stretch/>
        </p:blipFill>
        <p:spPr>
          <a:xfrm>
            <a:off x="500040" y="4078440"/>
            <a:ext cx="4449960" cy="2438280"/>
          </a:xfrm>
          <a:prstGeom prst="rect">
            <a:avLst/>
          </a:prstGeom>
          <a:ln w="0">
            <a:noFill/>
          </a:ln>
        </p:spPr>
      </p:pic>
      <p:pic>
        <p:nvPicPr>
          <p:cNvPr id="82" name="Chart 4" descr=""/>
          <p:cNvPicPr/>
          <p:nvPr/>
        </p:nvPicPr>
        <p:blipFill>
          <a:blip r:embed="rId2"/>
          <a:stretch/>
        </p:blipFill>
        <p:spPr>
          <a:xfrm>
            <a:off x="5986440" y="1432080"/>
            <a:ext cx="4572000" cy="2401560"/>
          </a:xfrm>
          <a:prstGeom prst="rect">
            <a:avLst/>
          </a:prstGeom>
          <a:ln w="0">
            <a:noFill/>
          </a:ln>
        </p:spPr>
      </p:pic>
      <p:pic>
        <p:nvPicPr>
          <p:cNvPr id="83" name="Chart 5" descr=""/>
          <p:cNvPicPr/>
          <p:nvPr/>
        </p:nvPicPr>
        <p:blipFill>
          <a:blip r:embed="rId3"/>
          <a:stretch/>
        </p:blipFill>
        <p:spPr>
          <a:xfrm>
            <a:off x="195120" y="1432080"/>
            <a:ext cx="4681800" cy="2725560"/>
          </a:xfrm>
          <a:prstGeom prst="rect">
            <a:avLst/>
          </a:prstGeom>
          <a:ln w="0">
            <a:noFill/>
          </a:ln>
        </p:spPr>
      </p:pic>
      <p:pic>
        <p:nvPicPr>
          <p:cNvPr id="84" name="Chart 6" descr=""/>
          <p:cNvPicPr/>
          <p:nvPr/>
        </p:nvPicPr>
        <p:blipFill>
          <a:blip r:embed="rId4"/>
          <a:stretch/>
        </p:blipFill>
        <p:spPr>
          <a:xfrm>
            <a:off x="5986440" y="3919680"/>
            <a:ext cx="471816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0040" y="801360"/>
            <a:ext cx="11009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roductivity under different tillage practices (Mechanise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360360" y="1487520"/>
            <a:ext cx="3814920" cy="28353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6443640" y="14144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Chart 5" descr=""/>
          <p:cNvPicPr/>
          <p:nvPr/>
        </p:nvPicPr>
        <p:blipFill>
          <a:blip r:embed="rId3"/>
          <a:stretch/>
        </p:blipFill>
        <p:spPr>
          <a:xfrm>
            <a:off x="3005280" y="4157640"/>
            <a:ext cx="427356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400" y="6132240"/>
            <a:ext cx="114872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Soybean Yields (2012-2015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393920" y="808200"/>
            <a:ext cx="92930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5987880"/>
            <a:ext cx="118159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Maize-Soybean Rotation Benefits (2012-201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878040" y="303120"/>
            <a:ext cx="946764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t Cost Ratios (Maize-Soybean Rotation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Chart 5"/>
          <p:cNvGraphicFramePr/>
          <p:nvPr/>
        </p:nvGraphicFramePr>
        <p:xfrm>
          <a:off x="-50760" y="712800"/>
          <a:ext cx="1229364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712800"/>
                    <a:ext cx="12293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Oval 3"/>
          <p:cNvSpPr/>
          <p:nvPr/>
        </p:nvSpPr>
        <p:spPr>
          <a:xfrm>
            <a:off x="4376880" y="984240"/>
            <a:ext cx="1547640" cy="15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 benefits are context specific (state cont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benefits are most apparent in down-side risk mitig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1"/>
          <p:cNvSpPr/>
          <p:nvPr/>
        </p:nvSpPr>
        <p:spPr>
          <a:xfrm>
            <a:off x="519120" y="1434960"/>
            <a:ext cx="11673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Adaption of SIMLEZA-AR technologies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519120" y="3227400"/>
            <a:ext cx="1108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y weed management – Herbicide use, maintaining recommended mulching  levels,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choice ( Maize &amp; legume)  according to farmer circumstance,  seasonal quality and agro-ecological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 CA principles 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 &amp; rotation    of maize  and legumes to improve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Environmental Imp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39960" y="2387160"/>
            <a:ext cx="109728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&amp; water us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nutrient recyc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health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sequencing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aflatoxin levels – through use of mulch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 impact of herbicides  on the ecosystem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downside  risk </a:t>
            </a:r>
            <a:r>
              <a:rPr b="0" lang="en-ZW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ture Techn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maize &amp; legume varieties  ( 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ed CA – Animal drawn Ri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CA -  Dibble st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ybean ino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-legume rotations/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d management strategies– herbicides and  soil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776160" y="1401840"/>
            <a:ext cx="109728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Enhancing adoption &amp; adaptation of  GAPs (maize/legume cro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Soybean processing and produc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Maize and legume variety diversification and enhancing seed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73800" y="655200"/>
            <a:ext cx="5037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Print &amp; Electronic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2" descr=""/>
          <p:cNvPicPr/>
          <p:nvPr/>
        </p:nvPicPr>
        <p:blipFill>
          <a:blip r:embed="rId1"/>
          <a:stretch/>
        </p:blipFill>
        <p:spPr>
          <a:xfrm>
            <a:off x="7378560" y="1515960"/>
            <a:ext cx="4691160" cy="35179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7237440" y="501156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722840" y="1238400"/>
            <a:ext cx="265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of Zambia &amp; The Post newspapers (article published on 7 February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Breeze from Chip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Television of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1400" y="1387440"/>
            <a:ext cx="4721040" cy="35416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-47520" y="48816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Agricultural Co-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-47520" y="5934240"/>
            <a:ext cx="10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  <a:ea typeface="Arial"/>
              </a:rPr>
              <a:t>Kuphindula ndi TLC radio program with Radio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960" y="1079640"/>
            <a:ext cx="10972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caling out cont.…...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960" y="1955880"/>
            <a:ext cx="109728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partnerships – with public extension  system and NG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of extension agents, healthy workers, technicians &amp; lead 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sc &amp; 1 PhD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s on training on use of mechanised CA equipment (rippers, direct seeders, jab plan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use of herbic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publications   in peer reviewed journ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extension services to improve adoption &amp; promote sustainable intensification practices  required (maize-legume intercropping,  maize-legume rotation, inoculation of legume seeds etc)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understanding of adoption &amp; dis-adoption  dynamics of sustainable intensification practices/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ed for alternative  cover crops   in area where livestock is an important component of livelihood strategies (reduce crop-livestock compet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time and budget allocation on document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46240" y="3281040"/>
            <a:ext cx="11709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k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Good Agricultural Practices (GA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Timely planting &amp; w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Inoculation of legumes ( soyb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Crop rotation/ associations (intercro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Soil cover ( mulc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Application of recommended fertiliser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Pest and diseas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1009440"/>
            <a:ext cx="85136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Field visits in February 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773760" y="6000840"/>
            <a:ext cx="49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678720" y="22654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534960" y="2265480"/>
            <a:ext cx="4622760" cy="3467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534960" y="57326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4334040" y="278460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35320" y="1318680"/>
            <a:ext cx="520056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Baby CA demonst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22400" y="50497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drought tolerant maize varieties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95400" y="2190600"/>
            <a:ext cx="3849480" cy="2886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06080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4019400" y="507672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ze &amp; cowpea rotation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809784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1"/>
          <p:cNvSpPr/>
          <p:nvPr/>
        </p:nvSpPr>
        <p:spPr>
          <a:xfrm>
            <a:off x="8097840" y="5049720"/>
            <a:ext cx="38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d control using herbicides 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89320" y="1187280"/>
            <a:ext cx="7961400" cy="534996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68" name="TextBox 4"/>
          <p:cNvSpPr/>
          <p:nvPr/>
        </p:nvSpPr>
        <p:spPr>
          <a:xfrm>
            <a:off x="0" y="1405080"/>
            <a:ext cx="386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7 farmers hosted ‘’Baby CA’’ demonstration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farmers hosted ‘’Mother CA’’ trial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196160" y="6488280"/>
            <a:ext cx="76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aby CA demonstrations in each agricultural camp (2014/15 s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2240" y="1462320"/>
            <a:ext cx="10972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1880" y="2333520"/>
            <a:ext cx="1165356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hart 3" descr=""/>
          <p:cNvPicPr/>
          <p:nvPr/>
        </p:nvPicPr>
        <p:blipFill>
          <a:blip r:embed="rId1"/>
          <a:stretch/>
        </p:blipFill>
        <p:spPr>
          <a:xfrm>
            <a:off x="1060560" y="353880"/>
            <a:ext cx="9412200" cy="60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09480" y="798480"/>
            <a:ext cx="8521920" cy="58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09480" y="1209600"/>
            <a:ext cx="8952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2:39:41Z</dcterms:created>
  <dc:creator>Setegn Gebeyehu</dc:creator>
  <dc:description/>
  <dc:language>en-US</dc:language>
  <cp:lastModifiedBy>Mutenje M</cp:lastModifiedBy>
  <dcterms:modified xsi:type="dcterms:W3CDTF">2015-07-15T09:00:30Z</dcterms:modified>
  <cp:revision>127</cp:revision>
  <dc:subject/>
  <dc:title>PowerPoint Presentation</dc:title>
</cp:coreProperties>
</file>