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FE2F-7543-475D-A7DC-548D8A175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783-7FC1-439A-A94D-AFDFDD3EA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441-3AEE-4652-AA27-CC084570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FA45-56AA-47B6-AFEA-CB0BC66F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A9C9-799C-4D54-90F3-87A7BDB8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E800-4E7A-4009-899B-01328882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298E-3D4D-4484-ADAB-CFEF53C54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A2F5-3A78-44A8-9408-25A94963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8015-5E97-4DD7-975A-FBC621EB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201B-8DC5-4C47-A0BB-7F0A845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BB40-A6B4-40E2-A66F-FCB0779D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67C2-71B5-4149-AC6A-77BF3B52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C0BE-A00E-48C6-AB4F-897B39A4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3DB2-89DE-442F-8274-947E5551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2A1D-979E-4D61-BD3D-88C42A99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2671C-886C-42E4-AF96-77D631CC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6758-9F90-40F5-AF15-354C12585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F6870-1C61-476F-A320-EA3D15816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0F1D7-4FB1-4A69-B66E-ABEF849CD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DA30-A607-415B-A67F-6E7DE1F4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9907B-D325-4076-AC96-291F55118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1F25E-FAEC-42B8-817C-DDB9DC1C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DE47-3D8A-45FA-9581-9A53A465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7DE2-9333-48D1-B38C-924400E6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4A463-6F4F-4386-AA7E-5EEDDA52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8EA32-1CE1-4DC5-886D-FE5B3FBD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B540-DE44-4B98-9932-957580B1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47789-AB4D-401E-AEB3-86C50F2B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929C4-3FB0-4B6B-A491-769A7B0C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A4CD-E61F-4CBD-B507-420CE493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D898C-EC34-4196-8C1E-7152D4F5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C121C-B3E1-48CC-B338-3B4E9248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8E3F0-337F-419D-8283-3E9B0BBD1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073A-26D6-46B7-89DA-6C62579A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D79C-63D7-4603-A86E-98EB371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AE5A5-8DAA-4D3E-93D0-47913923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FE38B-7DBC-4B08-A8D8-688C8DAB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C0663-9098-48A3-9EA5-6A562DE8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AA1B4-408B-499B-9D55-AA2A9521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13BBD-D61E-40AA-9287-638D9649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CB2E9-6806-473E-94BA-A5E4EC4D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CD70F-C4BA-41DB-B634-1C458A7F6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3215A-0ED0-4C78-9BCE-F66E576D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256-A60E-475F-B809-2A076410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BE16-03DB-409C-94DF-76D4DC85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0D63-2A56-4CF4-B365-D4C0866B7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233-CBA1-43AF-AD19-22759B41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A05-74AB-4870-B37B-8850A9C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31C3-2316-428A-85E7-69978B5CE6C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375-4C7C-4927-B6C7-39CBADA2529D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7BC6-8C2C-44D6-B9F6-E21CFCAAA0F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DE18-8C39-4C8F-9879-C3687C66CEEA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219240" y="2816280"/>
            <a:ext cx="8626320" cy="2120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Zambia_crest"/>
          <p:cNvPicPr/>
          <p:nvPr/>
        </p:nvPicPr>
        <p:blipFill>
          <a:blip r:embed="rId2"/>
          <a:stretch/>
        </p:blipFill>
        <p:spPr>
          <a:xfrm>
            <a:off x="3886200" y="533520"/>
            <a:ext cx="1316160" cy="15271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1143000" y="56386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Michael Ngulube, DACO, Chip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r. Stalin Sichinga, ARO, Z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6840" y="19047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pre released varieties of the cowpeas are high yielding but not preferred by farmer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 of dibble stick required more labour. Farmers preferred using a ripper for 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ordination between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ommunication between implementers and other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Arial"/>
                <a:ea typeface="Arial"/>
              </a:rPr>
              <a:t>Calendar of events not properly followed (short notice of important meeting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farmers are not able to read and write and therefore miss out on dat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500" spc="-1" strike="noStrike">
                <a:solidFill>
                  <a:srgbClr val="04617b"/>
                </a:solidFill>
                <a:latin typeface="Arial"/>
                <a:ea typeface="Arial"/>
              </a:rPr>
              <a:t>Possible solutions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28240" y="12952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oper planning in early October for all the fiel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esign of a calendar of events and activ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Discussion on best ways on flow of funds (CIMMYT and IITA manage one project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ollow up needs to improve (both organizations hired research assistant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1"/>
          <a:stretch/>
        </p:blipFill>
        <p:spPr>
          <a:xfrm>
            <a:off x="5100480" y="2048040"/>
            <a:ext cx="3133800" cy="41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225" name="Title 4"/>
          <p:cNvSpPr/>
          <p:nvPr/>
        </p:nvSpPr>
        <p:spPr>
          <a:xfrm>
            <a:off x="1676520" y="2819520"/>
            <a:ext cx="6476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Lucida Sans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ambia has an area of 750,000 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about 13 million people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90,000 km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land is arable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Only 14% is cropped in any ye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bout 55 - 60% of the land area is covered by natural for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6% of Zambia’s land surface is covered by wate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12800" y="5784840"/>
            <a:ext cx="7827840" cy="1079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regions"/>
          <p:cNvPicPr/>
          <p:nvPr/>
        </p:nvPicPr>
        <p:blipFill>
          <a:blip r:embed="rId2"/>
          <a:srcRect l="3146" t="4460" r="2649" b="5398"/>
          <a:stretch/>
        </p:blipFill>
        <p:spPr>
          <a:xfrm>
            <a:off x="914400" y="838080"/>
            <a:ext cx="731520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Calibri"/>
              </a:rPr>
              <a:t>INTRODUCTION cont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cial wellbeing and economic development in Zambia is strongly linked with productivity growth in agriculture and sustainable management of farming system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ize is the main staple food crop grown widely in the country and critical for ensuring food security for the poo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847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Constraints in Zambian Farming Systems</a:t>
            </a:r>
            <a:br>
              <a:rPr sz="43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23920" y="1219320"/>
            <a:ext cx="3962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17b"/>
              </a:solidFill>
              <a:latin typeface="Constanti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28600" y="1752480"/>
            <a:ext cx="426888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gative effects of climate chan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il degradatio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availability of improved varie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ysfunctional input-output marke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ts and dis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Limited draft power and farm imple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0" y="365760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10" descr=""/>
          <p:cNvPicPr/>
          <p:nvPr/>
        </p:nvPicPr>
        <p:blipFill>
          <a:blip r:embed="rId1"/>
          <a:srcRect l="0" t="12402" r="0" b="8858"/>
          <a:stretch/>
        </p:blipFill>
        <p:spPr>
          <a:xfrm>
            <a:off x="4724280" y="1219320"/>
            <a:ext cx="4038840" cy="229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9" name="Picture 4" descr="August 23, 2003 (23)"/>
          <p:cNvPicPr/>
          <p:nvPr/>
        </p:nvPicPr>
        <p:blipFill>
          <a:blip r:embed="rId2"/>
          <a:stretch/>
        </p:blipFill>
        <p:spPr>
          <a:xfrm>
            <a:off x="4572000" y="3657600"/>
            <a:ext cx="4191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0520" y="456840"/>
            <a:ext cx="84582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o address some constraints in Zambian farming systems, Feed the Future through IITA, is implementing Sustainable Intensification of Maize-Legume Systems for the Eastern Province of Zambia (SIMLEZA) which focu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46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To address some constraints in Zambian farming systems, Feed the Future through IITA, is implementing</a:t>
            </a:r>
            <a:r>
              <a:rPr b="0" lang="en-US" sz="27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 Unicode MS"/>
              </a:rPr>
              <a:t>Sustainable Intensification of Maize-Legume Systems for the Eastern Province of Zambia</a:t>
            </a:r>
            <a:r>
              <a:rPr b="0" lang="en-US" sz="2700" spc="-1" strike="noStrike">
                <a:solidFill>
                  <a:srgbClr val="04617b"/>
                </a:solidFill>
                <a:latin typeface="Arial"/>
                <a:ea typeface="Arial"/>
              </a:rPr>
              <a:t> (SIMLEZA) which focuses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28600" y="2895480"/>
            <a:ext cx="464832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ductiv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 Maize-legume systems agronomy and breeding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Nutrition focus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Soya processing and utilization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 of national agricultural research systems</a:t>
            </a:r>
            <a:r>
              <a:rPr b="1" lang="en-US" sz="22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C:\Users\Daniel\Desktop\pics 19 feb\IMG_1878.JPG"/>
          <p:cNvPicPr/>
          <p:nvPr/>
        </p:nvPicPr>
        <p:blipFill>
          <a:blip r:embed="rId1"/>
          <a:stretch/>
        </p:blipFill>
        <p:spPr>
          <a:xfrm>
            <a:off x="4648320" y="2790720"/>
            <a:ext cx="4038480" cy="26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SIMLEZA Project Sit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farm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ipata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hanje and Chiparamba camp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tete District: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Kafumbwe and Kawalala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undazi District: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Hoya and Vuu cam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-station activ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6760" indent="-26676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0bd0d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Msekera, GART, Kabwe, Misamfu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5" descr="Eastern_Zambia_districts (2)"/>
          <p:cNvPicPr/>
          <p:nvPr/>
        </p:nvPicPr>
        <p:blipFill>
          <a:blip r:embed="rId1"/>
          <a:srcRect l="711" t="0" r="711" b="0"/>
          <a:stretch/>
        </p:blipFill>
        <p:spPr>
          <a:xfrm>
            <a:off x="4572000" y="2133720"/>
            <a:ext cx="403848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  <a:ea typeface="Arial"/>
              </a:rPr>
              <a:t>Challeng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legumes selected are at the bottom of the farmers’ priority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community is uncertain of the market for the seed to be multiplied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are not aware of the market (outlet) for the produc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rmers largely use the cowpeas leaves as vegetables and not the grain. There is therefore for a market for the gra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ipment for processing is rare and the current one for groundnut processing demands a lot of energ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30T19:42:22Z</dcterms:created>
  <dc:creator>HP</dc:creator>
  <dc:description/>
  <dc:language>en-US</dc:language>
  <cp:lastModifiedBy>HP</cp:lastModifiedBy>
  <dcterms:modified xsi:type="dcterms:W3CDTF">2012-10-01T19:42:37Z</dcterms:modified>
  <cp:revision>33</cp:revision>
  <dc:subject/>
  <dc:title>ZAMBIA</dc:title>
</cp:coreProperties>
</file>