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CF14-E046-42AC-8EB0-9D608BDFB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42E9-E2E7-4D17-8291-E4B32CE8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3BCE-6D21-4C2B-A087-80C03C157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863C-CA58-4D99-86EC-112F68E07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F147-C68F-4763-9266-FDA8B4374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C4B6-E088-42C3-A831-A750921E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6D8E-9B4B-47B6-95BA-B0EC4EAA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413C-D0B4-4CEF-AE81-36DE80AB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97C6-372C-4129-89C2-B261B3BB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084D-6A3E-42A2-A33A-6099E87E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02E0-CEA8-4E58-BEA1-226D476A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0EFA-02A5-4E0F-BC52-A72A97E3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0B34-4DFF-4028-8BAA-66834818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AD6E-7C43-4A65-96DE-471B5594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801D-8FE4-4327-85AD-5DAF5BE0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A983-F3E1-433F-AEF1-145A83388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BAB2-9784-47A6-8D2E-A4EE13ECA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DE2F9-F43E-43A8-BED2-3C10B60F3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5D230-E3EC-4BE4-AB85-B3023FD9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F3D44-5F75-442E-8F4B-8B3CB8F5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3C8AA-2DBA-419A-996A-65311CDD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36649-DB42-4222-B46F-5D6A918A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ADDE-A928-479A-9ABE-4BC7835B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07714-0BD2-4432-B35F-87367B33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2FA25-9F2A-4A32-91F8-F9287AFC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B6C3F-74E2-4048-B16D-2CB2B6BB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2A42E-000F-49E1-8123-0DEEFF86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1B006-E674-4523-B95E-88384252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A9594-2195-49A6-9E92-2DFB5A111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A93C2-9ADC-4E92-948F-98362EE32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09E0B-7B1F-4593-9FA8-A7E267B39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7F63A-6067-4515-9546-1D3D7AE6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0A6E9-4A58-4863-A32C-A79E40FC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04BB-01DB-46BE-B091-5639D762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AC9E0-F420-4445-84E6-B453F218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CF157-30B9-45B0-9446-0AA2CDB5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0E3C6-81A8-4EF8-B2AF-52BC8AA2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B7876-2986-4388-BFB1-D9702329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73A25-4B4A-4FA7-9273-133FC5B2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CAB7C-C37D-40B9-9EA3-97531FA7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2BEB8-E3B1-4DC7-8C4C-3E337593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D5CF5-CC57-4874-B847-FE98AC6CD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27859-4436-4425-9422-34288B867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AF2B-CC92-4B4A-BDEB-DAA1F60C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186F-0715-4382-91E4-A6301B4D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C470-8902-4C24-9301-BA579EA8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46F6-1C3E-4F7C-83DE-FCFE0965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0359-1AD3-49E4-B666-0CC9A315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25E2-851C-42B5-9834-92CD12046BB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6012-C54E-4CA2-9D51-5E5CB288F56B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3B9E-EFD7-4EAA-A811-58F9C4556C5E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5306-01A3-451C-A8E6-C88C99BC6FF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219240" y="2816280"/>
            <a:ext cx="8626320" cy="2120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Zambia_crest"/>
          <p:cNvPicPr/>
          <p:nvPr/>
        </p:nvPicPr>
        <p:blipFill>
          <a:blip r:embed="rId2"/>
          <a:stretch/>
        </p:blipFill>
        <p:spPr>
          <a:xfrm>
            <a:off x="3886200" y="533520"/>
            <a:ext cx="1316160" cy="1527120"/>
          </a:xfrm>
          <a:prstGeom prst="rect">
            <a:avLst/>
          </a:prstGeom>
          <a:ln w="0">
            <a:noFill/>
          </a:ln>
        </p:spPr>
      </p:pic>
      <p:sp>
        <p:nvSpPr>
          <p:cNvPr id="197" name="TextBox 3"/>
          <p:cNvSpPr/>
          <p:nvPr/>
        </p:nvSpPr>
        <p:spPr>
          <a:xfrm>
            <a:off x="1143000" y="56386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. Michael Ngulube, DACO, Chip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. Stalin Sichinga, ARO, Z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Arial"/>
                <a:ea typeface="Arial"/>
              </a:rPr>
              <a:t>Challenges cont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6840" y="1904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pre released varieties of the cowpeas are high yielding but not preferred by farmer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of dibble stick required more labour. Farmers preferred using a ripper for C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  <a:ea typeface="Arial"/>
              </a:rPr>
              <a:t>Coordination between partn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  <a:ea typeface="Arial"/>
              </a:rPr>
              <a:t>Communication between implementers and other stakehold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  <a:ea typeface="Arial"/>
              </a:rPr>
              <a:t>Calendar of events not properly followed (short notice of important meeting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farmers are not able to read and write and therefore miss out on dat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04617b"/>
                </a:solidFill>
                <a:latin typeface="Arial"/>
                <a:ea typeface="Arial"/>
              </a:rPr>
              <a:t>Possible solutions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28240" y="1295280"/>
            <a:ext cx="4800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oper planning in early October for all the field activ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sign of a calendar of events and activ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iscussion on best ways on flow of funds (CIMMYT and IITA manage one projec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llow up needs to improve (both organizations hired research assistant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5" descr=""/>
          <p:cNvPicPr/>
          <p:nvPr/>
        </p:nvPicPr>
        <p:blipFill>
          <a:blip r:embed="rId1"/>
          <a:stretch/>
        </p:blipFill>
        <p:spPr>
          <a:xfrm>
            <a:off x="5100480" y="2048040"/>
            <a:ext cx="3133800" cy="41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Title 4"/>
          <p:cNvSpPr/>
          <p:nvPr/>
        </p:nvSpPr>
        <p:spPr>
          <a:xfrm>
            <a:off x="1676520" y="2819520"/>
            <a:ext cx="6476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Lucida Sans"/>
              </a:rPr>
              <a:t>Thank you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INTROD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ambia has an area of 750,000 k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ith about 13 million peopl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90,000 k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land is arabl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nly 14% is cropped in any year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bout 55 - 60% of the land area is covered by natural fore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6% of Zambia’s land surface is covered by wat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Title 1" descr=""/>
          <p:cNvPicPr/>
          <p:nvPr/>
        </p:nvPicPr>
        <p:blipFill>
          <a:blip r:embed="rId1"/>
          <a:stretch/>
        </p:blipFill>
        <p:spPr>
          <a:xfrm>
            <a:off x="712800" y="5784840"/>
            <a:ext cx="7827840" cy="1079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" descr="regions"/>
          <p:cNvPicPr/>
          <p:nvPr/>
        </p:nvPicPr>
        <p:blipFill>
          <a:blip r:embed="rId2"/>
          <a:srcRect l="3146" t="4460" r="2649" b="5398"/>
          <a:stretch/>
        </p:blipFill>
        <p:spPr>
          <a:xfrm>
            <a:off x="914400" y="838080"/>
            <a:ext cx="731520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INTRODUCTION cont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cial wellbeing and economic development in Zambia is strongly linked with productivity growth in agriculture and sustainable management of farming system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ize is the main staple food crop grown widely in the country and critical for ensuring food security for the poo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53452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Arial"/>
              </a:rPr>
              <a:t>Constraints in Zambian Farming Systems</a:t>
            </a:r>
            <a:br>
              <a:rPr sz="43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723920" y="1219320"/>
            <a:ext cx="3962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28600" y="1752480"/>
            <a:ext cx="4268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gative effects of climate chan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il degradati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availability of improved varie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ysfunctional input-output marke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sts and disea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Limited draft power and farm imple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0" y="365760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10" descr=""/>
          <p:cNvPicPr/>
          <p:nvPr/>
        </p:nvPicPr>
        <p:blipFill>
          <a:blip r:embed="rId1"/>
          <a:srcRect l="0" t="12402" r="0" b="8858"/>
          <a:stretch/>
        </p:blipFill>
        <p:spPr>
          <a:xfrm>
            <a:off x="4724280" y="1219320"/>
            <a:ext cx="4038840" cy="229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9" name="Picture 4" descr="August 23, 2003 (23)"/>
          <p:cNvPicPr/>
          <p:nvPr/>
        </p:nvPicPr>
        <p:blipFill>
          <a:blip r:embed="rId2"/>
          <a:stretch/>
        </p:blipFill>
        <p:spPr>
          <a:xfrm>
            <a:off x="4572000" y="3657600"/>
            <a:ext cx="41911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0520" y="456840"/>
            <a:ext cx="84582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o address some constraints in Zambian farming systems, Feed the Future through IITA, is implementing Sustainable Intensification of Maize-Legume Systems for the Eastern Province of Zambia (SIMLEZA) which focus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:  Maize-legume systems agronomy and breed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utrition focus: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oya processing and utilizatio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apacity building of national agricultural research systems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4617b"/>
                </a:solidFill>
                <a:latin typeface="Arial"/>
                <a:ea typeface="Arial"/>
              </a:rPr>
              <a:t>To address some constraints in Zambian farming systems, Feed the Future through IITA, is implementing</a:t>
            </a:r>
            <a:r>
              <a:rPr b="0" lang="en-US" sz="2700" spc="-1" strike="noStrike">
                <a:solidFill>
                  <a:srgbClr val="002060"/>
                </a:solidFill>
                <a:latin typeface="Arial"/>
                <a:ea typeface="Arial Unicode MS"/>
              </a:rPr>
              <a:t> </a:t>
            </a:r>
            <a:r>
              <a:rPr b="0" lang="en-US" sz="2700" spc="-1" strike="noStrike">
                <a:solidFill>
                  <a:srgbClr val="04617b"/>
                </a:solidFill>
                <a:latin typeface="Arial"/>
                <a:ea typeface="Arial Unicode MS"/>
              </a:rPr>
              <a:t>Sustainable Intensification of Maize-Legume Systems for the Eastern Province of Zambia</a:t>
            </a:r>
            <a:r>
              <a:rPr b="0" lang="en-US" sz="2700" spc="-1" strike="noStrike">
                <a:solidFill>
                  <a:srgbClr val="04617b"/>
                </a:solidFill>
                <a:latin typeface="Arial"/>
                <a:ea typeface="Arial"/>
              </a:rPr>
              <a:t> (SIMLEZA) which focuses</a:t>
            </a:r>
            <a:r>
              <a:rPr b="0" lang="en-US" sz="5000" spc="-1" strike="noStrike">
                <a:solidFill>
                  <a:srgbClr val="04617b"/>
                </a:solidFill>
                <a:latin typeface="Arial"/>
                <a:ea typeface="Arial"/>
              </a:rPr>
              <a:t>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28600" y="2895480"/>
            <a:ext cx="46483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 Maize-legume systems agronomy and breeding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utrition focus: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oya processing and utilization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apacity building of national agricultural research systems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2" descr="C:\Users\Daniel\Desktop\pics 19 feb\IMG_1878.JPG"/>
          <p:cNvPicPr/>
          <p:nvPr/>
        </p:nvPicPr>
        <p:blipFill>
          <a:blip r:embed="rId1"/>
          <a:stretch/>
        </p:blipFill>
        <p:spPr>
          <a:xfrm>
            <a:off x="4648320" y="2790720"/>
            <a:ext cx="4038480" cy="26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Arial"/>
                <a:ea typeface="Arial"/>
              </a:rPr>
              <a:t>SIMLEZA Project Si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n-farm activiti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hipata District: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hanje and Chiparamba camp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atete District: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afumbwe and Kawalala camp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undazi District: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oya and Vuu camp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n-station activiti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sekera, GART, Kabwe, Misamfu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5" descr="Eastern_Zambia_districts (2)"/>
          <p:cNvPicPr/>
          <p:nvPr/>
        </p:nvPicPr>
        <p:blipFill>
          <a:blip r:embed="rId1"/>
          <a:srcRect l="711" t="0" r="711" b="0"/>
          <a:stretch/>
        </p:blipFill>
        <p:spPr>
          <a:xfrm>
            <a:off x="4572000" y="2133720"/>
            <a:ext cx="4038480" cy="39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Arial"/>
                <a:ea typeface="Arial"/>
              </a:rPr>
              <a:t>Challeng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legumes selected are at the bottom of the farmers’ priority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mmunity is uncertain of the market for the seed to be multiplied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rmers are not aware of the market (outlet) for the produc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rmers largely use the cowpeas leaves as vegetables and not the grain. There is therefore for a market for the gra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quipment for processing is rare and the current one for groundnut processing demands a lot of energ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9:42:22Z</dcterms:created>
  <dc:creator>HP</dc:creator>
  <dc:description/>
  <dc:language>en-US</dc:language>
  <cp:lastModifiedBy>HP</cp:lastModifiedBy>
  <dcterms:modified xsi:type="dcterms:W3CDTF">2012-10-01T19:42:37Z</dcterms:modified>
  <cp:revision>33</cp:revision>
  <dc:subject/>
  <dc:title>ZAMBIA</dc:title>
</cp:coreProperties>
</file>