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DCFC-1E01-4B0F-902E-B8DE808F5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D1E7-4662-460C-B750-BBC7156C0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5588-5B12-424B-9961-F5F1CBA65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CF39-D34A-419A-889B-82BF691F7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31B6-5E1B-4921-9C22-B98C60066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749E-499B-44BA-9071-E3F62EC57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3C2E-EA52-4986-B41B-1DCAE2769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5C35-CF24-4426-81A4-C6B2C18A78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2850-F352-4843-AB44-E5F6C7AEA3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32B0-6DC3-4F92-92FA-80AB16D3C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7A8E-5859-4455-B75A-7214E76299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5BBA-3EF3-47C5-A22D-331970DAE9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8C78-58ED-48E5-A6A5-BADAE0A3C2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BB99-F8BF-4EE9-9A7A-8BF5CBC1663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495A-FA66-4657-A39E-48203896BD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0C62-6138-4624-A0B5-36CE5BA306D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D6FC-65FF-4DD9-970F-33BBCFC395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8941-1F85-4960-B053-1354A93B91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F41C-8C5A-4918-8ACD-2B613334AE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E412-4726-4A4E-A0EE-C129173EAF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F054-0695-438F-A537-AAF5F8D4E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CA9F-2CB6-49A4-97D3-931456CB27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0603A-85AA-43D0-8808-550A6FEAD5F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DBAD-63E6-42C6-9E89-6B5B4ADC18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EBE3-C874-458C-9814-EFC235BB62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8876-6F0F-41D2-8B52-FB2647AD7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11760" y="6421320"/>
            <a:ext cx="5684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4542-112E-482C-9409-E1BFE2C569B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755640" y="5950080"/>
            <a:ext cx="3943440" cy="606240"/>
            <a:chOff x="755640" y="5950080"/>
            <a:chExt cx="3943440" cy="60624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3591000" y="60840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1650960" y="6130800"/>
              <a:ext cx="15613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755640" y="5950080"/>
              <a:ext cx="511200" cy="606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81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22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2"/>
          </p:nvPr>
        </p:nvSpPr>
        <p:spPr>
          <a:xfrm>
            <a:off x="8478360" y="648180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D706-0BB1-4B5E-A7C4-BEE30648F48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"/>
          <a:stretch/>
        </p:blipFill>
        <p:spPr>
          <a:xfrm>
            <a:off x="3995640" y="43434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568520" y="5132520"/>
            <a:ext cx="6006960" cy="1649160"/>
            <a:chOff x="1568520" y="5132520"/>
            <a:chExt cx="6006960" cy="1649160"/>
          </a:xfrm>
        </p:grpSpPr>
        <p:grpSp>
          <p:nvGrpSpPr>
            <p:cNvPr id="239" name="Group 12"/>
            <p:cNvGrpSpPr/>
            <p:nvPr/>
          </p:nvGrpSpPr>
          <p:grpSpPr>
            <a:xfrm>
              <a:off x="1568520" y="5132520"/>
              <a:ext cx="6006960" cy="634680"/>
              <a:chOff x="1568520" y="5132520"/>
              <a:chExt cx="6006960" cy="634680"/>
            </a:xfrm>
          </p:grpSpPr>
          <p:pic>
            <p:nvPicPr>
              <p:cNvPr id="240" name="Picture 4" descr="C:\Users\Corporate Comms\Downloads\AfricaRice logo.png"/>
              <p:cNvPicPr/>
              <p:nvPr/>
            </p:nvPicPr>
            <p:blipFill>
              <a:blip r:embed="rId5"/>
              <a:srcRect l="0" t="0" r="73495" b="19117"/>
              <a:stretch/>
            </p:blipFill>
            <p:spPr>
              <a:xfrm>
                <a:off x="1568520" y="5132520"/>
                <a:ext cx="66960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9" descr="C:\Users\Corporate Comms\Downloads\AVRDC logo.jpg"/>
              <p:cNvPicPr/>
              <p:nvPr/>
            </p:nvPicPr>
            <p:blipFill>
              <a:blip r:embed="rId6"/>
              <a:stretch/>
            </p:blipFill>
            <p:spPr>
              <a:xfrm>
                <a:off x="2527200" y="5195520"/>
                <a:ext cx="234072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68880" y="5150520"/>
                <a:ext cx="110448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1080" y="5146560"/>
                <a:ext cx="914400" cy="60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13"/>
            <p:cNvGrpSpPr/>
            <p:nvPr/>
          </p:nvGrpSpPr>
          <p:grpSpPr>
            <a:xfrm>
              <a:off x="2154600" y="6045480"/>
              <a:ext cx="4834800" cy="736200"/>
              <a:chOff x="2154600" y="6045480"/>
              <a:chExt cx="4834800" cy="7362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6352920" y="6095160"/>
                <a:ext cx="636480" cy="63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2" descr="C:\Users\Corporate Comms\Downloads\icrisat_logo.jpg"/>
              <p:cNvPicPr/>
              <p:nvPr/>
            </p:nvPicPr>
            <p:blipFill>
              <a:blip r:embed="rId10"/>
              <a:stretch/>
            </p:blipFill>
            <p:spPr>
              <a:xfrm>
                <a:off x="3765960" y="6174720"/>
                <a:ext cx="1508040" cy="47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9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54600" y="6045480"/>
                <a:ext cx="13543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56960" y="6045480"/>
                <a:ext cx="473400" cy="73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TextBox 16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685800" y="1328760"/>
            <a:ext cx="75438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Monitoring and Evaluation (M&amp;E) </a:t>
            </a: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Plan for 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ubtitle 2"/>
          <p:cNvSpPr/>
          <p:nvPr/>
        </p:nvSpPr>
        <p:spPr>
          <a:xfrm>
            <a:off x="1763640" y="4149720"/>
            <a:ext cx="531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Review &amp; Planning Meet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-25 October 2012, Tamale,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sm-ifpri"/>
          <p:cNvPicPr/>
          <p:nvPr/>
        </p:nvPicPr>
        <p:blipFill>
          <a:blip r:embed="rId1"/>
          <a:stretch/>
        </p:blipFill>
        <p:spPr>
          <a:xfrm>
            <a:off x="8077320" y="566100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035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66600" y="109440"/>
            <a:ext cx="226872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Improved connectivity to and utilization of markets and input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408400" y="109440"/>
            <a:ext cx="326844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Wider dissemination of integrated SI innovations leading to similar impacts beyond the AR Action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6600" y="689040"/>
            <a:ext cx="17622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ustainable increase of whole-farm productivity by integrated innovations for targeted households at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873080" y="689040"/>
            <a:ext cx="12528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nutrition and reduced poverty, especially for women and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66600" y="1547640"/>
            <a:ext cx="290520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e36c0a"/>
                </a:solidFill>
                <a:latin typeface="Calibri"/>
              </a:rPr>
              <a:t>RO 1:</a:t>
            </a: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ituation Analysis &amp; Program 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7240" y="1832040"/>
            <a:ext cx="2905200" cy="29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71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iagnosis - Site selection &amp;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Mega-site stratification by development 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ioritizing mega-site strata geographic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ject Action/Research Site 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ction/Research Site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blem 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struction of farm household typ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constraints and opportunities (disabling environment, options, entry poi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ducting value chain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Baseline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ment of common key indicators (biophysical, socio-economic &amp;  institu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chnology inventory and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analysis of potential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tegrated systems priority setting &amp;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operation and collaboration with partn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0" y="4827600"/>
            <a:ext cx="2914560" cy="20304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eveloping approaches for farm level interven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Identifying key components of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of intensification traj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quencing interventions to suit stage of intensification of household types /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participatory tech. selection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models and decision support tools to guide ex-ante technology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sustainability &amp; resilience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 high impact sweet spots/ best bets/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060720" y="1852560"/>
            <a:ext cx="2941560" cy="300528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Participatory evaluation and adaptation of appropriate combinations of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Combining improved legumes with improved livestock feeding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Managing soil fertility and experimenting with novel approaches to increase produ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incentives for better soil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site specific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mbining identified technolog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(e.g., Agroforestry / MPT, alternatives to draught power to save feed, CA with a livestock lens, fertilizer trees, fiderbia/ Acacia/ leguminous trees, improved management of seasonal feed resources, kitchen gardens/ continued poultry, legume rotations (effective rhizobia, biological N fix), micro dosing, more effective contribution to livestock to nutrient management, supplemental irrigation, rainwater harvesting, etc.)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079800" y="4923000"/>
            <a:ext cx="2922480" cy="140472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Knowledge and Capacity build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Testing novel extension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stablishing a linked system of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raining on market oriented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ddressing new research challenges and opportunities emerging from th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6083280" y="1577880"/>
            <a:ext cx="2916360" cy="2332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3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caling and Deliver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5749920" y="109440"/>
            <a:ext cx="325116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ncreased R4D community ability to design and implement farm-scale SI action research, outreach and support approaches, and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3191040" y="689040"/>
            <a:ext cx="194292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understanding of landscape level ecosystem stability from the aggregate impact of farming practices at the household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83280" y="1868400"/>
            <a:ext cx="2908440" cy="321624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Scaling up/out successful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Assessing the scalabilit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and development of scaling approaches for targeted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sting  approaches  for scaling up and scaling out SI innovations in action sites with projec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a costed program  for scaling by development inves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ng aggregated impact of household level interventions at landscap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on and validation of scaling approaches for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19640" y="698400"/>
            <a:ext cx="11430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community-based &amp; on-farm N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458040" y="689040"/>
            <a:ext cx="254304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ability of R4D community to design and implement farm-scale action SI research, outreach and support &amp;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059280" y="1557360"/>
            <a:ext cx="292248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2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ntegrated System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8600" y="10378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esearch Output 4 Activities: M&amp;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Content Placeholder 3"/>
          <p:cNvSpPr/>
          <p:nvPr/>
        </p:nvSpPr>
        <p:spPr>
          <a:xfrm>
            <a:off x="4572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idation of indicators and impact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ment of an M&amp;E indicator collection, management, and sharing platformOutcom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essment of the nutrition/gender and environment/ecosystems services outcomes of SI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-ante assessment of project- and program-scale outcomes, impacts and spillover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ion and Impac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082520"/>
            <a:ext cx="80773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libri"/>
              </a:rPr>
              <a:t>Analytical Approaches &amp; Tools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9" name="Content Placeholder 3"/>
          <p:cNvSpPr/>
          <p:nvPr/>
        </p:nvSpPr>
        <p:spPr>
          <a:xfrm>
            <a:off x="457200" y="19162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M&amp;E (engagement of multi-stakeholder part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ion and characterization of targe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 consistent web-based geo-referenced M&amp;E data platform (geo-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methods and potentially other specialized approaches, e.g., Caroline Moser’s Gend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estimation/projection models for selected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le-fa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simulation models (e.g., NUANCES and APSF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etric appr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Impact evaluation method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197000"/>
          <a:ext cx="8458200" cy="5243400"/>
        </p:xfrm>
        <a:graphic>
          <a:graphicData uri="http://schemas.openxmlformats.org/drawingml/2006/table">
            <a:tbl>
              <a:tblPr/>
              <a:tblGrid>
                <a:gridCol w="1800000"/>
                <a:gridCol w="2428920"/>
                <a:gridCol w="3086280"/>
                <a:gridCol w="1143000"/>
              </a:tblGrid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kely to be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implement and interpret. Forces impact pathway arti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ily qualitative. Subjective assessment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(difference in difference)/R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M/IPW (propensity score mat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, although second-bes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14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DD (regression discontinuity desi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rigorous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mple needed, sharp cut-off based on continuous eligibility criterion  (which AR is currently not suppor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op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in insight into factors limiting uptake of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y factors influence adoption. Care needed in data collection to lim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77760" y="10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0" y="2212920"/>
            <a:ext cx="8902800" cy="4212720"/>
            <a:chOff x="0" y="2212920"/>
            <a:chExt cx="8902800" cy="4212720"/>
          </a:xfrm>
        </p:grpSpPr>
        <p:grpSp>
          <p:nvGrpSpPr>
            <p:cNvPr id="434" name="Group 58"/>
            <p:cNvGrpSpPr/>
            <p:nvPr/>
          </p:nvGrpSpPr>
          <p:grpSpPr>
            <a:xfrm>
              <a:off x="2628720" y="2811240"/>
              <a:ext cx="3086280" cy="2819520"/>
              <a:chOff x="2628720" y="2811240"/>
              <a:chExt cx="3086280" cy="2819520"/>
            </a:xfrm>
          </p:grpSpPr>
          <p:sp>
            <p:nvSpPr>
              <p:cNvPr id="435" name="Rectangle 49"/>
              <p:cNvSpPr/>
              <p:nvPr/>
            </p:nvSpPr>
            <p:spPr>
              <a:xfrm>
                <a:off x="2628720" y="2849040"/>
                <a:ext cx="1333440" cy="1363680"/>
              </a:xfrm>
              <a:prstGeom prst="rect">
                <a:avLst/>
              </a:prstGeom>
              <a:solidFill>
                <a:srgbClr val="e6d6bd"/>
              </a:solidFill>
              <a:ln w="2556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Straight Connector 50"/>
              <p:cNvSpPr/>
              <p:nvPr/>
            </p:nvSpPr>
            <p:spPr>
              <a:xfrm flipV="1">
                <a:off x="4114800" y="2811240"/>
                <a:ext cx="1600200" cy="1872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Straight Connector 51"/>
              <p:cNvSpPr/>
              <p:nvPr/>
            </p:nvSpPr>
            <p:spPr>
              <a:xfrm>
                <a:off x="4086000" y="4219560"/>
                <a:ext cx="1629000" cy="141120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38" name="Straight Arrow Connector 6"/>
            <p:cNvCxnSpPr/>
            <p:nvPr/>
          </p:nvCxnSpPr>
          <p:spPr>
            <a:xfrm flipV="1">
              <a:off x="6885000" y="3833280"/>
              <a:ext cx="678600" cy="837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439" name="Group 42"/>
            <p:cNvGrpSpPr/>
            <p:nvPr/>
          </p:nvGrpSpPr>
          <p:grpSpPr>
            <a:xfrm>
              <a:off x="0" y="2246040"/>
              <a:ext cx="4131000" cy="4179600"/>
              <a:chOff x="0" y="2246040"/>
              <a:chExt cx="4131000" cy="4179600"/>
            </a:xfrm>
          </p:grpSpPr>
          <p:sp>
            <p:nvSpPr>
              <p:cNvPr id="440" name="TextBox 20"/>
              <p:cNvSpPr/>
              <p:nvPr/>
            </p:nvSpPr>
            <p:spPr>
              <a:xfrm>
                <a:off x="0" y="2670480"/>
                <a:ext cx="1331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g.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(Rainfal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4"/>
              <p:cNvGrpSpPr/>
              <p:nvPr/>
            </p:nvGrpSpPr>
            <p:grpSpPr>
              <a:xfrm>
                <a:off x="1295280" y="2811240"/>
                <a:ext cx="2667240" cy="3614400"/>
                <a:chOff x="1295280" y="2811240"/>
                <a:chExt cx="2667240" cy="3614400"/>
              </a:xfrm>
            </p:grpSpPr>
            <p:grpSp>
              <p:nvGrpSpPr>
                <p:cNvPr id="442" name="Group 9"/>
                <p:cNvGrpSpPr/>
                <p:nvPr/>
              </p:nvGrpSpPr>
              <p:grpSpPr>
                <a:xfrm>
                  <a:off x="1295280" y="2811240"/>
                  <a:ext cx="2667240" cy="2834280"/>
                  <a:chOff x="1295280" y="2811240"/>
                  <a:chExt cx="2667240" cy="2834280"/>
                </a:xfrm>
              </p:grpSpPr>
              <p:sp>
                <p:nvSpPr>
                  <p:cNvPr id="443" name="Straight Connector 47"/>
                  <p:cNvSpPr/>
                  <p:nvPr/>
                </p:nvSpPr>
                <p:spPr>
                  <a:xfrm>
                    <a:off x="1295280" y="2811240"/>
                    <a:ext cx="0" cy="282024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Straight Connector 7"/>
                  <p:cNvSpPr/>
                  <p:nvPr/>
                </p:nvSpPr>
                <p:spPr>
                  <a:xfrm>
                    <a:off x="1295280" y="5645520"/>
                    <a:ext cx="266724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Straight Connector 11"/>
                <p:cNvSpPr/>
                <p:nvPr/>
              </p:nvSpPr>
              <p:spPr>
                <a:xfrm>
                  <a:off x="1371240" y="281124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Straight Connector 39"/>
                <p:cNvSpPr/>
                <p:nvPr/>
              </p:nvSpPr>
              <p:spPr>
                <a:xfrm>
                  <a:off x="3962520" y="288720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Straight Connector 40"/>
                <p:cNvSpPr/>
                <p:nvPr/>
              </p:nvSpPr>
              <p:spPr>
                <a:xfrm>
                  <a:off x="2629080" y="284904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Straight Connector 41"/>
                <p:cNvSpPr/>
                <p:nvPr/>
              </p:nvSpPr>
              <p:spPr>
                <a:xfrm>
                  <a:off x="1333080" y="421308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Box 16"/>
                <p:cNvSpPr/>
                <p:nvPr/>
              </p:nvSpPr>
              <p:spPr>
                <a:xfrm>
                  <a:off x="2974680" y="340524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Box 17"/>
                <p:cNvSpPr/>
                <p:nvPr/>
              </p:nvSpPr>
              <p:spPr>
                <a:xfrm>
                  <a:off x="2972160" y="46400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TextBox 18"/>
                <p:cNvSpPr/>
                <p:nvPr/>
              </p:nvSpPr>
              <p:spPr>
                <a:xfrm>
                  <a:off x="1602000" y="464004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TextBox 19"/>
                <p:cNvSpPr/>
                <p:nvPr/>
              </p:nvSpPr>
              <p:spPr>
                <a:xfrm>
                  <a:off x="1681560" y="34052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TextBox 21"/>
                <p:cNvSpPr/>
                <p:nvPr/>
              </p:nvSpPr>
              <p:spPr>
                <a:xfrm>
                  <a:off x="1920600" y="5783040"/>
                  <a:ext cx="1796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Market Pot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Pop.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TextBox 73"/>
              <p:cNvSpPr/>
              <p:nvPr/>
            </p:nvSpPr>
            <p:spPr>
              <a:xfrm>
                <a:off x="1316880" y="2246040"/>
                <a:ext cx="281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Geographic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75"/>
            <p:cNvGrpSpPr/>
            <p:nvPr/>
          </p:nvGrpSpPr>
          <p:grpSpPr>
            <a:xfrm>
              <a:off x="4287240" y="2212920"/>
              <a:ext cx="4615560" cy="3922560"/>
              <a:chOff x="4287240" y="2212920"/>
              <a:chExt cx="4615560" cy="3922560"/>
            </a:xfrm>
          </p:grpSpPr>
          <p:grpSp>
            <p:nvGrpSpPr>
              <p:cNvPr id="456" name="Group 35"/>
              <p:cNvGrpSpPr/>
              <p:nvPr/>
            </p:nvGrpSpPr>
            <p:grpSpPr>
              <a:xfrm>
                <a:off x="4287240" y="2521800"/>
                <a:ext cx="4615560" cy="3613680"/>
                <a:chOff x="4287240" y="2521800"/>
                <a:chExt cx="4615560" cy="36136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878800" y="2521800"/>
                  <a:ext cx="3024000" cy="3168360"/>
                  <a:chOff x="5878800" y="2521800"/>
                  <a:chExt cx="3024000" cy="3168360"/>
                </a:xfrm>
              </p:grpSpPr>
              <p:sp>
                <p:nvSpPr>
                  <p:cNvPr id="458" name="Straight Connector 32"/>
                  <p:cNvSpPr/>
                  <p:nvPr/>
                </p:nvSpPr>
                <p:spPr>
                  <a:xfrm>
                    <a:off x="5889600" y="2521800"/>
                    <a:ext cx="0" cy="316836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Straight Connector 33"/>
                  <p:cNvSpPr/>
                  <p:nvPr/>
                </p:nvSpPr>
                <p:spPr>
                  <a:xfrm>
                    <a:off x="5878800" y="5666040"/>
                    <a:ext cx="302400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Straight Connector 22"/>
                <p:cNvSpPr/>
                <p:nvPr/>
              </p:nvSpPr>
              <p:spPr>
                <a:xfrm>
                  <a:off x="5921640" y="283032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Straight Connector 23"/>
                <p:cNvSpPr/>
                <p:nvPr/>
              </p:nvSpPr>
              <p:spPr>
                <a:xfrm>
                  <a:off x="8589960" y="2840400"/>
                  <a:ext cx="0" cy="28083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Straight Connector 24"/>
                <p:cNvSpPr/>
                <p:nvPr/>
              </p:nvSpPr>
              <p:spPr>
                <a:xfrm>
                  <a:off x="7223400" y="2835360"/>
                  <a:ext cx="0" cy="28371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25"/>
                <p:cNvSpPr/>
                <p:nvPr/>
              </p:nvSpPr>
              <p:spPr>
                <a:xfrm>
                  <a:off x="5927760" y="423216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TextBox 41"/>
                <p:cNvSpPr/>
                <p:nvPr/>
              </p:nvSpPr>
              <p:spPr>
                <a:xfrm>
                  <a:off x="7569720" y="342468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Box 42"/>
                <p:cNvSpPr/>
                <p:nvPr/>
              </p:nvSpPr>
              <p:spPr>
                <a:xfrm>
                  <a:off x="7566840" y="46594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Box 43"/>
                <p:cNvSpPr/>
                <p:nvPr/>
              </p:nvSpPr>
              <p:spPr>
                <a:xfrm>
                  <a:off x="6197400" y="465948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Box 44"/>
                <p:cNvSpPr/>
                <p:nvPr/>
              </p:nvSpPr>
              <p:spPr>
                <a:xfrm>
                  <a:off x="6099840" y="34246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TextBox 45"/>
                <p:cNvSpPr/>
                <p:nvPr/>
              </p:nvSpPr>
              <p:spPr>
                <a:xfrm>
                  <a:off x="6592680" y="5767200"/>
                  <a:ext cx="204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Sustainability 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TextBox 48"/>
                <p:cNvSpPr/>
                <p:nvPr/>
              </p:nvSpPr>
              <p:spPr>
                <a:xfrm>
                  <a:off x="4287240" y="2886480"/>
                  <a:ext cx="1543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tens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TextBox 74"/>
              <p:cNvSpPr/>
              <p:nvPr/>
            </p:nvSpPr>
            <p:spPr>
              <a:xfrm>
                <a:off x="5515920" y="2212920"/>
                <a:ext cx="336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Farm/Landscape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56"/>
            <p:cNvGrpSpPr/>
            <p:nvPr/>
          </p:nvGrpSpPr>
          <p:grpSpPr>
            <a:xfrm>
              <a:off x="6012360" y="2886840"/>
              <a:ext cx="2196000" cy="2683440"/>
              <a:chOff x="6012360" y="2886840"/>
              <a:chExt cx="2196000" cy="2683440"/>
            </a:xfrm>
          </p:grpSpPr>
          <p:sp>
            <p:nvSpPr>
              <p:cNvPr id="472" name="Oval 10"/>
              <p:cNvSpPr/>
              <p:nvPr/>
            </p:nvSpPr>
            <p:spPr>
              <a:xfrm>
                <a:off x="6012360" y="4975200"/>
                <a:ext cx="612000" cy="595080"/>
              </a:xfrm>
              <a:prstGeom prst="ellipse">
                <a:avLst/>
              </a:prstGeom>
              <a:solidFill>
                <a:srgbClr val="c19859"/>
              </a:solidFill>
              <a:ln w="25560">
                <a:solidFill>
                  <a:srgbClr val="c198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"/>
              <p:cNvSpPr/>
              <p:nvPr/>
            </p:nvSpPr>
            <p:spPr>
              <a:xfrm>
                <a:off x="7596360" y="2886840"/>
                <a:ext cx="612000" cy="595080"/>
              </a:xfrm>
              <a:prstGeom prst="ellipse">
                <a:avLst/>
              </a:prstGeom>
              <a:solidFill>
                <a:srgbClr val="006600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54"/>
              <p:cNvGrpSpPr/>
              <p:nvPr/>
            </p:nvGrpSpPr>
            <p:grpSpPr>
              <a:xfrm>
                <a:off x="6805800" y="3246840"/>
                <a:ext cx="891000" cy="2219400"/>
                <a:chOff x="6805800" y="3246840"/>
                <a:chExt cx="891000" cy="2219400"/>
              </a:xfrm>
            </p:grpSpPr>
            <p:grpSp>
              <p:nvGrpSpPr>
                <p:cNvPr id="475" name="Group 71"/>
                <p:cNvGrpSpPr/>
                <p:nvPr/>
              </p:nvGrpSpPr>
              <p:grpSpPr>
                <a:xfrm>
                  <a:off x="6805800" y="3585240"/>
                  <a:ext cx="891000" cy="1589040"/>
                  <a:chOff x="6805800" y="3585240"/>
                  <a:chExt cx="891000" cy="1589040"/>
                </a:xfrm>
              </p:grpSpPr>
              <p:cxnSp>
                <p:nvCxnSpPr>
                  <p:cNvPr id="476" name="Straight Arrow Connector 17"/>
                  <p:cNvCxnSpPr/>
                  <p:nvPr/>
                </p:nvCxnSpPr>
                <p:spPr>
                  <a:xfrm>
                    <a:off x="6885000" y="5173560"/>
                    <a:ext cx="812160" cy="1080"/>
                  </a:xfrm>
                  <a:prstGeom prst="straightConnector1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77" name="Elbow Connector 18"/>
                  <p:cNvCxnSpPr/>
                  <p:nvPr/>
                </p:nvCxnSpPr>
                <p:spPr>
                  <a:xfrm flipH="1" flipV="1" rot="5400000">
                    <a:off x="6715080" y="3675960"/>
                    <a:ext cx="786600" cy="605520"/>
                  </a:xfrm>
                  <a:prstGeom prst="bentConnector3">
                    <a:avLst>
                      <a:gd name="adj1" fmla="val 99816"/>
                    </a:avLst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478" name="TextBox 14"/>
                <p:cNvSpPr/>
                <p:nvPr/>
              </p:nvSpPr>
              <p:spPr>
                <a:xfrm>
                  <a:off x="6948360" y="324684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Box 15"/>
                <p:cNvSpPr/>
                <p:nvPr/>
              </p:nvSpPr>
              <p:spPr>
                <a:xfrm>
                  <a:off x="6948360" y="519156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Box 16"/>
                <p:cNvSpPr/>
                <p:nvPr/>
              </p:nvSpPr>
              <p:spPr>
                <a:xfrm>
                  <a:off x="6948360" y="461520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0" y="5581800"/>
            <a:ext cx="9144000" cy="12603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0" y="2252520"/>
            <a:ext cx="9144000" cy="12589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-11160" y="3745080"/>
            <a:ext cx="9155160" cy="147636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0" y="696960"/>
            <a:ext cx="9144000" cy="151128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838080" y="1246320"/>
            <a:ext cx="1573200" cy="742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8"/>
          <p:cNvSpPr/>
          <p:nvPr/>
        </p:nvSpPr>
        <p:spPr>
          <a:xfrm>
            <a:off x="838080" y="252576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"/>
          <p:cNvSpPr/>
          <p:nvPr/>
        </p:nvSpPr>
        <p:spPr>
          <a:xfrm>
            <a:off x="784080" y="427824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781200" y="5970600"/>
            <a:ext cx="14475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1"/>
          <p:cNvSpPr/>
          <p:nvPr/>
        </p:nvSpPr>
        <p:spPr>
          <a:xfrm>
            <a:off x="936720" y="129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914400" y="2570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6040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"/>
          <p:cNvSpPr/>
          <p:nvPr/>
        </p:nvSpPr>
        <p:spPr>
          <a:xfrm>
            <a:off x="857160" y="6040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5"/>
          <p:cNvSpPr/>
          <p:nvPr/>
        </p:nvSpPr>
        <p:spPr>
          <a:xfrm flipV="1">
            <a:off x="3122640" y="8586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6"/>
          <p:cNvSpPr/>
          <p:nvPr/>
        </p:nvSpPr>
        <p:spPr>
          <a:xfrm flipV="1">
            <a:off x="3125880" y="100476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17"/>
          <p:cNvSpPr/>
          <p:nvPr/>
        </p:nvSpPr>
        <p:spPr>
          <a:xfrm>
            <a:off x="3125880" y="114156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18"/>
          <p:cNvSpPr/>
          <p:nvPr/>
        </p:nvSpPr>
        <p:spPr>
          <a:xfrm>
            <a:off x="3112920" y="120636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19"/>
          <p:cNvSpPr/>
          <p:nvPr/>
        </p:nvSpPr>
        <p:spPr>
          <a:xfrm flipV="1">
            <a:off x="3122640" y="158724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20"/>
          <p:cNvSpPr/>
          <p:nvPr/>
        </p:nvSpPr>
        <p:spPr>
          <a:xfrm flipV="1">
            <a:off x="3125880" y="173340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21"/>
          <p:cNvSpPr/>
          <p:nvPr/>
        </p:nvSpPr>
        <p:spPr>
          <a:xfrm>
            <a:off x="3125880" y="187020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2"/>
          <p:cNvSpPr/>
          <p:nvPr/>
        </p:nvSpPr>
        <p:spPr>
          <a:xfrm>
            <a:off x="3112920" y="193500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3"/>
          <p:cNvSpPr/>
          <p:nvPr/>
        </p:nvSpPr>
        <p:spPr>
          <a:xfrm>
            <a:off x="2479680" y="933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4"/>
          <p:cNvSpPr/>
          <p:nvPr/>
        </p:nvSpPr>
        <p:spPr>
          <a:xfrm>
            <a:off x="2457360" y="1654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25"/>
          <p:cNvCxnSpPr/>
          <p:nvPr/>
        </p:nvCxnSpPr>
        <p:spPr>
          <a:xfrm flipV="1">
            <a:off x="2438280" y="12456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04" name="Straight Arrow Connector 26"/>
          <p:cNvCxnSpPr/>
          <p:nvPr/>
        </p:nvCxnSpPr>
        <p:spPr>
          <a:xfrm>
            <a:off x="2438280" y="1654200"/>
            <a:ext cx="153360" cy="7992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05" name="Straight Connector 27"/>
          <p:cNvSpPr/>
          <p:nvPr/>
        </p:nvSpPr>
        <p:spPr>
          <a:xfrm flipV="1">
            <a:off x="3117960" y="223812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8"/>
          <p:cNvSpPr/>
          <p:nvPr/>
        </p:nvSpPr>
        <p:spPr>
          <a:xfrm flipV="1">
            <a:off x="3122640" y="238572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9"/>
          <p:cNvSpPr/>
          <p:nvPr/>
        </p:nvSpPr>
        <p:spPr>
          <a:xfrm>
            <a:off x="3122640" y="252252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30"/>
          <p:cNvSpPr/>
          <p:nvPr/>
        </p:nvSpPr>
        <p:spPr>
          <a:xfrm>
            <a:off x="3108240" y="258768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1"/>
          <p:cNvSpPr/>
          <p:nvPr/>
        </p:nvSpPr>
        <p:spPr>
          <a:xfrm flipV="1">
            <a:off x="3117960" y="296676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32"/>
          <p:cNvSpPr/>
          <p:nvPr/>
        </p:nvSpPr>
        <p:spPr>
          <a:xfrm flipV="1">
            <a:off x="3122640" y="31143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3"/>
          <p:cNvSpPr/>
          <p:nvPr/>
        </p:nvSpPr>
        <p:spPr>
          <a:xfrm>
            <a:off x="3122640" y="3251160"/>
            <a:ext cx="45252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4"/>
          <p:cNvSpPr/>
          <p:nvPr/>
        </p:nvSpPr>
        <p:spPr>
          <a:xfrm>
            <a:off x="3108240" y="331632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5"/>
          <p:cNvSpPr/>
          <p:nvPr/>
        </p:nvSpPr>
        <p:spPr>
          <a:xfrm>
            <a:off x="2475000" y="2314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2452680" y="303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37"/>
          <p:cNvCxnSpPr/>
          <p:nvPr/>
        </p:nvCxnSpPr>
        <p:spPr>
          <a:xfrm flipV="1">
            <a:off x="2433240" y="262656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16" name="Straight Arrow Connector 38"/>
          <p:cNvCxnSpPr/>
          <p:nvPr/>
        </p:nvCxnSpPr>
        <p:spPr>
          <a:xfrm>
            <a:off x="2433240" y="303480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17" name="Straight Connector 39"/>
          <p:cNvSpPr/>
          <p:nvPr/>
        </p:nvSpPr>
        <p:spPr>
          <a:xfrm flipV="1">
            <a:off x="3075120" y="38970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0"/>
          <p:cNvSpPr/>
          <p:nvPr/>
        </p:nvSpPr>
        <p:spPr>
          <a:xfrm flipV="1">
            <a:off x="3079800" y="40431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1"/>
          <p:cNvSpPr/>
          <p:nvPr/>
        </p:nvSpPr>
        <p:spPr>
          <a:xfrm>
            <a:off x="3079800" y="417996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2"/>
          <p:cNvSpPr/>
          <p:nvPr/>
        </p:nvSpPr>
        <p:spPr>
          <a:xfrm>
            <a:off x="3067200" y="424512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43"/>
          <p:cNvSpPr/>
          <p:nvPr/>
        </p:nvSpPr>
        <p:spPr>
          <a:xfrm flipV="1">
            <a:off x="3075120" y="462564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44"/>
          <p:cNvSpPr/>
          <p:nvPr/>
        </p:nvSpPr>
        <p:spPr>
          <a:xfrm flipV="1">
            <a:off x="3079800" y="477180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45"/>
          <p:cNvSpPr/>
          <p:nvPr/>
        </p:nvSpPr>
        <p:spPr>
          <a:xfrm>
            <a:off x="3079800" y="490860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6"/>
          <p:cNvSpPr/>
          <p:nvPr/>
        </p:nvSpPr>
        <p:spPr>
          <a:xfrm>
            <a:off x="3067200" y="497376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7"/>
          <p:cNvSpPr/>
          <p:nvPr/>
        </p:nvSpPr>
        <p:spPr>
          <a:xfrm>
            <a:off x="2433600" y="3971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8"/>
          <p:cNvSpPr/>
          <p:nvPr/>
        </p:nvSpPr>
        <p:spPr>
          <a:xfrm>
            <a:off x="2411280" y="469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49"/>
          <p:cNvCxnSpPr/>
          <p:nvPr/>
        </p:nvCxnSpPr>
        <p:spPr>
          <a:xfrm flipV="1">
            <a:off x="2392200" y="42840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28" name="Straight Arrow Connector 50"/>
          <p:cNvCxnSpPr/>
          <p:nvPr/>
        </p:nvCxnSpPr>
        <p:spPr>
          <a:xfrm>
            <a:off x="2392200" y="4694400"/>
            <a:ext cx="153360" cy="784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29" name="Straight Connector 51"/>
          <p:cNvSpPr/>
          <p:nvPr/>
        </p:nvSpPr>
        <p:spPr>
          <a:xfrm flipV="1">
            <a:off x="3062160" y="558288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52"/>
          <p:cNvSpPr/>
          <p:nvPr/>
        </p:nvSpPr>
        <p:spPr>
          <a:xfrm flipV="1">
            <a:off x="3067200" y="572904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53"/>
          <p:cNvSpPr/>
          <p:nvPr/>
        </p:nvSpPr>
        <p:spPr>
          <a:xfrm>
            <a:off x="3067200" y="5865840"/>
            <a:ext cx="4521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4"/>
          <p:cNvSpPr/>
          <p:nvPr/>
        </p:nvSpPr>
        <p:spPr>
          <a:xfrm>
            <a:off x="3052800" y="593100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55"/>
          <p:cNvSpPr/>
          <p:nvPr/>
        </p:nvSpPr>
        <p:spPr>
          <a:xfrm flipV="1">
            <a:off x="3062160" y="631008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56"/>
          <p:cNvSpPr/>
          <p:nvPr/>
        </p:nvSpPr>
        <p:spPr>
          <a:xfrm flipV="1">
            <a:off x="3067200" y="645768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7"/>
          <p:cNvSpPr/>
          <p:nvPr/>
        </p:nvSpPr>
        <p:spPr>
          <a:xfrm>
            <a:off x="3067200" y="6594480"/>
            <a:ext cx="45216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58"/>
          <p:cNvSpPr/>
          <p:nvPr/>
        </p:nvSpPr>
        <p:spPr>
          <a:xfrm>
            <a:off x="3052800" y="665964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9"/>
          <p:cNvSpPr/>
          <p:nvPr/>
        </p:nvSpPr>
        <p:spPr>
          <a:xfrm>
            <a:off x="2419200" y="5657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0"/>
          <p:cNvSpPr/>
          <p:nvPr/>
        </p:nvSpPr>
        <p:spPr>
          <a:xfrm>
            <a:off x="2397240" y="637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1"/>
          <p:cNvCxnSpPr/>
          <p:nvPr/>
        </p:nvCxnSpPr>
        <p:spPr>
          <a:xfrm flipV="1">
            <a:off x="2377800" y="596988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40" name="Straight Arrow Connector 62"/>
          <p:cNvCxnSpPr/>
          <p:nvPr/>
        </p:nvCxnSpPr>
        <p:spPr>
          <a:xfrm>
            <a:off x="2377800" y="637812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41" name="TextBox 63"/>
          <p:cNvSpPr/>
          <p:nvPr/>
        </p:nvSpPr>
        <p:spPr>
          <a:xfrm>
            <a:off x="3638520" y="7826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4"/>
          <p:cNvSpPr/>
          <p:nvPr/>
        </p:nvSpPr>
        <p:spPr>
          <a:xfrm>
            <a:off x="3630600" y="9572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5"/>
          <p:cNvSpPr/>
          <p:nvPr/>
        </p:nvSpPr>
        <p:spPr>
          <a:xfrm>
            <a:off x="3643200" y="10717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6"/>
          <p:cNvSpPr/>
          <p:nvPr/>
        </p:nvSpPr>
        <p:spPr>
          <a:xfrm>
            <a:off x="3638520" y="1233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7"/>
          <p:cNvSpPr/>
          <p:nvPr/>
        </p:nvSpPr>
        <p:spPr>
          <a:xfrm>
            <a:off x="3652920" y="22003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8"/>
          <p:cNvSpPr/>
          <p:nvPr/>
        </p:nvSpPr>
        <p:spPr>
          <a:xfrm>
            <a:off x="3643200" y="23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9"/>
          <p:cNvSpPr/>
          <p:nvPr/>
        </p:nvSpPr>
        <p:spPr>
          <a:xfrm>
            <a:off x="3652920" y="248904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0"/>
          <p:cNvSpPr/>
          <p:nvPr/>
        </p:nvSpPr>
        <p:spPr>
          <a:xfrm>
            <a:off x="3652920" y="26510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1"/>
          <p:cNvSpPr/>
          <p:nvPr/>
        </p:nvSpPr>
        <p:spPr>
          <a:xfrm>
            <a:off x="76320" y="13590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1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2"/>
          <p:cNvSpPr/>
          <p:nvPr/>
        </p:nvSpPr>
        <p:spPr>
          <a:xfrm>
            <a:off x="50760" y="2635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2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3"/>
          <p:cNvSpPr/>
          <p:nvPr/>
        </p:nvSpPr>
        <p:spPr>
          <a:xfrm>
            <a:off x="50760" y="437508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3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4"/>
          <p:cNvSpPr/>
          <p:nvPr/>
        </p:nvSpPr>
        <p:spPr>
          <a:xfrm>
            <a:off x="50760" y="6091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4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5"/>
          <p:cNvSpPr/>
          <p:nvPr/>
        </p:nvSpPr>
        <p:spPr>
          <a:xfrm>
            <a:off x="3648240" y="380196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6"/>
          <p:cNvSpPr/>
          <p:nvPr/>
        </p:nvSpPr>
        <p:spPr>
          <a:xfrm>
            <a:off x="3638520" y="3976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"/>
          <p:cNvSpPr/>
          <p:nvPr/>
        </p:nvSpPr>
        <p:spPr>
          <a:xfrm>
            <a:off x="3648240" y="40924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"/>
          <p:cNvSpPr/>
          <p:nvPr/>
        </p:nvSpPr>
        <p:spPr>
          <a:xfrm>
            <a:off x="3648240" y="42544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9"/>
          <p:cNvSpPr/>
          <p:nvPr/>
        </p:nvSpPr>
        <p:spPr>
          <a:xfrm>
            <a:off x="3648240" y="5499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0"/>
          <p:cNvSpPr/>
          <p:nvPr/>
        </p:nvSpPr>
        <p:spPr>
          <a:xfrm>
            <a:off x="3638520" y="56721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1"/>
          <p:cNvSpPr/>
          <p:nvPr/>
        </p:nvSpPr>
        <p:spPr>
          <a:xfrm>
            <a:off x="3648240" y="57880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2"/>
          <p:cNvSpPr/>
          <p:nvPr/>
        </p:nvSpPr>
        <p:spPr>
          <a:xfrm>
            <a:off x="3648240" y="5950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3"/>
          <p:cNvSpPr/>
          <p:nvPr/>
        </p:nvSpPr>
        <p:spPr>
          <a:xfrm>
            <a:off x="3641760" y="1474920"/>
            <a:ext cx="39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4"/>
          <p:cNvSpPr/>
          <p:nvPr/>
        </p:nvSpPr>
        <p:spPr>
          <a:xfrm>
            <a:off x="3632040" y="16495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5"/>
          <p:cNvSpPr/>
          <p:nvPr/>
        </p:nvSpPr>
        <p:spPr>
          <a:xfrm>
            <a:off x="3641760" y="17654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6"/>
          <p:cNvSpPr/>
          <p:nvPr/>
        </p:nvSpPr>
        <p:spPr>
          <a:xfrm>
            <a:off x="3641760" y="1927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7"/>
          <p:cNvSpPr/>
          <p:nvPr/>
        </p:nvSpPr>
        <p:spPr>
          <a:xfrm>
            <a:off x="3662280" y="28224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8"/>
          <p:cNvSpPr/>
          <p:nvPr/>
        </p:nvSpPr>
        <p:spPr>
          <a:xfrm>
            <a:off x="3652920" y="2997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9"/>
          <p:cNvSpPr/>
          <p:nvPr/>
        </p:nvSpPr>
        <p:spPr>
          <a:xfrm>
            <a:off x="3662280" y="311292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0"/>
          <p:cNvSpPr/>
          <p:nvPr/>
        </p:nvSpPr>
        <p:spPr>
          <a:xfrm>
            <a:off x="3662280" y="32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1"/>
          <p:cNvSpPr/>
          <p:nvPr/>
        </p:nvSpPr>
        <p:spPr>
          <a:xfrm>
            <a:off x="3657600" y="4502160"/>
            <a:ext cx="352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92"/>
          <p:cNvSpPr/>
          <p:nvPr/>
        </p:nvSpPr>
        <p:spPr>
          <a:xfrm>
            <a:off x="3648240" y="46767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3"/>
          <p:cNvSpPr/>
          <p:nvPr/>
        </p:nvSpPr>
        <p:spPr>
          <a:xfrm>
            <a:off x="3657600" y="47912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94"/>
          <p:cNvSpPr/>
          <p:nvPr/>
        </p:nvSpPr>
        <p:spPr>
          <a:xfrm>
            <a:off x="3657600" y="49528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5"/>
          <p:cNvSpPr/>
          <p:nvPr/>
        </p:nvSpPr>
        <p:spPr>
          <a:xfrm>
            <a:off x="3641760" y="6216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6"/>
          <p:cNvSpPr/>
          <p:nvPr/>
        </p:nvSpPr>
        <p:spPr>
          <a:xfrm>
            <a:off x="3632040" y="639144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7"/>
          <p:cNvSpPr/>
          <p:nvPr/>
        </p:nvSpPr>
        <p:spPr>
          <a:xfrm>
            <a:off x="3641760" y="650556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8"/>
          <p:cNvSpPr/>
          <p:nvPr/>
        </p:nvSpPr>
        <p:spPr>
          <a:xfrm>
            <a:off x="3641760" y="6667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99"/>
          <p:cNvSpPr/>
          <p:nvPr/>
        </p:nvSpPr>
        <p:spPr>
          <a:xfrm>
            <a:off x="6443640" y="5229360"/>
            <a:ext cx="2129040" cy="11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tal sampl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“clean 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80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conv. A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23232"/>
                </a:solidFill>
                <a:latin typeface="Calibri"/>
              </a:rPr>
              <a:t>Roles and Responsibilities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9" name="Content Placeholder 3"/>
          <p:cNvSpPr/>
          <p:nvPr/>
        </p:nvSpPr>
        <p:spPr>
          <a:xfrm>
            <a:off x="22860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implementing partners (IITA and ILRI and Collaborato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ster CG cent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G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valuation (IFPRI and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035600" y="2313000"/>
            <a:ext cx="4825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1222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R M&amp;E Learning Task Forc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Content Placeholder 3"/>
          <p:cNvSpPr/>
          <p:nvPr/>
        </p:nvSpPr>
        <p:spPr>
          <a:xfrm>
            <a:off x="457200" y="208764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onth brief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tr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Task Force (AR, CSISA, FEEDBACK, CRSP, Local Institutions M&amp;E special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SISA-AR cross-learning and FtF FEEDBACK best-practic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all sites, meet local teams and refine M&amp;E strategy that; (1) appropriate for interventions being tested, (2) strikes appropriate balance between rigour and cost/feasibility, (3) lays out strategy for remainder of 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itle 1"/>
          <p:cNvSpPr/>
          <p:nvPr/>
        </p:nvSpPr>
        <p:spPr>
          <a:xfrm>
            <a:off x="395280" y="3357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Thank you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7731000" y="5157720"/>
            <a:ext cx="1219320" cy="5191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7308720" y="6381720"/>
            <a:ext cx="1641600" cy="326880"/>
            <a:chOff x="7308720" y="6381720"/>
            <a:chExt cx="1641600" cy="326880"/>
          </a:xfrm>
        </p:grpSpPr>
        <p:pic>
          <p:nvPicPr>
            <p:cNvPr id="586" name="Picture 4" descr="LOGO_SD.png"/>
            <p:cNvPicPr/>
            <p:nvPr/>
          </p:nvPicPr>
          <p:blipFill>
            <a:blip r:embed="rId2"/>
            <a:stretch/>
          </p:blipFill>
          <p:spPr>
            <a:xfrm>
              <a:off x="7702560" y="6420240"/>
              <a:ext cx="124776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SD_logo_icon.png"/>
            <p:cNvPicPr/>
            <p:nvPr/>
          </p:nvPicPr>
          <p:blipFill>
            <a:blip r:embed="rId3"/>
            <a:stretch/>
          </p:blipFill>
          <p:spPr>
            <a:xfrm>
              <a:off x="7308720" y="6381720"/>
              <a:ext cx="336960" cy="3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itle 1"/>
          <p:cNvSpPr/>
          <p:nvPr/>
        </p:nvSpPr>
        <p:spPr>
          <a:xfrm>
            <a:off x="609480" y="12873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Outlin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ubtitle 2"/>
          <p:cNvSpPr/>
          <p:nvPr/>
        </p:nvSpPr>
        <p:spPr>
          <a:xfrm>
            <a:off x="228600" y="20574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AR Objectives, activities, and expect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&amp;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03120"/>
            <a:ext cx="76201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xpected results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d contributions to natural capital &amp; flow of environmental services, nutrition/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0900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Monitoring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457200" y="190008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rocess of systematic collection and analysis of data on specific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s (custom)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074240"/>
            <a:ext cx="76201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valuation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85724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eriodic assessment of worth or significance of an activity, policy or programme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900" spc="-1" strike="noStrike">
                <a:solidFill>
                  <a:srgbClr val="323232"/>
                </a:solidFill>
                <a:latin typeface="Calibri"/>
              </a:rPr>
              <a:t>M&amp;E Objectives</a:t>
            </a:r>
            <a:endParaRPr b="0" lang="en-US" sz="39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Content Placeholder 3"/>
          <p:cNvSpPr/>
          <p:nvPr/>
        </p:nvSpPr>
        <p:spPr>
          <a:xfrm>
            <a:off x="457200" y="2209680"/>
            <a:ext cx="8507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effective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the data for timely reporting to U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all stakeholders to learn about the project’s successes and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itle 1"/>
          <p:cNvSpPr/>
          <p:nvPr/>
        </p:nvSpPr>
        <p:spPr>
          <a:xfrm>
            <a:off x="611280" y="1268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mbria"/>
              </a:rPr>
              <a:t>M&amp;E Commit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179280" y="2205000"/>
            <a:ext cx="82296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Complian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standards, best practices, and core indicators established for the entire FtF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access platform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and maintain an open-access, M&amp;E data management and analysis platform to serve the needs of SI implementation partners and other stakehol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&amp; projec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ex ante evaluations (e.g. project targets) for a range of farming system and livelihood outcome indicators on an annual basis to provide enhanced research management and outcome mapping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cale reporting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ovide the capability to support multi-scale monitoring 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00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SA-wid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oss-system reporting to serve the needs of SI wide roll-up of indicators across the three investment geographies/system “project sites” (Guinea Savanna, Ethiopian Highlands, Eastern and Southern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Screen shot 2011-06-09 at 12.27.29 AM.png"/>
          <p:cNvPicPr/>
          <p:nvPr/>
        </p:nvPicPr>
        <p:blipFill>
          <a:blip r:embed="rId1"/>
          <a:srcRect l="0" t="40915" r="41000" b="5177"/>
          <a:stretch/>
        </p:blipFill>
        <p:spPr>
          <a:xfrm>
            <a:off x="111240" y="1116000"/>
            <a:ext cx="21160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Content Placeholder 2"/>
          <p:cNvSpPr/>
          <p:nvPr/>
        </p:nvSpPr>
        <p:spPr>
          <a:xfrm>
            <a:off x="312840" y="1230480"/>
            <a:ext cx="855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uinea –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avann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666720" y="2239920"/>
            <a:ext cx="113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ast and Southern Africa Maize M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1386000" y="1166760"/>
            <a:ext cx="87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thiopian High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16080" y="87480"/>
            <a:ext cx="83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 Rising M&amp;E Components, Activities,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9080" y="795240"/>
            <a:ext cx="38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/Project Site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5"/>
          <p:cNvGrpSpPr/>
          <p:nvPr/>
        </p:nvGrpSpPr>
        <p:grpSpPr>
          <a:xfrm>
            <a:off x="6609960" y="782640"/>
            <a:ext cx="2457720" cy="5661000"/>
            <a:chOff x="6609960" y="782640"/>
            <a:chExt cx="2457720" cy="5661000"/>
          </a:xfrm>
        </p:grpSpPr>
        <p:cxnSp>
          <p:nvCxnSpPr>
            <p:cNvPr id="318" name="Straight Arrow Connector 8"/>
            <p:cNvCxnSpPr/>
            <p:nvPr/>
          </p:nvCxnSpPr>
          <p:spPr>
            <a:xfrm>
              <a:off x="6609960" y="3461400"/>
              <a:ext cx="27468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19" name="Group 134"/>
            <p:cNvGrpSpPr/>
            <p:nvPr/>
          </p:nvGrpSpPr>
          <p:grpSpPr>
            <a:xfrm>
              <a:off x="6866280" y="782640"/>
              <a:ext cx="2201400" cy="5661000"/>
              <a:chOff x="6866280" y="782640"/>
              <a:chExt cx="2201400" cy="5661000"/>
            </a:xfrm>
          </p:grpSpPr>
          <p:sp>
            <p:nvSpPr>
              <p:cNvPr id="320" name="Flowchart: Process 10"/>
              <p:cNvSpPr/>
              <p:nvPr/>
            </p:nvSpPr>
            <p:spPr>
              <a:xfrm>
                <a:off x="6866280" y="782640"/>
                <a:ext cx="2201400" cy="5661000"/>
              </a:xfrm>
              <a:prstGeom prst="flowChartProcess">
                <a:avLst/>
              </a:prstGeom>
              <a:solidFill>
                <a:srgbClr val="c4e1f2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lowchart: Process 11"/>
              <p:cNvSpPr/>
              <p:nvPr/>
            </p:nvSpPr>
            <p:spPr>
              <a:xfrm>
                <a:off x="6976080" y="2736720"/>
                <a:ext cx="1974240" cy="961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 / reports 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Research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untry / National lev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ject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gram / S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lowchart: Process 12"/>
              <p:cNvSpPr/>
              <p:nvPr/>
            </p:nvSpPr>
            <p:spPr>
              <a:xfrm>
                <a:off x="6976080" y="4882680"/>
                <a:ext cx="1974240" cy="1510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Perfomance Variab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(modeling &amp; validatio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∆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ole farm produ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echnology performan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Yiel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abor prod.- by gen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UE, W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∆Revenues, Costs, Profi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lowchart: Process 13"/>
              <p:cNvSpPr/>
              <p:nvPr/>
            </p:nvSpPr>
            <p:spPr>
              <a:xfrm>
                <a:off x="6976080" y="1116720"/>
                <a:ext cx="1974240" cy="1511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M&amp;E Outpu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utcome mapping (incl.  nutrition &amp; market effec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st/Benefit analy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perimental /RCT evalu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doption studies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lowchart: Process 14"/>
              <p:cNvSpPr/>
              <p:nvPr/>
            </p:nvSpPr>
            <p:spPr>
              <a:xfrm>
                <a:off x="6978600" y="3890520"/>
                <a:ext cx="1974240" cy="800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 Innovation Cat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Inventory (cross-sit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haracter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Open acces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127"/>
          <p:cNvGrpSpPr/>
          <p:nvPr/>
        </p:nvGrpSpPr>
        <p:grpSpPr>
          <a:xfrm>
            <a:off x="112680" y="4527360"/>
            <a:ext cx="7853400" cy="2219400"/>
            <a:chOff x="112680" y="4527360"/>
            <a:chExt cx="7853400" cy="2219400"/>
          </a:xfrm>
        </p:grpSpPr>
        <p:sp>
          <p:nvSpPr>
            <p:cNvPr id="326" name="Flowchart: Process 16"/>
            <p:cNvSpPr/>
            <p:nvPr/>
          </p:nvSpPr>
          <p:spPr>
            <a:xfrm>
              <a:off x="112680" y="5257080"/>
              <a:ext cx="1995120" cy="1010160"/>
            </a:xfrm>
            <a:prstGeom prst="flowChartProcess">
              <a:avLst/>
            </a:prstGeom>
            <a:solidFill>
              <a:srgbClr val="dac19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 Planning &amp;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proved insights into  innovations , delivery  platforms, and site 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17"/>
            <p:cNvCxnSpPr/>
            <p:nvPr/>
          </p:nvCxnSpPr>
          <p:spPr>
            <a:xfrm>
              <a:off x="2118240" y="5549760"/>
              <a:ext cx="53100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28" name="Group 114"/>
            <p:cNvGrpSpPr/>
            <p:nvPr/>
          </p:nvGrpSpPr>
          <p:grpSpPr>
            <a:xfrm>
              <a:off x="1109880" y="6267240"/>
              <a:ext cx="6856200" cy="479520"/>
              <a:chOff x="1109880" y="6267240"/>
              <a:chExt cx="6856200" cy="479520"/>
            </a:xfrm>
          </p:grpSpPr>
          <p:cxnSp>
            <p:nvCxnSpPr>
              <p:cNvPr id="329" name="Elbow Connector 20"/>
              <p:cNvCxnSpPr>
                <a:stCxn id="320" idx="2"/>
                <a:endCxn id="326" idx="2"/>
              </p:cNvCxnSpPr>
              <p:nvPr/>
            </p:nvCxnSpPr>
            <p:spPr>
              <a:xfrm flipV="1" rot="16200000">
                <a:off x="4456440" y="2920320"/>
                <a:ext cx="163440" cy="6856560"/>
              </a:xfrm>
              <a:prstGeom prst="bentConnector3">
                <a:avLst>
                  <a:gd name="adj1" fmla="val -140397"/>
                </a:avLst>
              </a:prstGeom>
              <a:ln w="28440">
                <a:solidFill>
                  <a:srgbClr val="848484"/>
                </a:solidFill>
                <a:miter/>
                <a:tailEnd len="med" type="arrow" w="med"/>
              </a:ln>
            </p:spPr>
          </p:cxnSp>
          <p:sp>
            <p:nvSpPr>
              <p:cNvPr id="330" name="Flowchart: Process 21"/>
              <p:cNvSpPr/>
              <p:nvPr/>
            </p:nvSpPr>
            <p:spPr>
              <a:xfrm>
                <a:off x="3034440" y="6383160"/>
                <a:ext cx="1150560" cy="36360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Calibri"/>
                  </a:rPr>
                  <a:t>Learn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9"/>
            <p:cNvCxnSpPr/>
            <p:nvPr/>
          </p:nvCxnSpPr>
          <p:spPr>
            <a:xfrm flipV="1">
              <a:off x="1109880" y="4527360"/>
              <a:ext cx="1080" cy="73224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</p:grpSp>
      <p:grpSp>
        <p:nvGrpSpPr>
          <p:cNvPr id="332" name="Group 131"/>
          <p:cNvGrpSpPr/>
          <p:nvPr/>
        </p:nvGrpSpPr>
        <p:grpSpPr>
          <a:xfrm>
            <a:off x="1790280" y="795240"/>
            <a:ext cx="4820040" cy="5661000"/>
            <a:chOff x="1790280" y="795240"/>
            <a:chExt cx="4820040" cy="5661000"/>
          </a:xfrm>
        </p:grpSpPr>
        <p:sp>
          <p:nvSpPr>
            <p:cNvPr id="333" name="Flowchart: Process 23"/>
            <p:cNvSpPr/>
            <p:nvPr/>
          </p:nvSpPr>
          <p:spPr>
            <a:xfrm>
              <a:off x="4256640" y="795240"/>
              <a:ext cx="2353680" cy="5661000"/>
            </a:xfrm>
            <a:prstGeom prst="flowChartProcess">
              <a:avLst/>
            </a:prstGeom>
            <a:solidFill>
              <a:srgbClr val="f2f2f2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ta/Analysis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lowchart: Process 24"/>
            <p:cNvSpPr/>
            <p:nvPr/>
          </p:nvSpPr>
          <p:spPr>
            <a:xfrm>
              <a:off x="4794480" y="1185120"/>
              <a:ext cx="1604880" cy="9723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ntextu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national/region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survey &amp; cens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pati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lowchart: Process 25"/>
            <p:cNvSpPr/>
            <p:nvPr/>
          </p:nvSpPr>
          <p:spPr>
            <a:xfrm>
              <a:off x="4811760" y="2216520"/>
              <a:ext cx="1587240" cy="97740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rived Indica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Typ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Intensification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ustainability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Nutrition index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125"/>
            <p:cNvGrpSpPr/>
            <p:nvPr/>
          </p:nvGrpSpPr>
          <p:grpSpPr>
            <a:xfrm>
              <a:off x="1790280" y="1268280"/>
              <a:ext cx="2822040" cy="1886040"/>
              <a:chOff x="1790280" y="1268280"/>
              <a:chExt cx="2822040" cy="1886040"/>
            </a:xfrm>
          </p:grpSpPr>
          <p:sp>
            <p:nvSpPr>
              <p:cNvPr id="337" name="Flowchart: Process 27"/>
              <p:cNvSpPr/>
              <p:nvPr/>
            </p:nvSpPr>
            <p:spPr>
              <a:xfrm>
                <a:off x="2637720" y="2417760"/>
                <a:ext cx="1974600" cy="736560"/>
              </a:xfrm>
              <a:prstGeom prst="flowChartProcess">
                <a:avLst/>
              </a:prstGeom>
              <a:solidFill>
                <a:srgbClr val="ffffcc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anking domains by key AR attribu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A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C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B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123"/>
              <p:cNvGrpSpPr/>
              <p:nvPr/>
            </p:nvGrpSpPr>
            <p:grpSpPr>
              <a:xfrm>
                <a:off x="2637720" y="1268280"/>
                <a:ext cx="1974600" cy="984960"/>
                <a:chOff x="2637720" y="1268280"/>
                <a:chExt cx="1974600" cy="984960"/>
              </a:xfrm>
            </p:grpSpPr>
            <p:sp>
              <p:nvSpPr>
                <p:cNvPr id="339" name="Flowchart: Process 32"/>
                <p:cNvSpPr/>
                <p:nvPr/>
              </p:nvSpPr>
              <p:spPr>
                <a:xfrm>
                  <a:off x="2637720" y="1268280"/>
                  <a:ext cx="1974600" cy="860400"/>
                </a:xfrm>
                <a:prstGeom prst="flowChartProcess">
                  <a:avLst/>
                </a:prstGeom>
                <a:solidFill>
                  <a:srgbClr val="ffffcc"/>
                </a:solidFill>
                <a:ln w="12600">
                  <a:solidFill>
                    <a:srgbClr val="b05c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Box 33"/>
                <p:cNvSpPr/>
                <p:nvPr/>
              </p:nvSpPr>
              <p:spPr>
                <a:xfrm>
                  <a:off x="3476160" y="1385280"/>
                  <a:ext cx="10832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Site Stra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Develop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omains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1" name="Group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840" y="1407600"/>
                  <a:ext cx="835200" cy="58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Box 35"/>
                <p:cNvSpPr/>
                <p:nvPr/>
              </p:nvSpPr>
              <p:spPr>
                <a:xfrm>
                  <a:off x="2921400" y="163908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36"/>
                <p:cNvSpPr/>
                <p:nvPr/>
              </p:nvSpPr>
              <p:spPr>
                <a:xfrm>
                  <a:off x="3024720" y="1419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Box 37"/>
                <p:cNvSpPr/>
                <p:nvPr/>
              </p:nvSpPr>
              <p:spPr>
                <a:xfrm>
                  <a:off x="2710080" y="1725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Box 38"/>
                <p:cNvSpPr/>
                <p:nvPr/>
              </p:nvSpPr>
              <p:spPr>
                <a:xfrm>
                  <a:off x="3197160" y="1725840"/>
                  <a:ext cx="26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46" name="Straight Arrow Connector 29"/>
              <p:cNvCxnSpPr/>
              <p:nvPr/>
            </p:nvCxnSpPr>
            <p:spPr>
              <a:xfrm>
                <a:off x="3605040" y="2143440"/>
                <a:ext cx="1080" cy="275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sp>
            <p:nvSpPr>
              <p:cNvPr id="347" name="Straight Connector 18"/>
              <p:cNvSpPr/>
              <p:nvPr/>
            </p:nvSpPr>
            <p:spPr>
              <a:xfrm flipH="1" flipV="1">
                <a:off x="1836360" y="1405080"/>
                <a:ext cx="120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1"/>
              <p:cNvSpPr/>
              <p:nvPr/>
            </p:nvSpPr>
            <p:spPr>
              <a:xfrm flipH="1" flipV="1">
                <a:off x="1790280" y="1699920"/>
                <a:ext cx="101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132"/>
          <p:cNvGrpSpPr/>
          <p:nvPr/>
        </p:nvGrpSpPr>
        <p:grpSpPr>
          <a:xfrm>
            <a:off x="136440" y="3146040"/>
            <a:ext cx="6259680" cy="1680120"/>
            <a:chOff x="136440" y="3146040"/>
            <a:chExt cx="6259680" cy="1680120"/>
          </a:xfrm>
        </p:grpSpPr>
        <p:sp>
          <p:nvSpPr>
            <p:cNvPr id="350" name="Flowchart: Process 44"/>
            <p:cNvSpPr/>
            <p:nvPr/>
          </p:nvSpPr>
          <p:spPr>
            <a:xfrm>
              <a:off x="4808520" y="3245040"/>
              <a:ext cx="1587600" cy="6465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/Activity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artner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Project DB (&amp; map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18"/>
            <p:cNvGrpSpPr/>
            <p:nvPr/>
          </p:nvGrpSpPr>
          <p:grpSpPr>
            <a:xfrm>
              <a:off x="136440" y="3146040"/>
              <a:ext cx="4475160" cy="1680120"/>
              <a:chOff x="136440" y="3146040"/>
              <a:chExt cx="4475160" cy="1680120"/>
            </a:xfrm>
          </p:grpSpPr>
          <p:sp>
            <p:nvSpPr>
              <p:cNvPr id="352" name="Flowchart: Process 45"/>
              <p:cNvSpPr/>
              <p:nvPr/>
            </p:nvSpPr>
            <p:spPr>
              <a:xfrm>
                <a:off x="136440" y="3302640"/>
                <a:ext cx="1995480" cy="1523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ction Research Site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ite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isting activity/platf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search des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tervention 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…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Hexagon 47"/>
              <p:cNvSpPr/>
              <p:nvPr/>
            </p:nvSpPr>
            <p:spPr>
              <a:xfrm>
                <a:off x="2636640" y="3409560"/>
                <a:ext cx="1974960" cy="914040"/>
              </a:xfrm>
              <a:prstGeom prst="hexagon">
                <a:avLst>
                  <a:gd name="adj" fmla="val 25018"/>
                  <a:gd name="vf" fmla="val 11547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dentify action research sites in priority domains that satisfy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4" name="Straight Arrow Connector 48"/>
              <p:cNvCxnSpPr/>
              <p:nvPr/>
            </p:nvCxnSpPr>
            <p:spPr>
              <a:xfrm>
                <a:off x="2226240" y="3868920"/>
                <a:ext cx="433080" cy="108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cxnSp>
            <p:nvCxnSpPr>
              <p:cNvPr id="355" name="Straight Arrow Connector 49"/>
              <p:cNvCxnSpPr/>
              <p:nvPr/>
            </p:nvCxnSpPr>
            <p:spPr>
              <a:xfrm>
                <a:off x="3596400" y="3146040"/>
                <a:ext cx="1080" cy="302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356" name="Group 136"/>
          <p:cNvGrpSpPr/>
          <p:nvPr/>
        </p:nvGrpSpPr>
        <p:grpSpPr>
          <a:xfrm>
            <a:off x="2643120" y="3962520"/>
            <a:ext cx="3768840" cy="2454120"/>
            <a:chOff x="2643120" y="3962520"/>
            <a:chExt cx="3768840" cy="2454120"/>
          </a:xfrm>
        </p:grpSpPr>
        <p:grpSp>
          <p:nvGrpSpPr>
            <p:cNvPr id="357" name="Group 133"/>
            <p:cNvGrpSpPr/>
            <p:nvPr/>
          </p:nvGrpSpPr>
          <p:grpSpPr>
            <a:xfrm>
              <a:off x="2643120" y="3962520"/>
              <a:ext cx="3768840" cy="2454120"/>
              <a:chOff x="2643120" y="3962520"/>
              <a:chExt cx="3768840" cy="2454120"/>
            </a:xfrm>
          </p:grpSpPr>
          <p:sp>
            <p:nvSpPr>
              <p:cNvPr id="358" name="Flowchart: Process 53"/>
              <p:cNvSpPr/>
              <p:nvPr/>
            </p:nvSpPr>
            <p:spPr>
              <a:xfrm>
                <a:off x="4807440" y="4640760"/>
                <a:ext cx="1604520" cy="13752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te Dat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limate, soil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arket access,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mmunity/H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urvey da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Experimental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Model input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lowchart: Process 54"/>
              <p:cNvSpPr/>
              <p:nvPr/>
            </p:nvSpPr>
            <p:spPr>
              <a:xfrm>
                <a:off x="4811760" y="6073200"/>
                <a:ext cx="1582560" cy="34344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Whole-farm mode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lowchart: Process 55"/>
              <p:cNvSpPr/>
              <p:nvPr/>
            </p:nvSpPr>
            <p:spPr>
              <a:xfrm>
                <a:off x="4807080" y="3962520"/>
                <a:ext cx="1587240" cy="6210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nnovation 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Standard meta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User interfa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24"/>
              <p:cNvGrpSpPr/>
              <p:nvPr/>
            </p:nvGrpSpPr>
            <p:grpSpPr>
              <a:xfrm>
                <a:off x="2643120" y="4306320"/>
                <a:ext cx="2015640" cy="1704600"/>
                <a:chOff x="2643120" y="4306320"/>
                <a:chExt cx="2015640" cy="1704600"/>
              </a:xfrm>
            </p:grpSpPr>
            <p:grpSp>
              <p:nvGrpSpPr>
                <p:cNvPr id="362" name="Group 119"/>
                <p:cNvGrpSpPr/>
                <p:nvPr/>
              </p:nvGrpSpPr>
              <p:grpSpPr>
                <a:xfrm>
                  <a:off x="2643120" y="4306320"/>
                  <a:ext cx="2015640" cy="1704600"/>
                  <a:chOff x="2643120" y="4306320"/>
                  <a:chExt cx="2015640" cy="1704600"/>
                </a:xfrm>
              </p:grpSpPr>
              <p:cxnSp>
                <p:nvCxnSpPr>
                  <p:cNvPr id="363" name="Straight Arrow Connector 57"/>
                  <p:cNvCxnSpPr/>
                  <p:nvPr/>
                </p:nvCxnSpPr>
                <p:spPr>
                  <a:xfrm>
                    <a:off x="3624840" y="4306320"/>
                    <a:ext cx="26640" cy="264600"/>
                  </a:xfrm>
                  <a:prstGeom prst="straightConnector1">
                    <a:avLst/>
                  </a:prstGeom>
                  <a:ln w="28440">
                    <a:solidFill>
                      <a:srgbClr val="f07c03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64" name="Rectangle 56"/>
                  <p:cNvSpPr/>
                  <p:nvPr/>
                </p:nvSpPr>
                <p:spPr>
                  <a:xfrm>
                    <a:off x="2643120" y="4570560"/>
                    <a:ext cx="2015640" cy="14403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Research Sit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Activit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Baseline survey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Set up trial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onitoring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id-line  survey (?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End-line surve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70"/>
                <p:cNvGrpSpPr/>
                <p:nvPr/>
              </p:nvGrpSpPr>
              <p:grpSpPr>
                <a:xfrm>
                  <a:off x="3611880" y="4839120"/>
                  <a:ext cx="1038960" cy="867600"/>
                  <a:chOff x="3611880" y="4839120"/>
                  <a:chExt cx="1038960" cy="867600"/>
                </a:xfrm>
              </p:grpSpPr>
              <p:sp>
                <p:nvSpPr>
                  <p:cNvPr id="366" name="Freeform 61"/>
                  <p:cNvSpPr/>
                  <p:nvPr/>
                </p:nvSpPr>
                <p:spPr>
                  <a:xfrm>
                    <a:off x="3611880" y="4896720"/>
                    <a:ext cx="102780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915" h="248721">
                        <a:moveTo>
                          <a:pt x="300968" y="145618"/>
                        </a:moveTo>
                        <a:cubicBezTo>
                          <a:pt x="300086" y="144876"/>
                          <a:pt x="325048" y="59370"/>
                          <a:pt x="314162" y="61547"/>
                        </a:cubicBezTo>
                        <a:cubicBezTo>
                          <a:pt x="303276" y="63724"/>
                          <a:pt x="240782" y="-6746"/>
                          <a:pt x="222069" y="527"/>
                        </a:cubicBezTo>
                        <a:cubicBezTo>
                          <a:pt x="204652" y="9236"/>
                          <a:pt x="187612" y="18744"/>
                          <a:pt x="169817" y="26653"/>
                        </a:cubicBezTo>
                        <a:cubicBezTo>
                          <a:pt x="126932" y="45713"/>
                          <a:pt x="91835" y="54164"/>
                          <a:pt x="52252" y="78904"/>
                        </a:cubicBezTo>
                        <a:cubicBezTo>
                          <a:pt x="33790" y="90443"/>
                          <a:pt x="17417" y="105030"/>
                          <a:pt x="0" y="118093"/>
                        </a:cubicBezTo>
                        <a:cubicBezTo>
                          <a:pt x="26638" y="198006"/>
                          <a:pt x="-9221" y="133972"/>
                          <a:pt x="52252" y="144218"/>
                        </a:cubicBezTo>
                        <a:cubicBezTo>
                          <a:pt x="67738" y="146799"/>
                          <a:pt x="78377" y="161635"/>
                          <a:pt x="91440" y="170344"/>
                        </a:cubicBezTo>
                        <a:cubicBezTo>
                          <a:pt x="113212" y="165990"/>
                          <a:pt x="135692" y="150260"/>
                          <a:pt x="156755" y="157281"/>
                        </a:cubicBezTo>
                        <a:cubicBezTo>
                          <a:pt x="169818" y="161635"/>
                          <a:pt x="162179" y="185013"/>
                          <a:pt x="169817" y="196470"/>
                        </a:cubicBezTo>
                        <a:cubicBezTo>
                          <a:pt x="197773" y="238405"/>
                          <a:pt x="207110" y="235026"/>
                          <a:pt x="248195" y="248721"/>
                        </a:cubicBezTo>
                        <a:cubicBezTo>
                          <a:pt x="278215" y="158660"/>
                          <a:pt x="254847" y="189817"/>
                          <a:pt x="300446" y="144218"/>
                        </a:cubicBezTo>
                      </a:path>
                    </a:pathLst>
                  </a:custGeom>
                  <a:solidFill>
                    <a:srgbClr val="4ea5d8"/>
                  </a:solidFill>
                  <a:ln w="25560">
                    <a:solidFill>
                      <a:srgbClr val="b05c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TextBox 62"/>
                  <p:cNvSpPr/>
                  <p:nvPr/>
                </p:nvSpPr>
                <p:spPr>
                  <a:xfrm>
                    <a:off x="4117320" y="48391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Box 63"/>
                  <p:cNvSpPr/>
                  <p:nvPr/>
                </p:nvSpPr>
                <p:spPr>
                  <a:xfrm>
                    <a:off x="4335840" y="5014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TextBox 64"/>
                  <p:cNvSpPr/>
                  <p:nvPr/>
                </p:nvSpPr>
                <p:spPr>
                  <a:xfrm>
                    <a:off x="4089600" y="51829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TextBox 65"/>
                  <p:cNvSpPr/>
                  <p:nvPr/>
                </p:nvSpPr>
                <p:spPr>
                  <a:xfrm>
                    <a:off x="3721680" y="510660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Box 66"/>
                  <p:cNvSpPr/>
                  <p:nvPr/>
                </p:nvSpPr>
                <p:spPr>
                  <a:xfrm>
                    <a:off x="4192560" y="5338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TextBox 67"/>
                  <p:cNvSpPr/>
                  <p:nvPr/>
                </p:nvSpPr>
                <p:spPr>
                  <a:xfrm>
                    <a:off x="3943440" y="49406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" name="TextBox 59"/>
                <p:cNvSpPr/>
                <p:nvPr/>
              </p:nvSpPr>
              <p:spPr>
                <a:xfrm>
                  <a:off x="3677760" y="4624200"/>
                  <a:ext cx="6865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ommunities/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Farms/Plots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74" name="Straight Arrow Connector 60"/>
                <p:cNvCxnSpPr>
                  <a:stCxn id="373" idx="2"/>
                </p:cNvCxnSpPr>
                <p:nvPr/>
              </p:nvCxnSpPr>
              <p:spPr>
                <a:xfrm flipH="1">
                  <a:off x="3900960" y="4901400"/>
                  <a:ext cx="120240" cy="344880"/>
                </a:xfrm>
                <a:prstGeom prst="straightConnector1">
                  <a:avLst/>
                </a:prstGeom>
                <a:ln w="6480">
                  <a:solidFill>
                    <a:srgbClr val="f07c03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Straight Arrow Connector 52"/>
            <p:cNvCxnSpPr/>
            <p:nvPr/>
          </p:nvCxnSpPr>
          <p:spPr>
            <a:xfrm>
              <a:off x="4190400" y="4856760"/>
              <a:ext cx="152280" cy="249840"/>
            </a:xfrm>
            <a:prstGeom prst="straightConnector1">
              <a:avLst/>
            </a:prstGeom>
            <a:ln w="6480">
              <a:solidFill>
                <a:srgbClr val="f07c0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6942240" y="5229360"/>
            <a:ext cx="2077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USAID-provid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0000"/>
                </a:solidFill>
                <a:latin typeface="Calibri"/>
              </a:rPr>
              <a:t>Additional suggest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0"/>
          <p:cNvGrpSpPr/>
          <p:nvPr/>
        </p:nvGrpSpPr>
        <p:grpSpPr>
          <a:xfrm>
            <a:off x="160200" y="379440"/>
            <a:ext cx="8983800" cy="6165720"/>
            <a:chOff x="160200" y="379440"/>
            <a:chExt cx="8983800" cy="6165720"/>
          </a:xfrm>
        </p:grpSpPr>
        <p:sp>
          <p:nvSpPr>
            <p:cNvPr id="378" name="Text Box 5"/>
            <p:cNvSpPr/>
            <p:nvPr/>
          </p:nvSpPr>
          <p:spPr>
            <a:xfrm>
              <a:off x="2421360" y="379440"/>
              <a:ext cx="5891760" cy="40500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FTF Goal: Sustainably Reduce Global Poverty and Hu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38"/>
            <p:cNvGrpSpPr/>
            <p:nvPr/>
          </p:nvGrpSpPr>
          <p:grpSpPr>
            <a:xfrm>
              <a:off x="160200" y="1421280"/>
              <a:ext cx="6224040" cy="2309760"/>
              <a:chOff x="160200" y="1421280"/>
              <a:chExt cx="6224040" cy="2309760"/>
            </a:xfrm>
          </p:grpSpPr>
          <p:cxnSp>
            <p:nvCxnSpPr>
              <p:cNvPr id="380" name="AutoShape 9"/>
              <p:cNvCxnSpPr/>
              <p:nvPr/>
            </p:nvCxnSpPr>
            <p:spPr>
              <a:xfrm flipV="1">
                <a:off x="3193920" y="142128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1" name="Text Box 10"/>
              <p:cNvSpPr/>
              <p:nvPr/>
            </p:nvSpPr>
            <p:spPr>
              <a:xfrm>
                <a:off x="160200" y="1799640"/>
                <a:ext cx="1489680" cy="19314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1: Improved agricultural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0 Gross margin per hectare (whole farm and by system componen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1 Number of hectares under improved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AutoShape 11"/>
              <p:cNvCxnSpPr/>
              <p:nvPr/>
            </p:nvCxnSpPr>
            <p:spPr>
              <a:xfrm>
                <a:off x="881280" y="1608840"/>
                <a:ext cx="4843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2"/>
              <p:cNvCxnSpPr/>
              <p:nvPr/>
            </p:nvCxnSpPr>
            <p:spPr>
              <a:xfrm>
                <a:off x="272160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3"/>
              <p:cNvCxnSpPr/>
              <p:nvPr/>
            </p:nvCxnSpPr>
            <p:spPr>
              <a:xfrm>
                <a:off x="894600" y="161712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5" name="Text Box 14"/>
              <p:cNvSpPr/>
              <p:nvPr/>
            </p:nvSpPr>
            <p:spPr>
              <a:xfrm>
                <a:off x="1686600" y="1791360"/>
                <a:ext cx="2046600" cy="193968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2: </a:t>
                </a: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Expanding Markets and Tra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</a:t>
                </a: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4 Value of incremental s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Custom 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5 Farmer satisfaction with quantity, quality and timeliness of extension and input supply services (Sub-IR 2.3: Improved Market Efficiency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6" name="AutoShape 15"/>
              <p:cNvCxnSpPr/>
              <p:nvPr/>
            </p:nvCxnSpPr>
            <p:spPr>
              <a:xfrm>
                <a:off x="435816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7" name="Text Box 16"/>
              <p:cNvSpPr/>
              <p:nvPr/>
            </p:nvSpPr>
            <p:spPr>
              <a:xfrm>
                <a:off x="3777480" y="1795320"/>
                <a:ext cx="1216800" cy="193572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4: Increased employment opportunities in targeted value cha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0000"/>
                    </a:solidFill>
                    <a:latin typeface="Calibri"/>
                  </a:rPr>
                  <a:t>Outcome Indicator: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Calibri"/>
                  </a:rPr>
                  <a:t>Increase in  diversification of off-farm income opportunities for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8" name="AutoShape 17"/>
              <p:cNvCxnSpPr/>
              <p:nvPr/>
            </p:nvCxnSpPr>
            <p:spPr>
              <a:xfrm>
                <a:off x="5718960" y="160056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9" name="Text Box 18"/>
              <p:cNvSpPr/>
              <p:nvPr/>
            </p:nvSpPr>
            <p:spPr>
              <a:xfrm>
                <a:off x="5054040" y="1787040"/>
                <a:ext cx="1330200" cy="19440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5: Increased resilience vulnerable commodities and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put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7 No. of vulnerable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5"/>
            <p:cNvGrpSpPr/>
            <p:nvPr/>
          </p:nvGrpSpPr>
          <p:grpSpPr>
            <a:xfrm>
              <a:off x="198000" y="765720"/>
              <a:ext cx="5949000" cy="656640"/>
              <a:chOff x="198000" y="765720"/>
              <a:chExt cx="5949000" cy="656640"/>
            </a:xfrm>
          </p:grpSpPr>
          <p:sp>
            <p:nvSpPr>
              <p:cNvPr id="391" name="Text Box 26"/>
              <p:cNvSpPr/>
              <p:nvPr/>
            </p:nvSpPr>
            <p:spPr>
              <a:xfrm>
                <a:off x="198000" y="954720"/>
                <a:ext cx="5949000" cy="467640"/>
              </a:xfrm>
              <a:prstGeom prst="rect">
                <a:avLst/>
              </a:prstGeom>
              <a:solidFill>
                <a:srgbClr val="34411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alibri"/>
                  </a:rPr>
                  <a:t>FTF First Level Objective 1: Inclusive agriculture sector grow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2" name="AutoShape 27"/>
              <p:cNvCxnSpPr/>
              <p:nvPr/>
            </p:nvCxnSpPr>
            <p:spPr>
              <a:xfrm flipV="1">
                <a:off x="3193560" y="765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93" name="Group 28"/>
            <p:cNvGrpSpPr/>
            <p:nvPr/>
          </p:nvGrpSpPr>
          <p:grpSpPr>
            <a:xfrm>
              <a:off x="6280200" y="774720"/>
              <a:ext cx="2863800" cy="1710360"/>
              <a:chOff x="6280200" y="774720"/>
              <a:chExt cx="2863800" cy="171036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280200" y="946080"/>
                <a:ext cx="2863800" cy="1539000"/>
                <a:chOff x="6280200" y="946080"/>
                <a:chExt cx="2863800" cy="1539000"/>
              </a:xfrm>
            </p:grpSpPr>
            <p:sp>
              <p:nvSpPr>
                <p:cNvPr id="395" name="Text Box 30"/>
                <p:cNvSpPr/>
                <p:nvPr/>
              </p:nvSpPr>
              <p:spPr>
                <a:xfrm>
                  <a:off x="7898760" y="1770840"/>
                  <a:ext cx="110448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7: Improved nutrition-related behaviour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31"/>
                <p:cNvSpPr/>
                <p:nvPr/>
              </p:nvSpPr>
              <p:spPr>
                <a:xfrm>
                  <a:off x="6519600" y="1786680"/>
                  <a:ext cx="110520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6: Improved access to diverse and quality foo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32"/>
                <p:cNvSpPr/>
                <p:nvPr/>
              </p:nvSpPr>
              <p:spPr>
                <a:xfrm>
                  <a:off x="6280200" y="946080"/>
                  <a:ext cx="2863800" cy="4680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Calibri"/>
                    </a:rPr>
                    <a:t>FTF First Level Objective 1: Improved nutrition status especially of women &amp; childre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8" name="AutoShape 33"/>
                <p:cNvCxnSpPr/>
                <p:nvPr/>
              </p:nvCxnSpPr>
              <p:spPr>
                <a:xfrm flipV="1">
                  <a:off x="7722360" y="1420920"/>
                  <a:ext cx="1080" cy="180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9" name="AutoShape 34"/>
                <p:cNvCxnSpPr/>
                <p:nvPr/>
              </p:nvCxnSpPr>
              <p:spPr>
                <a:xfrm>
                  <a:off x="7060320" y="1608480"/>
                  <a:ext cx="136836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0" name="AutoShape 35"/>
                <p:cNvCxnSpPr/>
                <p:nvPr/>
              </p:nvCxnSpPr>
              <p:spPr>
                <a:xfrm>
                  <a:off x="8431920" y="159192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1" name="AutoShape 36"/>
                <p:cNvCxnSpPr/>
                <p:nvPr/>
              </p:nvCxnSpPr>
              <p:spPr>
                <a:xfrm>
                  <a:off x="7060320" y="160020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402" name="AutoShape 37"/>
              <p:cNvCxnSpPr/>
              <p:nvPr/>
            </p:nvCxnSpPr>
            <p:spPr>
              <a:xfrm flipV="1">
                <a:off x="7657560" y="774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03" name="Group 39"/>
            <p:cNvGrpSpPr/>
            <p:nvPr/>
          </p:nvGrpSpPr>
          <p:grpSpPr>
            <a:xfrm>
              <a:off x="184680" y="3725640"/>
              <a:ext cx="6719400" cy="2819520"/>
              <a:chOff x="184680" y="3725640"/>
              <a:chExt cx="6719400" cy="2819520"/>
            </a:xfrm>
          </p:grpSpPr>
          <p:cxnSp>
            <p:nvCxnSpPr>
              <p:cNvPr id="404" name="AutoShape 20"/>
              <p:cNvCxnSpPr/>
              <p:nvPr/>
            </p:nvCxnSpPr>
            <p:spPr>
              <a:xfrm flipV="1">
                <a:off x="802800" y="3725640"/>
                <a:ext cx="1080" cy="252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5" name="Text Box 21"/>
              <p:cNvSpPr/>
              <p:nvPr/>
            </p:nvSpPr>
            <p:spPr>
              <a:xfrm>
                <a:off x="184680" y="4196520"/>
                <a:ext cx="4432680" cy="23486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Sub-IR 1.1: Enhanced Human and Institutional Capacity Development for Increased Agriculture Sector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5 Farmers who applied new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6 Private enterprises/organizations that applied new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#12 Stakeholders implementing risk-reducing practices/actions to improve resilience to climate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1 Individuals who received long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2 Individuals who received short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3 Private enterprises/ 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4 Producer/community based  re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2"/>
              <p:cNvSpPr/>
              <p:nvPr/>
            </p:nvSpPr>
            <p:spPr>
              <a:xfrm>
                <a:off x="4697280" y="4204800"/>
                <a:ext cx="2206800" cy="20984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Sub-IR 1.2: Enhanced Technology Development, Dissemination, Management, and Innov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7 No. of new technologies or management practices: 1) Under research, 2) Under field testing, or 3) Made available for transf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#13 No. of rural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AutoShape 23"/>
              <p:cNvCxnSpPr/>
              <p:nvPr/>
            </p:nvCxnSpPr>
            <p:spPr>
              <a:xfrm>
                <a:off x="802800" y="3976920"/>
                <a:ext cx="5005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AutoShape 24"/>
              <p:cNvCxnSpPr/>
              <p:nvPr/>
            </p:nvCxnSpPr>
            <p:spPr>
              <a:xfrm>
                <a:off x="5813640" y="3981600"/>
                <a:ext cx="1080" cy="20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AutoShape 24"/>
              <p:cNvCxnSpPr/>
              <p:nvPr/>
            </p:nvCxnSpPr>
            <p:spPr>
              <a:xfrm>
                <a:off x="2410920" y="3995280"/>
                <a:ext cx="1080" cy="198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2:40Z</dcterms:created>
  <dc:creator>Naomie</dc:creator>
  <dc:description/>
  <dc:language>en-US</dc:language>
  <cp:lastModifiedBy>LeBorgne, Ewen (ILRI)</cp:lastModifiedBy>
  <cp:lastPrinted>2011-10-06T11:45:23Z</cp:lastPrinted>
  <dcterms:modified xsi:type="dcterms:W3CDTF">2012-10-24T12:28:43Z</dcterms:modified>
  <cp:revision>60</cp:revision>
  <dc:subject/>
  <dc:title>Slide 1</dc:title>
</cp:coreProperties>
</file>