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40D-4352-4B17-8FFE-6C7429E2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E45-77DE-410E-B666-1BC16FE1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DCF-A874-45FB-A91C-1941246F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31C-1A4A-417F-AC20-0579338F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D09-5939-4F9B-860B-3A7A6C78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9B3-5491-4FE8-8906-F9CA62FD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C0F-BA2F-4FF8-BC14-6845E0E2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1F4-48B6-4105-A2DB-339C43C8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182-43E0-4242-89FD-D4E19EE0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EC2-2BCA-4E93-BBA5-DFE3139A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E06-766E-4AD0-93ED-BEE9D79B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6D0-4CD8-4482-8738-C23DCBA5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5B16-53F8-4AEB-9EA5-A838B125D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capitalize and learn from the three components of this continental proje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alities Across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ing system/livelihood components and constraints may be common across regions – where research is done may not be the only place it is applic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monitoring and evaluation framework  and research design will facilitate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t research questions transcend national and regional bound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ergent 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portunities to test development hypotheses under a single conceptual framewor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understand initial conditions, pathways, and outcomes (at least qualitatively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: How does this project contribute to nutrition outcomes? How (or if?) nutrition outcomes relate to environmental, social, and economic sustainabilit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Pathways to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“development syndromes” with similar constraints and opportun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agnose how interventions yield impacts across intensification and sustainability gradi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, how (and if) increased productivity raise incomes and improve nutrition/stunting outco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establish logical links and measure causation between interventions and outcomes and high-level impa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common framework to characterize site agroecologies, household and community socioeconomic characteristics, interventions, impact pathways, and indicators (M&amp;E pla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cal details of interventions, component technologies will vary within and between the three reg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opportunities to scale up across intensification/sustainability grad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ly M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opportunity for to share lessons and expertise across regions and discip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development partners, and focus discussion on integration and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for feedback and adaptive changes to research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from other programs: CRPs, CRSPs, development activities, CAADP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20:28Z</dcterms:created>
  <dc:creator>Windows User</dc:creator>
  <dc:description/>
  <dc:language>en-US</dc:language>
  <cp:lastModifiedBy>eleborgne</cp:lastModifiedBy>
  <dcterms:modified xsi:type="dcterms:W3CDTF">2012-02-13T06:56:00Z</dcterms:modified>
  <cp:revision>7</cp:revision>
  <dc:subject/>
  <dc:title>How do we capitalize and learn from the three components of this continental project?</dc:title>
</cp:coreProperties>
</file>