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2F6-2C6E-440E-B629-47E37B9D0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9E91-6F86-4B43-AB68-F7FB33D0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608-D7D2-4F0E-99D4-ECAB9F3F0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3938-7112-42C4-9954-84124612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5EB-B9BF-4F5D-B337-6FFC064F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A5A-99F5-4539-9640-2D8E4C07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BF3-B8EC-418B-96E6-E70BF110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6C8A-0592-43A8-82E6-9AEBF277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3160-BE9B-44E6-AAEB-0F073C53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7B82-E94A-4C72-8969-F42475AB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B0B-61AD-4309-A797-6223F58D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668F-D232-480E-8FC0-4A9835B4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EE718-7747-4673-A1D0-3D856E468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capitalize and learn from the three components of this continental proje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alities Across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ystem/livelihood components and constraints may be common across regions – where research is done may not be the only place it is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onitoring and evaluation framework  and research design will facilitat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t research questions transcend national and reg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ent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portunities to test development hypotheses under a single conceptual framewor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understand initial conditions, pathways, and outcomes (at least qualitatively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: How does this project contribute to nutrition outcomes? How (or if?) nutrition outcomes relate to environmental, social, and economic sustain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Pathways to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“development syndromes” with similar constraints and opportun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e how interventions yield impacts across intensification and sustainability grad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, how (and if) increased productivity raise incomes and improve nutrition/stunting outco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establish logical links and measure causation between interventions and outcomes and high-level imp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mmon framework to characterize site agroecologies, household and community socioeconomic characteristics, interventions, impact pathways, and indicators (M&amp;E pla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etails of interventions, component technologies will vary within and between the three reg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opportunities to scale up across intensification/sustainability grad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ly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portunity for to share lessons and expertise across regions and discip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development partners, and focus discussion on integration and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for feedback and adaptive changes to research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from other programs: CRPs, CRSPs, development activities, CAADP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20:28Z</dcterms:created>
  <dc:creator>Windows User</dc:creator>
  <dc:description/>
  <dc:language>en-US</dc:language>
  <cp:lastModifiedBy>eleborgne</cp:lastModifiedBy>
  <dcterms:modified xsi:type="dcterms:W3CDTF">2012-02-13T06:56:00Z</dcterms:modified>
  <cp:revision>7</cp:revision>
  <dc:subject/>
  <dc:title>How do we capitalize and learn from the three components of this continental project?</dc:title>
</cp:coreProperties>
</file>