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142B-0244-48A7-993E-7B253E04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90EC-8A4D-4F20-BF79-814A213D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18FC5-D80E-440F-AED9-76153051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C06D3-A8D8-4F87-94FF-EEC378CC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FD304-4244-4B9D-8172-D8DFCE06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F09F7-BE09-4A1E-9547-B4D78085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6F6D8-6388-4DC2-8539-FC8C4FF6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4520C-D7FB-4C3F-B2F7-CCD4BF9E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618A4-0FD6-44BA-AF0F-3A5FD27A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5808F-1C4A-4D11-A84C-243E5168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A1338-7EAA-4C1D-8A7E-7FF9680F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77853-68D9-45EE-B6B3-805BA58D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AA10-7E22-4C02-BDBB-445ED9C6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03E96-85CD-4D2E-81A9-1E4BC88C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89BC3-B1B6-4981-B606-106B85AE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E6273-59B9-4932-8D4B-38B55928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9C614-9767-461F-8089-3951FDCC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92375-2044-4E18-87BE-F762CD34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70066-BC7C-40E8-866F-2DD1F933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40ED8-A6B6-4717-AC0B-672AD8C7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6AA7B-6006-464C-89FE-9A834013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88ECF-4D5B-4C9E-B087-AF54E390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5F79A-21A8-476F-B453-D3868E03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F6C7-E759-4B21-82D8-0485D999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6516E-9341-4921-926F-B8955380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ECDEB-FA5A-473B-B753-F7A4ACF21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CCA3E-EE34-4FD5-A286-D5CCACC9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0318A-6A35-41F7-8FA5-E014A987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F67AE-F6A6-4328-8379-07F8F728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390E7-9C1E-476A-8AD5-1A9E84AC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0729C-8621-4791-B9E1-4B68E765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4FDEA-8DB4-4CB1-9954-C1152F27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B317D-6265-4662-80B3-A5A5CD72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A4B43-5D46-46E6-8263-51CD0C35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0117-845B-4850-82D6-2E8CAD18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8920B-288B-4126-86C2-5CB4D734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397FF-6C42-47B9-B972-A57AE0DF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66CEA-246E-43A1-ADF0-84373D7D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67FBD-8BD3-4A23-B8D5-81C25E52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91734-ADED-4CD1-A251-F9B2749A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6F704-78FD-43BB-BFA5-53FDACE6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0F2EF-A1FB-42DE-8B6A-2E72A4B8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7DE84-D912-4ED4-97D6-E5A9824F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A604A-461C-4374-8071-BC375388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AA862-1F0C-4FA1-993C-C6337506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2B4C-90B6-4513-BAC4-005358AC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1D72F-C45F-48B3-B803-96F07220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989D7-F799-4098-B392-D8A0B792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7F36A-0BAB-4DC4-A440-EE2E52B0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C4ED8-67F3-4861-91E1-48F117A1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6EC85-7885-473D-A174-1035FAA1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AFBC99-67D1-4DB6-A4E4-4A7428AF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74EB3C-3FE4-437A-BAAD-C6127D96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D77C6A-AA00-4ED2-A86C-4373CE25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6F0247-AE4B-4AEB-89E0-97FD2699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ECBA4A-05E4-4C5C-B5FA-3C1F913B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9727-A192-4A51-A2C5-6E73F0DB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4BBDC2-6D4C-4C45-84AB-6AA9E00D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2A7932-E986-4D17-B27A-7F2500F8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0EB3CE-BDDC-4B6F-BC29-7000ED8A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12020F-79EC-45A2-A63F-1F6F995E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15334-A213-4C9F-A7A2-04C21495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6E65D3-3B0A-44CC-A481-9A63226D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711E84-6632-435E-894F-4CB7F2ED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85ACE0-DBBA-4E84-99F5-8640238E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BE0FED-30CD-4D08-9C7F-7DE3C593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9E2339-9C38-4BF6-81C2-DFA5034A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A9BD-3D18-4FEF-8B32-52645600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747035-86FA-4C33-B991-4ADF1877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A8A8E1-90B1-4F3A-AF5B-72EBD7C1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D7A310-E801-48B6-B73E-62F077E2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C188FB-4A20-4C90-AE61-103752AE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E09077-E3C6-4AC8-891A-0BA003A8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13C1B9-E370-436A-A974-1A082BB5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AE3038-776B-4B17-8E2E-213ECC15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31F996-8BED-4EA1-AA00-F858FBF3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36B72A-766C-4EC2-B82D-C1F7373C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3415D8-6326-479D-BF24-54E3A9C5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2F73-A0F0-4BA3-8A0C-403E211A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2C91CF-71C6-4738-940F-432E193E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219E96-E1B1-4E1D-A210-2BD0F9C5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1DA2AC-E19C-4E2D-8A79-0704131A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9BE406-84A8-4D66-9FA0-821DEAD6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E9C916-10E5-47A2-8123-CE34056C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51CC38-8470-4D16-90F8-72C0A3B2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0CE913-A403-41E4-8EF5-5409324F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08E9D6-28F1-4F70-BF2D-B8D5ADAB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598754-B06F-47F6-90DA-3A72DA76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CF3ECF-5500-4021-88E3-8A19198B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F980-2281-4E98-9571-9ECCC935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C7B612-FF2A-4A64-8581-4097E08F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CCC5F2-903F-4F0E-8B66-59D5FFFE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C9F2DC-8112-4708-9146-511ACE0F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970F66-0C49-4AAA-9E37-FC30C276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0C30AD-B4C3-4435-AC44-EBBC4AAB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5586F8-9842-49C6-B750-B087DFAF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6D9C36-8C6D-4A1F-8262-24035258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C51ACA-297F-49C1-ABE6-8CCA8E90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DB0219-F689-4DD1-AC0F-4ED8B132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888D6E-D6E0-4C91-B2C7-86430560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2DD0-48DD-486F-8D34-6AF82E74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28BDE3-D01F-4920-B6B5-5785E0CB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9FE21C-6CD6-4F48-BFA8-C0614C88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930E72-E7CD-40AB-9B7B-948AC3BC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948F3F-74FA-4C17-8A2B-82CE830D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ACE677-60CD-4C2D-8FA3-2AA2F23F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702291-E856-4212-AF86-66BA6CC8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ACB6AF-AEE2-410E-8880-A9E0347E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BFEB62-CC69-4713-8FDF-558030FA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7D48E3-661C-4324-947C-47D81C7E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17CAAA-5BED-4115-A6FC-06140653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6382-AC86-4C72-A0A5-98298B46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8497-2CC1-467B-BBCF-957E6B78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62CB4F-9F74-401A-94AF-A32C2185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57AD58-2E4A-44A9-B795-76B1F07E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821A83-D202-45A1-9144-1341E587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619E99-D4E7-4E8D-AC02-0B0CADBB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A4600C-A73A-48A9-A7C5-713C9FCD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C56B-78AF-4C37-93F7-33917CE2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ED87-0E42-4F67-9E4E-501F2314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F250-088A-423E-A1C6-6C30A3E6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BFCE-598C-4D3D-AD9D-44E2B16B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DDDFE-1305-4EC5-8564-DE98410C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6ED8D-D7E1-4522-80BC-76480D80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02AE1-77B2-4F41-A82A-5EAAD55E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B3578-1E7B-47B2-B44C-5A23B61B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2AF8D-8C09-4999-BB30-AB360D82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C44F-853F-433F-B1D9-259D209B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1EBF9-92B2-48B4-A003-A8AF2759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3E933-42CA-460D-BF5E-1B4D065F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68214-A4AD-4E6B-8C5E-448FB62B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4BFF6-43DA-4E28-A753-FEB004D3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D3604-0867-451B-814A-B5D04E11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53C03-3CA4-46CA-974A-C2392DFF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2C37D-8AF5-4F0A-A0E1-D1206990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0C587-6CDD-4D41-AE7B-47FFED0A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73BCF-7A01-4CC9-90D1-846DC3A3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6A9F4-D648-40D5-ABC6-65134DB3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36FA-C55B-426D-BDE3-421B60AE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B7626-6D90-4D4F-A082-56F9C234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75D4C-66DA-48B0-A4A3-8B1B8967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87E80-D44B-4666-B548-77B4E7CA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22DFF-980C-4B7F-A72F-C084EFFB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44229-3D14-48F4-BA44-3F210AA3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581DD-4A17-4B70-AEF6-4BF22BD8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3C0E6-DABD-46BC-A645-8A42F476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8FE33-5A95-48D3-83AF-FC800646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1028B-5FF5-4151-B1FB-01DF4C64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02DF8-A963-4EFD-8614-27A1551B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DB40-BB0F-43D4-9327-BB3F4434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07C93-7499-4B31-B9DD-3D54E62B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35A9B-D023-424E-B3BB-1FFC7AE3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99FA6-B5EA-477C-A100-AF10777A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ED2D4-97A9-4171-BD26-36B4097A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1DDBA-9687-4163-A494-A0DBF3FA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4D4A2-7486-4DE7-A594-F6E49FB6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2BD15-41D5-4A15-85F3-E02F36C0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193B2-7B43-4CDF-85E1-D4B170E4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069F3-86FF-4594-8F3D-6AFB4984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1B581-AA30-4EFF-B3A3-E6708650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6E5-A714-4FBD-A477-9A3DD197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EDB16-C5DC-4799-8B7E-3EE858DB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390FB-1596-4ACB-BD1C-1052BD37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D3476-78F0-4B8C-BD7F-8A52B867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081CF-3D19-4A77-9171-024BB422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CD4EE-BD13-4D0E-AC49-CFB4EEA7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9F30A-206B-48AF-A52C-503FB16D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0EDCC-3FBC-486E-AF32-9F96D547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CF2B7-9ABD-44BE-B8AB-82F89D7B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55B6B-1368-4EE3-8FBB-6E5A6D39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76AA1-A629-4C76-8186-C430F0D5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97D2-11B6-4E6C-9740-03896CA5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ECC8F-06FA-4CF6-8BBA-52E1F1E0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4E5EF-7617-4CEB-AE4B-EDC57E7F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8A393-E7FE-40D9-880E-37D9D17A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1CCB8-4C95-4A52-BCEE-423096A2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39A0A-FAF8-41B8-91C4-CB3E14DF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7D4F3-37D3-45D5-A54B-57309035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49B93-690E-42EB-95E1-E4E1842F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31F0A-5061-47A9-BE37-ADE4F85B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5FE12-E937-408C-B4B4-E7002ADA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F8F00-62E6-44D5-8142-69602F63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1D1A-4583-471E-97EE-D329587C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BB98F-17F7-4463-BA87-C405E3EA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058D2-47BF-4A10-9DA8-4E3B2D82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530D9-5FBF-4A00-B3B0-314246D6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33369-4950-44F8-83BB-C376238D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4B8C2-885F-48F9-94CA-5F89F6F9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2EE36-EFD1-44ED-9A9D-70CC05C2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E2D4E-A5F9-4592-AFB1-DB7A4868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3AA85-9808-4DCB-B90F-16ABDAA6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26B72-FA1C-4A92-8210-7446BBCF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62856-ECD6-4042-92F6-B309D26D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055D-0EFA-4D45-9192-D8BC5A12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E77F0-31C2-4EBC-B329-DF1DB9BA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224C5-D541-4994-AE78-D5C61041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9DB95-7735-4C23-BBD1-5E3AAA36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FD842-8461-478C-957B-A7B4AF71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656A7-CBF0-4B23-8B36-FF118BB7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7C718-B782-4936-B0EE-01D9FF3C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EE971-048F-4D76-B21A-B0E6176B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C8008-4B7C-4123-9F9A-40E609DD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C522A-EFB9-49A7-B291-15B38AE6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FC599-279E-4632-B99B-9E02650E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4ADF-44A8-4F5B-B620-6DDE18B2F61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6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7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69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DA41-6E36-4D1D-9DCE-30D25E5B510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5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771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D6A3-B7BE-4E5F-82EA-BAD6D50A87B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84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66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67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CDD4-6D71-4EC8-A0B2-2637EEEE940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92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322B-8E64-4490-9684-3FD14D1E112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6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7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99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66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67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6C59-67C5-4843-9F12-98A430E58DA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4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07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CEFB-34F7-4581-A8CC-7C800C1BFD2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14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5121-82E8-4FEE-A1DC-E9F060CA18B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8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0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21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F0D2-66EE-43B7-BEF0-00185C5295B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65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AA01-829B-4E98-B659-D77F05650CC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6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D068-E22B-45D8-91CE-D668D89D38D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2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3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25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2758-7A8F-4B97-9061-C7F41450C6B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9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0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327" name="Freeform 65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2182-C626-4723-8584-49EF177C5D7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40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283A-7986-4A8D-BA61-715F60DA42E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4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5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47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5F53-12E7-48A6-97C4-3ED41851973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1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3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54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AFB0-4E84-4B5E-AFDE-7F1276CF06F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9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0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623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796B-E9FA-4472-820E-F17172F661E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itle 1"/>
          <p:cNvSpPr/>
          <p:nvPr/>
        </p:nvSpPr>
        <p:spPr>
          <a:xfrm>
            <a:off x="1600200" y="33480"/>
            <a:ext cx="739152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Content Placeholder 2"/>
          <p:cNvSpPr/>
          <p:nvPr/>
        </p:nvSpPr>
        <p:spPr>
          <a:xfrm>
            <a:off x="152280" y="91440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INVC- Bridging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Arial"/>
              </a:rPr>
              <a:t>Advancing Value Chains of Groundnuts and Soy b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resented at the Annual Review workshop, Lilongwe Hotel, Lilong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ne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3" name="Picture 8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64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6934320" y="5867280"/>
            <a:ext cx="1828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523520" y="446040"/>
            <a:ext cx="3048120" cy="97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  <a:ea typeface="Calibri"/>
              </a:rPr>
              <a:t>Aggregation &amp; Marketing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4743000" y="446040"/>
            <a:ext cx="3791160" cy="541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1240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  <a:ea typeface="Calibri"/>
              </a:rPr>
              <a:t>Prices of soya beans that were offered by the informal traders ranged from MK110/kg to MK170/kg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  <a:ea typeface="Calibri"/>
              </a:rPr>
              <a:t>Linkage of farmer groups -Nyanja and Chitowo Associations to buyers (24.5MT @ MK200/kg for Nyanja and 15.4 MT for Chitowo @MK160/kg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29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30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5940360"/>
            <a:ext cx="1828800" cy="620640"/>
          </a:xfrm>
          <a:prstGeom prst="rect">
            <a:avLst/>
          </a:prstGeom>
          <a:ln w="0">
            <a:noFill/>
          </a:ln>
        </p:spPr>
      </p:pic>
      <p:pic>
        <p:nvPicPr>
          <p:cNvPr id="1331" name="Picture 7" descr="C:\Users\PKabuli\Desktop\Marketing photos\IMG-20170603-WA0020.jpg"/>
          <p:cNvPicPr/>
          <p:nvPr/>
        </p:nvPicPr>
        <p:blipFill>
          <a:blip r:embed="rId3"/>
          <a:stretch/>
        </p:blipFill>
        <p:spPr>
          <a:xfrm>
            <a:off x="3795840" y="3149640"/>
            <a:ext cx="5138640" cy="2976480"/>
          </a:xfrm>
          <a:prstGeom prst="rect">
            <a:avLst/>
          </a:prstGeom>
          <a:ln w="0">
            <a:noFill/>
          </a:ln>
        </p:spPr>
      </p:pic>
      <p:pic>
        <p:nvPicPr>
          <p:cNvPr id="1332" name="Picture 8" descr="C:\Users\PKabuli\Desktop\Field visit photos\DSC_0815.JPG"/>
          <p:cNvPicPr/>
          <p:nvPr/>
        </p:nvPicPr>
        <p:blipFill>
          <a:blip r:embed="rId4"/>
          <a:stretch/>
        </p:blipFill>
        <p:spPr>
          <a:xfrm>
            <a:off x="3825720" y="609480"/>
            <a:ext cx="5108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Value created by the 2 Value chain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34" name=""/>
          <p:cNvGraphicFramePr/>
          <p:nvPr/>
        </p:nvGraphicFramePr>
        <p:xfrm>
          <a:off x="914400" y="2133720"/>
          <a:ext cx="7848720" cy="308592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  <a:gridCol w="1307880"/>
                <a:gridCol w="1308240"/>
                <a:gridCol w="1308240"/>
              </a:tblGrid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od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rea (H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 (Kg/h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ction (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verage Price (MK/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mount (M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12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68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581,6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0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33,060,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/n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32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3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379,9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0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3,971,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147,031,6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</a:tbl>
          </a:graphicData>
        </a:graphic>
      </p:graphicFrame>
      <p:pic>
        <p:nvPicPr>
          <p:cNvPr id="1335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9616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944360" y="623880"/>
            <a:ext cx="65898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Lesson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Despite the message of aggregation and marketing, farmers still prefers CoD mode of trade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Group marketing is being affected by past experiences and lack of trust…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Access to structured market is depended on the volume of production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Challeng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0" name=""/>
          <p:cNvSpPr txBox="1"/>
          <p:nvPr/>
        </p:nvSpPr>
        <p:spPr>
          <a:xfrm>
            <a:off x="1942920" y="1599840"/>
            <a:ext cx="659124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Low pr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Low production- not able to participate in competitive and structured market effectively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Poor quality seed of groundnuts reduced the profitability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Weak farmer groups- not able to participate in the marketing of commodities effectively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Aggregation was affected by past experiences and lack of trus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41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3244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"/>
          <p:cNvSpPr txBox="1"/>
          <p:nvPr/>
        </p:nvSpPr>
        <p:spPr>
          <a:xfrm>
            <a:off x="1523520" y="2133360"/>
            <a:ext cx="67820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entury Gothic"/>
              </a:rPr>
              <a:t>Thanks for your attention!...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44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594036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Presentation outlin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1942920" y="1599840"/>
            <a:ext cx="659124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Introduction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Progress of Achievement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Progress of G/nuts and Soya value chain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Costs and returns structures of G/nuts &amp; Soy beans value chain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Sensitivity Analysis of Soy bean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Progress of seed loan management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Progress of aggregation and marketing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Value created by the 2 chain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Lesson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Challenge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7" name="Picture 2" descr="C:\Users\jkumwenda\Documents\WORK - ACE\11. RAB\FtF Logo.gif"/>
          <p:cNvPicPr/>
          <p:nvPr/>
        </p:nvPicPr>
        <p:blipFill>
          <a:blip r:embed="rId1"/>
          <a:stretch/>
        </p:blipFill>
        <p:spPr>
          <a:xfrm>
            <a:off x="7010280" y="5948280"/>
            <a:ext cx="1828800" cy="62064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4" descr="Description: Standard_USAID_Identity_CMYK"/>
          <p:cNvPicPr/>
          <p:nvPr/>
        </p:nvPicPr>
        <p:blipFill>
          <a:blip r:embed="rId2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600200" y="3312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Introduct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52280" y="91404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Calibri"/>
              </a:rPr>
              <a:t>The strategic objective was to improve the competitiveness of soya and groundnuts through;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684360" indent="-2844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Calibri"/>
              </a:rPr>
              <a:t>increasing access to business development, financial, and extension services;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684360" indent="-2844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Calibri"/>
              </a:rPr>
              <a:t>transforming the relationships between value chain actors; and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684360" indent="-2844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Calibri"/>
              </a:rPr>
              <a:t>developing market linkages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Calibri"/>
              </a:rPr>
              <a:t>Working in 5 districts (Mchinji, Lilongwe, Dedza, Ntcheu, and Mangochi) covering 15 EPAs, targeted 15,051 farmers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1" name="Picture 2" descr="C:\Users\jkumwenda\Documents\WORK - ACE\11. RAB\FtF Logo.gif"/>
          <p:cNvPicPr/>
          <p:nvPr/>
        </p:nvPicPr>
        <p:blipFill>
          <a:blip r:embed="rId1"/>
          <a:stretch/>
        </p:blipFill>
        <p:spPr>
          <a:xfrm>
            <a:off x="7086600" y="5791320"/>
            <a:ext cx="1828800" cy="62064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4" descr="Description: Standard_USAID_Identity_CMYK"/>
          <p:cNvPicPr/>
          <p:nvPr/>
        </p:nvPicPr>
        <p:blipFill>
          <a:blip r:embed="rId2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Text Box 3"/>
          <p:cNvSpPr/>
          <p:nvPr/>
        </p:nvSpPr>
        <p:spPr>
          <a:xfrm>
            <a:off x="838080" y="227664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operators - in different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19"/>
          <p:cNvSpPr/>
          <p:nvPr/>
        </p:nvSpPr>
        <p:spPr>
          <a:xfrm>
            <a:off x="1042920" y="1555920"/>
            <a:ext cx="113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ed and Inoculant pro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AutoShape 20"/>
          <p:cNvSpPr/>
          <p:nvPr/>
        </p:nvSpPr>
        <p:spPr>
          <a:xfrm>
            <a:off x="826920" y="1555920"/>
            <a:ext cx="1584360" cy="50472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44" y="0"/>
                </a:lnTo>
                <a:lnTo>
                  <a:pt x="21600" y="10800"/>
                </a:lnTo>
                <a:lnTo>
                  <a:pt x="18444" y="21600"/>
                </a:lnTo>
                <a:lnTo>
                  <a:pt x="0" y="21600"/>
                </a:lnTo>
                <a:lnTo>
                  <a:pt x="3156" y="108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22"/>
          <p:cNvSpPr/>
          <p:nvPr/>
        </p:nvSpPr>
        <p:spPr>
          <a:xfrm>
            <a:off x="2771640" y="1635120"/>
            <a:ext cx="11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odu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AutoShape 23"/>
          <p:cNvSpPr/>
          <p:nvPr/>
        </p:nvSpPr>
        <p:spPr>
          <a:xfrm>
            <a:off x="2411280" y="1530360"/>
            <a:ext cx="1584360" cy="5238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8" y="0"/>
                </a:lnTo>
                <a:lnTo>
                  <a:pt x="21600" y="10800"/>
                </a:lnTo>
                <a:lnTo>
                  <a:pt x="18318" y="21600"/>
                </a:lnTo>
                <a:lnTo>
                  <a:pt x="0" y="21600"/>
                </a:lnTo>
                <a:lnTo>
                  <a:pt x="3282" y="108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AutoShape 25"/>
          <p:cNvSpPr/>
          <p:nvPr/>
        </p:nvSpPr>
        <p:spPr>
          <a:xfrm>
            <a:off x="3994200" y="1530360"/>
            <a:ext cx="1584360" cy="5238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8" y="0"/>
                </a:lnTo>
                <a:lnTo>
                  <a:pt x="21600" y="10800"/>
                </a:lnTo>
                <a:lnTo>
                  <a:pt x="18318" y="21600"/>
                </a:lnTo>
                <a:lnTo>
                  <a:pt x="0" y="21600"/>
                </a:lnTo>
                <a:lnTo>
                  <a:pt x="3282" y="108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 Box 26"/>
          <p:cNvSpPr/>
          <p:nvPr/>
        </p:nvSpPr>
        <p:spPr>
          <a:xfrm>
            <a:off x="4348080" y="1555920"/>
            <a:ext cx="10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AutoShape 28"/>
          <p:cNvSpPr/>
          <p:nvPr/>
        </p:nvSpPr>
        <p:spPr>
          <a:xfrm>
            <a:off x="5508720" y="1530360"/>
            <a:ext cx="1584360" cy="5238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8" y="0"/>
                </a:lnTo>
                <a:lnTo>
                  <a:pt x="21600" y="10800"/>
                </a:lnTo>
                <a:lnTo>
                  <a:pt x="18318" y="21600"/>
                </a:lnTo>
                <a:lnTo>
                  <a:pt x="0" y="21600"/>
                </a:lnTo>
                <a:lnTo>
                  <a:pt x="3282" y="108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29"/>
          <p:cNvSpPr/>
          <p:nvPr/>
        </p:nvSpPr>
        <p:spPr>
          <a:xfrm>
            <a:off x="5867280" y="1587600"/>
            <a:ext cx="110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ran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43"/>
          <p:cNvSpPr/>
          <p:nvPr/>
        </p:nvSpPr>
        <p:spPr>
          <a:xfrm>
            <a:off x="917640" y="2924280"/>
            <a:ext cx="125892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44"/>
          <p:cNvSpPr/>
          <p:nvPr/>
        </p:nvSpPr>
        <p:spPr>
          <a:xfrm>
            <a:off x="936720" y="2976480"/>
            <a:ext cx="1258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oduc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unwe – 119MT Makwac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useco- 21MT Tikol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ISL-40MT CG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lobal Seeds- 30MT CG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45"/>
          <p:cNvSpPr/>
          <p:nvPr/>
        </p:nvSpPr>
        <p:spPr>
          <a:xfrm>
            <a:off x="2197080" y="3211560"/>
            <a:ext cx="358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5" name="Group 46"/>
          <p:cNvGrpSpPr/>
          <p:nvPr/>
        </p:nvGrpSpPr>
        <p:grpSpPr>
          <a:xfrm>
            <a:off x="2556000" y="2924280"/>
            <a:ext cx="1762560" cy="2154240"/>
            <a:chOff x="2556000" y="2924280"/>
            <a:chExt cx="1762560" cy="2154240"/>
          </a:xfrm>
        </p:grpSpPr>
        <p:sp>
          <p:nvSpPr>
            <p:cNvPr id="1286" name="Rectangle 47"/>
            <p:cNvSpPr/>
            <p:nvPr/>
          </p:nvSpPr>
          <p:spPr>
            <a:xfrm>
              <a:off x="2556000" y="2924280"/>
              <a:ext cx="1127160" cy="57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Text Box 48"/>
            <p:cNvSpPr/>
            <p:nvPr/>
          </p:nvSpPr>
          <p:spPr>
            <a:xfrm>
              <a:off x="2603160" y="3066480"/>
              <a:ext cx="171540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rm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rmer grou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oci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pera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582MT of soy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380MT of G/nu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Line 49"/>
            <p:cNvSpPr/>
            <p:nvPr/>
          </p:nvSpPr>
          <p:spPr>
            <a:xfrm>
              <a:off x="3708360" y="3199680"/>
              <a:ext cx="3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9" name="Group 50"/>
          <p:cNvGrpSpPr/>
          <p:nvPr/>
        </p:nvGrpSpPr>
        <p:grpSpPr>
          <a:xfrm>
            <a:off x="4067280" y="2924280"/>
            <a:ext cx="2022120" cy="2477880"/>
            <a:chOff x="4067280" y="2924280"/>
            <a:chExt cx="2022120" cy="2477880"/>
          </a:xfrm>
        </p:grpSpPr>
        <p:sp>
          <p:nvSpPr>
            <p:cNvPr id="1290" name="Rectangle 51"/>
            <p:cNvSpPr/>
            <p:nvPr/>
          </p:nvSpPr>
          <p:spPr>
            <a:xfrm>
              <a:off x="4067280" y="2924280"/>
              <a:ext cx="1152360" cy="648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Text Box 52"/>
            <p:cNvSpPr/>
            <p:nvPr/>
          </p:nvSpPr>
          <p:spPr>
            <a:xfrm>
              <a:off x="4107240" y="3177000"/>
              <a:ext cx="198216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l tr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l tr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ods for Go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nga tr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CE Platfor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K110-200/kg Soy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K270-330/kg G/nu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Line 53"/>
            <p:cNvSpPr/>
            <p:nvPr/>
          </p:nvSpPr>
          <p:spPr>
            <a:xfrm>
              <a:off x="5219640" y="3226680"/>
              <a:ext cx="3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3" name="Group 54"/>
          <p:cNvGrpSpPr/>
          <p:nvPr/>
        </p:nvGrpSpPr>
        <p:grpSpPr>
          <a:xfrm>
            <a:off x="5580000" y="2924280"/>
            <a:ext cx="1511280" cy="672480"/>
            <a:chOff x="5580000" y="2924280"/>
            <a:chExt cx="1511280" cy="672480"/>
          </a:xfrm>
        </p:grpSpPr>
        <p:sp>
          <p:nvSpPr>
            <p:cNvPr id="1294" name="Rectangle 55"/>
            <p:cNvSpPr/>
            <p:nvPr/>
          </p:nvSpPr>
          <p:spPr>
            <a:xfrm>
              <a:off x="5580000" y="2924280"/>
              <a:ext cx="1152720" cy="57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Text Box 56"/>
            <p:cNvSpPr/>
            <p:nvPr/>
          </p:nvSpPr>
          <p:spPr>
            <a:xfrm>
              <a:off x="5580000" y="3076560"/>
              <a:ext cx="1287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n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Line 57"/>
            <p:cNvSpPr/>
            <p:nvPr/>
          </p:nvSpPr>
          <p:spPr>
            <a:xfrm>
              <a:off x="6732720" y="3200040"/>
              <a:ext cx="358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7" name="Oval 58"/>
          <p:cNvSpPr/>
          <p:nvPr/>
        </p:nvSpPr>
        <p:spPr>
          <a:xfrm>
            <a:off x="7093080" y="2924280"/>
            <a:ext cx="1511280" cy="576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 Box 59"/>
          <p:cNvSpPr/>
          <p:nvPr/>
        </p:nvSpPr>
        <p:spPr>
          <a:xfrm>
            <a:off x="7311600" y="2924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 Box 65"/>
          <p:cNvSpPr/>
          <p:nvPr/>
        </p:nvSpPr>
        <p:spPr>
          <a:xfrm>
            <a:off x="1547640" y="11160"/>
            <a:ext cx="62168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rogress of Achievement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  <a:ea typeface="Arial"/>
              </a:rPr>
              <a:t>G/nuts and </a:t>
            </a: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oy beans Value Ch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feld 43"/>
          <p:cNvSpPr/>
          <p:nvPr/>
        </p:nvSpPr>
        <p:spPr>
          <a:xfrm>
            <a:off x="7242120" y="14842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40404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40404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59"/>
          <p:cNvSpPr/>
          <p:nvPr/>
        </p:nvSpPr>
        <p:spPr>
          <a:xfrm>
            <a:off x="7301520" y="317340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Seg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2" name="Picture 30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290520" y="6060960"/>
            <a:ext cx="1905120" cy="71136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79132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  <a:ea typeface="Calibri"/>
              </a:rPr>
              <a:t>Costs and Returns structure of G/nuts and Soy beans Value Chains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306" name=""/>
          <p:cNvGraphicFramePr/>
          <p:nvPr/>
        </p:nvGraphicFramePr>
        <p:xfrm>
          <a:off x="1960560" y="2193840"/>
          <a:ext cx="6573960" cy="4145040"/>
        </p:xfrm>
        <a:graphic>
          <a:graphicData uri="http://schemas.openxmlformats.org/drawingml/2006/table">
            <a:tbl>
              <a:tblPr/>
              <a:tblGrid>
                <a:gridCol w="2306520"/>
                <a:gridCol w="2076480"/>
                <a:gridCol w="2190960"/>
              </a:tblGrid>
              <a:tr h="91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oy beans-Makwac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/nuts- CG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68kg/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3.62kg/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160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300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variable c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12,121.00/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29,36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ss 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34,880.00/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89,086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ss marg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2,7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59,726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reak-even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144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38.02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</a:tbl>
          </a:graphicData>
        </a:graphic>
      </p:graphicFrame>
      <p:pic>
        <p:nvPicPr>
          <p:cNvPr id="1307" name="Picture 5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55440" y="6134040"/>
            <a:ext cx="1905120" cy="71136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617868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Sensitivity Analysis for Soy beans (‘What if’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10" name=""/>
          <p:cNvGraphicFramePr/>
          <p:nvPr/>
        </p:nvGraphicFramePr>
        <p:xfrm>
          <a:off x="1219320" y="2133720"/>
          <a:ext cx="7467480" cy="2565360"/>
        </p:xfrm>
        <a:graphic>
          <a:graphicData uri="http://schemas.openxmlformats.org/drawingml/2006/table">
            <a:tbl>
              <a:tblPr/>
              <a:tblGrid>
                <a:gridCol w="1079280"/>
                <a:gridCol w="1054080"/>
                <a:gridCol w="1067040"/>
                <a:gridCol w="1066680"/>
                <a:gridCol w="1066680"/>
                <a:gridCol w="1067040"/>
                <a:gridCol w="106668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ce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Yield (Kg/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Variable cost (M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rice (MK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ross Income (M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M (MK/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BEP (MK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at If?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2,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(52,1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212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at If?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2,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07,8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106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</a:tbl>
          </a:graphicData>
        </a:graphic>
      </p:graphicFrame>
      <p:pic>
        <p:nvPicPr>
          <p:cNvPr id="1311" name="Picture 4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201080" y="6110280"/>
            <a:ext cx="1828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944360" y="623880"/>
            <a:ext cx="65898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Seed Loan manageme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1942920" y="1676160"/>
            <a:ext cx="659124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140MT of Soy and 70MT of CG7 was loaned to farmer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The rate of repayment varied from one partner to the other but the majority of partners used 1:2 system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Repayment rate for FGs ranges from 40% to 100%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The initial plan for the seed loan was to sell the repaid grain and use the proceeds to buy new certified seed????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However, there is a challenge that the loan amount will be tremendously reduced………….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15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5152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523880" y="623520"/>
            <a:ext cx="739152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Seed Loan manageme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1523520" y="1464840"/>
            <a:ext cx="7086600" cy="43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For example, if we assume 1:2 repayment with 80% repayment rate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In view of this, plans are underway to establish a sustainable seed management system-borrowing from Chithumba model- where repayment is as high as 1:4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19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35680"/>
            <a:ext cx="182880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1" name=""/>
          <p:cNvGraphicFramePr/>
          <p:nvPr/>
        </p:nvGraphicFramePr>
        <p:xfrm>
          <a:off x="1523880" y="2305080"/>
          <a:ext cx="7086600" cy="2114640"/>
        </p:xfrm>
        <a:graphic>
          <a:graphicData uri="http://schemas.openxmlformats.org/drawingml/2006/table">
            <a:tbl>
              <a:tblPr/>
              <a:tblGrid>
                <a:gridCol w="609840"/>
                <a:gridCol w="990360"/>
                <a:gridCol w="1143000"/>
                <a:gridCol w="990720"/>
                <a:gridCol w="838080"/>
                <a:gridCol w="685800"/>
                <a:gridCol w="990720"/>
                <a:gridCol w="838080"/>
              </a:tblGrid>
              <a:tr h="903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e ch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ity distribu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e (M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ed repay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% repay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 Pric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unt (M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th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604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6,825,2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4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5,84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600" spc="-1" strike="noStrike">
                          <a:solidFill>
                            <a:srgbClr val="00b0f0"/>
                          </a:solidFill>
                          <a:latin typeface="Calibri"/>
                        </a:rPr>
                        <a:t>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60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/n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9,568,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3,6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600" spc="-1" strike="noStrike">
                          <a:solidFill>
                            <a:srgbClr val="00b0f0"/>
                          </a:solidFill>
                          <a:latin typeface="Calibri"/>
                        </a:rPr>
                        <a:t>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Aggregation and Marketing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1942920" y="16761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Trained 27 (8F, 19M)frontline staff (DAES, We-Effect, Dedza CADECOM) on formulation of aggregation &amp; marketing plans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Trained 274 (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  <a:ea typeface="Calibri"/>
              </a:rPr>
              <a:t>129F, 145M)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farmers on formulation of aggregation &amp; marketing pla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Over 350MT of soya was aggregated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The market prices are volatile……….fluctuating almost everyday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24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25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593568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5T17:20:52Z</dcterms:created>
  <dc:creator>ajuba</dc:creator>
  <dc:description/>
  <dc:language>en-US</dc:language>
  <cp:lastModifiedBy>Kabuli, Pelius (IITA)</cp:lastModifiedBy>
  <dcterms:modified xsi:type="dcterms:W3CDTF">2017-06-29T08:12:21Z</dcterms:modified>
  <cp:revision>163</cp:revision>
  <dc:subject/>
  <dc:title>Slide 1</dc:title>
</cp:coreProperties>
</file>