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2F17-C35A-4808-8EBA-6DA1802447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B46B-91EF-4A3F-8C85-06F3CF81E9E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4F4E-7804-48EC-BF80-89F33BBC6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9044-D17B-4D8F-936A-8DC10940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5C9A-4BC0-4FE0-A81F-29B0AEE2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AC5F-25DC-44FA-AB6E-AD25DA48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C688-8CD0-4290-BC8D-0E66885D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62AF-7246-46E6-A84B-A908ADD2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87E7-E12A-43F0-9EDD-DC8D919B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06F1-320C-4E24-BB43-D9D7DCF7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CAD2-6EDC-476A-BED0-02E3DC09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7F21-2FDC-4C6C-8E50-A8743A9F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FA6B-0CE3-48AA-8963-552BB78FD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A662-5CE0-4BFA-8D65-C43968DA8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4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75" name="Picture 3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4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15" name="TextBox 2"/>
          <p:cNvSpPr/>
          <p:nvPr/>
        </p:nvSpPr>
        <p:spPr>
          <a:xfrm>
            <a:off x="0" y="2057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AR_Global_partners.jpg"/>
          <p:cNvPicPr/>
          <p:nvPr/>
        </p:nvPicPr>
        <p:blipFill>
          <a:blip r:embed="rId4"/>
          <a:stretch/>
        </p:blipFill>
        <p:spPr>
          <a:xfrm>
            <a:off x="1733400" y="5533920"/>
            <a:ext cx="5677200" cy="5619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2A75-A924-458A-8425-E7FC3AE5F7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gsikumba@cgiar.org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1920" y="1218960"/>
            <a:ext cx="8610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13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articipatory on Farm Evaluation of Improved Napier grass (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Pennisetum purpureum)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accessions in northern Tanzania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373392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98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egory N Sikumb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en Lukuy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Charles Gachuir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Walter Mangesh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esto Ngul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Mateete Bekund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ernational Livestock Research Institute, (ILRI), Nairobi, Keny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niversity of Nairobi, Department of Animal Production, Nairobi, Keny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anzania Livestock Research Institute, (TALIRI), Tanga, Tanz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ernational Institute of Tropical Agriculture, (IITA), Arusha, Tanz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rresponding author: </a:t>
            </a:r>
            <a:r>
              <a:rPr b="0" lang="en-US" sz="1400" spc="-1" strike="noStrike" u="sng">
                <a:solidFill>
                  <a:srgbClr val="6b9f25"/>
                </a:solidFill>
                <a:uFillTx/>
                <a:latin typeface="Calibri"/>
                <a:hlinkClick r:id="rId1"/>
              </a:rPr>
              <a:t>gsikumba@cgiar.or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Content Placeholder 2"/>
          <p:cNvSpPr/>
          <p:nvPr/>
        </p:nvSpPr>
        <p:spPr>
          <a:xfrm>
            <a:off x="406440" y="1981080"/>
            <a:ext cx="861048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anzania, feed and livestock feed technology adoption is a major constraint to livestock produ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equently, livestock feed availability is one of the major problems hindering livestock produ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loiting potential of IMPROVED FORAGES as animal FEED (Napier grass access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will facilitating the intensification of forages into existing crop-livestock farm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98360" y="1333440"/>
            <a:ext cx="883944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1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aluate the performance of six Napier grass accessions and establish farmers’ criteria for Napier grass accession selec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57240" y="5330880"/>
            <a:ext cx="29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apier gr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7" descr=""/>
          <p:cNvPicPr/>
          <p:nvPr/>
        </p:nvPicPr>
        <p:blipFill>
          <a:blip r:embed="rId1"/>
          <a:stretch/>
        </p:blipFill>
        <p:spPr>
          <a:xfrm>
            <a:off x="30240" y="2860560"/>
            <a:ext cx="3398760" cy="2470320"/>
          </a:xfrm>
          <a:prstGeom prst="rect">
            <a:avLst/>
          </a:prstGeom>
          <a:ln w="0">
            <a:noFill/>
          </a:ln>
        </p:spPr>
      </p:pic>
      <p:sp>
        <p:nvSpPr>
          <p:cNvPr id="209" name="Title 1"/>
          <p:cNvSpPr/>
          <p:nvPr/>
        </p:nvSpPr>
        <p:spPr>
          <a:xfrm>
            <a:off x="5105520" y="2438280"/>
            <a:ext cx="182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3232"/>
                </a:solidFill>
                <a:latin typeface="Calibri"/>
              </a:rPr>
              <a:t>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"/>
          <p:cNvSpPr/>
          <p:nvPr/>
        </p:nvSpPr>
        <p:spPr>
          <a:xfrm>
            <a:off x="3429000" y="2895480"/>
            <a:ext cx="5451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00000"/>
              </a:lnSpc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Six Napier grass accessions (KK2, KK1, ILRI 16837, ILRI 16835, ILRI 16803 and ILRI 1498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Harvested at six and eight weeks from 3 field trials replicated 3 tim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in a randomized complete block desig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Two cuts per season of growth, nutrition and yield data was collected for two seas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0 Farmers identified and ranked their preferred Napier grass characteristics and accessions using pairwise rank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"/>
          <p:cNvSpPr/>
          <p:nvPr/>
        </p:nvSpPr>
        <p:spPr>
          <a:xfrm>
            <a:off x="76320" y="5645160"/>
            <a:ext cx="2762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r-wise ranking wa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ight Arrow 2"/>
          <p:cNvSpPr/>
          <p:nvPr/>
        </p:nvSpPr>
        <p:spPr>
          <a:xfrm>
            <a:off x="2841480" y="5791320"/>
            <a:ext cx="587520" cy="13968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73080" y="6014880"/>
            <a:ext cx="37796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o initiate the trials, farmer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roups were used to select the farmers and as a learning platform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-6480" y="1590480"/>
            <a:ext cx="4011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02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Overall Mean dry matter (DM) yields (t ha</a:t>
            </a:r>
            <a:r>
              <a:rPr b="1" lang="en-GB" sz="16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) of six Napier grass access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7760" y="914400"/>
            <a:ext cx="358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91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sults……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73160" y="2124000"/>
          <a:ext cx="3636720" cy="1927440"/>
        </p:xfrm>
        <a:graphic>
          <a:graphicData uri="http://schemas.openxmlformats.org/drawingml/2006/table">
            <a:tbl>
              <a:tblPr/>
              <a:tblGrid>
                <a:gridCol w="1434960"/>
                <a:gridCol w="712800"/>
                <a:gridCol w="649440"/>
                <a:gridCol w="839520"/>
              </a:tblGrid>
              <a:tr h="24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ces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280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3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4 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3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8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K2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0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13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0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3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3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0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8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K1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1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50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0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0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4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0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80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498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5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93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2765520" y="4467240"/>
          <a:ext cx="6226200" cy="2325600"/>
        </p:xfrm>
        <a:graphic>
          <a:graphicData uri="http://schemas.openxmlformats.org/drawingml/2006/table">
            <a:tbl>
              <a:tblPr/>
              <a:tblGrid>
                <a:gridCol w="1595520"/>
                <a:gridCol w="1771560"/>
                <a:gridCol w="1773000"/>
                <a:gridCol w="1086120"/>
              </a:tblGrid>
              <a:tr h="4266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c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lant He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Tillers per Pla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aves Per til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 and 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 and 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 and 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 149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.50(17.3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.33(18.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83(1.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 168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.83(16.8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.83(31.4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17(4.1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 168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.33(75.3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.17(15.5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33(1.7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 168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.67(17.9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33(3.0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3(0.5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2.00(6.0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.00(5.5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00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K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7.33(20.8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.33(18.6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33(2.0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005000" y="1603080"/>
            <a:ext cx="4925880" cy="29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spcBef>
                <a:spcPts val="499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 both years, ILRI 16835 performed better than the rest of the accessions and was significantly different (P&gt;0.05) from ILRI 14984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342720">
              <a:spcBef>
                <a:spcPts val="499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average, the tallest accessions were in the order ILRI 16835&gt;ILRI 16837&gt;ILRI 14984&gt;KK1&gt;ILRI16803&gt;KK2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60200" y="4051080"/>
            <a:ext cx="3649680" cy="5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ab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Calibri"/>
              </a:rPr>
              <a:t>Treatment means followed by the same letter superscript in the same row do not differ significantly (P &lt;0.05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92160" y="5334120"/>
            <a:ext cx="2270160" cy="10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Napier grass accessions growth characteristic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ight Arrow 4"/>
          <p:cNvSpPr/>
          <p:nvPr/>
        </p:nvSpPr>
        <p:spPr>
          <a:xfrm>
            <a:off x="2438280" y="5738760"/>
            <a:ext cx="250920" cy="22860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242640" y="1793520"/>
            <a:ext cx="83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utritional Quality of the six established Napier grass accessions under stud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362320" y="977400"/>
            <a:ext cx="5029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104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Results………cont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04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228600" y="2281320"/>
          <a:ext cx="7010280" cy="4172040"/>
        </p:xfrm>
        <a:graphic>
          <a:graphicData uri="http://schemas.openxmlformats.org/drawingml/2006/table">
            <a:tbl>
              <a:tblPr/>
              <a:tblGrid>
                <a:gridCol w="868320"/>
                <a:gridCol w="617760"/>
                <a:gridCol w="849240"/>
                <a:gridCol w="941400"/>
                <a:gridCol w="990360"/>
                <a:gridCol w="914400"/>
                <a:gridCol w="914400"/>
                <a:gridCol w="914400"/>
              </a:tblGrid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K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49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66 (3.5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33 (3.6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26 (3.3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38 (3.3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24 (11.3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66 (4.7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00 (4.4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.13 (3.5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.34 (3.1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.74 (3.3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.62 (3.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.76 (11.3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.34 (4.7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.88 (4.3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4    (0.2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5   (0.3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5   (0.2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2   (0.3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0   (0.4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7  (0.4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9 (0.3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3   (1.6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66   (3.7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06   (1.7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66   (2.3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61 (2.5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15  (2.5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85 (2.6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9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D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.49 (2.6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.81 (4.0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.65  (3.6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.48  (4.4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.85 (8.0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.52 (6.9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.65 (4.9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.31 (3.9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.36 (4.3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.56 (4.8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.12 (3.8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.82 (4.4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.39 (4.4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.79 (4.3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81   (0.5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7   (2.6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06   (0.6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12   (0.7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83   (0.7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83  (0.6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11 (1.5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O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.69 (7.7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.77 (5.9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.99 (6.2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.03 (7.6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78  (6.5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.02 (11.4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.74 (7.4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  <p:sp>
        <p:nvSpPr>
          <p:cNvPr id="225" name="Text Placeholder 6"/>
          <p:cNvSpPr/>
          <p:nvPr/>
        </p:nvSpPr>
        <p:spPr>
          <a:xfrm>
            <a:off x="7238880" y="2481120"/>
            <a:ext cx="17528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9960" indent="-285480">
              <a:lnSpc>
                <a:spcPct val="100000"/>
              </a:lnSpc>
              <a:spcBef>
                <a:spcPts val="349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LRI 16803 showed high average levels of Crude protein (CP) (10.61%) and Nitrogen (N) (1.7%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349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349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LRI 16835 had the lowest levels of CP (7.66%) and N (1.22%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860560" y="826560"/>
            <a:ext cx="373392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sults………con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2"/>
          <p:cNvSpPr/>
          <p:nvPr/>
        </p:nvSpPr>
        <p:spPr>
          <a:xfrm>
            <a:off x="4727520" y="1882800"/>
            <a:ext cx="4330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ers ranked ILRI 16835 as the best performing acce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rmer ranked KK2 as the best performing acc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RI 16803 remained the worst ranked acc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2"/>
          <p:cNvSpPr/>
          <p:nvPr/>
        </p:nvSpPr>
        <p:spPr>
          <a:xfrm>
            <a:off x="289080" y="5160960"/>
            <a:ext cx="41907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most important criteria for adoption of Napier grass access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22400" y="1874880"/>
          <a:ext cx="4525920" cy="2438280"/>
        </p:xfrm>
        <a:graphic>
          <a:graphicData uri="http://schemas.openxmlformats.org/drawingml/2006/table">
            <a:tbl>
              <a:tblPr/>
              <a:tblGrid>
                <a:gridCol w="1466640"/>
                <a:gridCol w="1443240"/>
                <a:gridCol w="1616040"/>
              </a:tblGrid>
              <a:tr h="610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c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rmers’ 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earchers’ 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K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K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49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  <p:sp>
        <p:nvSpPr>
          <p:cNvPr id="230" name="TextBox 2"/>
          <p:cNvSpPr/>
          <p:nvPr/>
        </p:nvSpPr>
        <p:spPr>
          <a:xfrm>
            <a:off x="42840" y="426420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ale: 1: The Best, 6: The Wor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"/>
          <p:cNvSpPr/>
          <p:nvPr/>
        </p:nvSpPr>
        <p:spPr>
          <a:xfrm>
            <a:off x="54000" y="1554120"/>
            <a:ext cx="604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anking of the six selected accessions by farmers and researc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Chart 10"/>
          <p:cNvGraphicFramePr/>
          <p:nvPr/>
        </p:nvGraphicFramePr>
        <p:xfrm>
          <a:off x="4780080" y="4343400"/>
          <a:ext cx="4225680" cy="243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3" name="Char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0080" y="4343400"/>
                    <a:ext cx="4225680" cy="24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428640" y="762120"/>
            <a:ext cx="2895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onclusion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28600" y="1546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research findings show that KK2, ILRI 16835, KK1 and ILRI 16837 consistently produced higher yield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e accessions were also ranked as the ‘best bet’ accessions for adoption from farmers overall preference scor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rmers appreciated the importance of participatory variety selection of the different accessions rather than empirical selection on yield and nutritional quality onl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was seen were KK2 was preferred even if it was not the most productive variety empirically in terms of yield and Nutritional qualit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a nutshell, farmers forage selection criteria should be taken into consideration in forage breeding programs to enhance adoption when scal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2"/>
          <p:cNvSpPr/>
          <p:nvPr/>
        </p:nvSpPr>
        <p:spPr>
          <a:xfrm>
            <a:off x="2666880" y="3733920"/>
            <a:ext cx="419112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56734"/>
                </a:solidFill>
                <a:latin typeface="Arial"/>
              </a:rPr>
              <a:t>THANK YO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0T16:51:30Z</dcterms:created>
  <dc:creator>user</dc:creator>
  <dc:description/>
  <dc:language>en-US</dc:language>
  <cp:lastModifiedBy>Sikumba, Gregory (ILRI)</cp:lastModifiedBy>
  <cp:lastPrinted>2011-10-06T11:45:23Z</cp:lastPrinted>
  <dcterms:modified xsi:type="dcterms:W3CDTF">2016-06-30T10:19:46Z</dcterms:modified>
  <cp:revision>176</cp:revision>
  <dc:subject/>
  <dc:title>Slide 1</dc:title>
</cp:coreProperties>
</file>