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1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</p:sldIdLst>
  <p:sldSz cx="9144000" cy="6858000"/>
  <p:notesSz cx="6761163" cy="9942513"/>
</p:presentation>
</file>

<file path=ppt/commentAuthors.xml><?xml version="1.0" encoding="utf-8"?>
<p:cmAuthorLst xmlns:p="http://schemas.openxmlformats.org/presentationml/2006/main">
  <p:cmAuthor id="0" name="Hoeschle-Zeledon" initials="H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presProps" Target="presProps.xml"/><Relationship Id="rId35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16-06-23T10:39:42.336000000" idx="1">
    <p:pos x="2850" y="1612"/>
    <p:text>Has the research also evolved? Yes. 
I would add a bullet on research evolution.  From jumpstarts to separate components to integrated packages.  Themes building on each other, the Rusike diagram. And systems approach based on typologies.
Plus developing  a farnework for measuring SI.
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3D1D-DBEB-4FFF-B3FA-D5431786E4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06B8-F9EE-4422-AB28-D7C000D215F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Slide Number Placeholder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4B75-1120-4BA3-86E1-F1086EAB976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23AE-4E77-4E8E-9ACC-875A5E12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058F-1B9B-4C8D-B726-C94E9F53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E50-F8F6-49D1-A476-E84D1A58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703F-6BF5-4BE1-877C-6B8563AA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F512-B44D-41A3-8DC6-D6D78876D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C0D-059C-489F-8694-1F38B39F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8066-8266-4BA6-9D5E-9EBEDB3A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EC79-6C9A-4CD2-9ECA-A69D8DF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7506-FC29-4B7C-9261-99A04FB9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F1F-4B4D-41D4-B794-215D673B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B8D-D61B-4305-8A4F-A759005CD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858A-9CDC-4FF2-B271-02E66284B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57.xml"/><Relationship Id="rId8" Type="http://schemas.openxmlformats.org/officeDocument/2006/relationships/slideLayout" Target="../slideLayouts/slideLayout158.xml"/><Relationship Id="rId9" Type="http://schemas.openxmlformats.org/officeDocument/2006/relationships/slideLayout" Target="../slideLayouts/slideLayout159.xml"/><Relationship Id="rId10" Type="http://schemas.openxmlformats.org/officeDocument/2006/relationships/slideLayout" Target="../slideLayouts/slideLayout160.xml"/><Relationship Id="rId11" Type="http://schemas.openxmlformats.org/officeDocument/2006/relationships/slideLayout" Target="../slideLayouts/slideLayout161.xml"/><Relationship Id="rId12" Type="http://schemas.openxmlformats.org/officeDocument/2006/relationships/slideLayout" Target="../slideLayouts/slideLayout162.xml"/><Relationship Id="rId13" Type="http://schemas.openxmlformats.org/officeDocument/2006/relationships/slideLayout" Target="../slideLayouts/slideLayout163.xml"/><Relationship Id="rId14" Type="http://schemas.openxmlformats.org/officeDocument/2006/relationships/slideLayout" Target="../slideLayouts/slideLayout164.xml"/><Relationship Id="rId15" Type="http://schemas.openxmlformats.org/officeDocument/2006/relationships/slideLayout" Target="../slideLayouts/slideLayout165.xml"/><Relationship Id="rId16" Type="http://schemas.openxmlformats.org/officeDocument/2006/relationships/slideLayout" Target="../slideLayouts/slideLayout166.xml"/><Relationship Id="rId17" Type="http://schemas.openxmlformats.org/officeDocument/2006/relationships/slideLayout" Target="../slideLayouts/slideLayout167.xml"/><Relationship Id="rId18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0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2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44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6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87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0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91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2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3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1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1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7"/>
    <p:sldLayoutId id="2147483819" r:id="rId8"/>
    <p:sldLayoutId id="2147483820" r:id="rId9"/>
    <p:sldLayoutId id="2147483821" r:id="rId10"/>
    <p:sldLayoutId id="2147483822" r:id="rId11"/>
    <p:sldLayoutId id="2147483823" r:id="rId12"/>
    <p:sldLayoutId id="2147483824" r:id="rId13"/>
    <p:sldLayoutId id="2147483825" r:id="rId14"/>
    <p:sldLayoutId id="2147483826" r:id="rId15"/>
    <p:sldLayoutId id="2147483827" r:id="rId16"/>
    <p:sldLayoutId id="2147483828" r:id="rId17"/>
    <p:sldLayoutId id="2147483829" r:id="rId18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55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56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6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BABAA-923D-456C-B11E-4C5987BCBD75}" type="slidenum">
              <a:rPr b="0" lang="en-US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16" descr=""/>
          <p:cNvPicPr/>
          <p:nvPr/>
        </p:nvPicPr>
        <p:blipFill>
          <a:blip r:embed="rId2"/>
          <a:srcRect l="0" t="15856" r="0" b="9061"/>
          <a:stretch/>
        </p:blipFill>
        <p:spPr>
          <a:xfrm>
            <a:off x="8404200" y="5894280"/>
            <a:ext cx="663480" cy="430200"/>
          </a:xfrm>
          <a:prstGeom prst="rect">
            <a:avLst/>
          </a:prstGeom>
          <a:ln w="0">
            <a:noFill/>
          </a:ln>
        </p:spPr>
      </p:pic>
      <p:sp>
        <p:nvSpPr>
          <p:cNvPr id="646" name="TextBox 4"/>
          <p:cNvSpPr/>
          <p:nvPr/>
        </p:nvSpPr>
        <p:spPr>
          <a:xfrm>
            <a:off x="822240" y="633888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TERNATIONAL CONFERENCE ON CLIMATE CHANGE AND MULTI-DIMENSIONAL SUSTAINABILITY IN AFRICAN 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6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6002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"/>
              </a:rPr>
              <a:t>Overview of Year I Planned activities and outpu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frica RISING: Going to scale in the Eastern Province of Zamb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"/>
              </a:rPr>
              <a:t>Annual Review and Planning Mee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30-31 August, 2016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Gill Sans"/>
              </a:rPr>
              <a:t>Lusaka, Zambia</a:t>
            </a: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087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/>
          </p:nvPr>
        </p:nvSpPr>
        <p:spPr>
          <a:xfrm>
            <a:off x="456840" y="10663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2 Targets (Give for 2016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28600" y="1752480"/>
          <a:ext cx="7620120" cy="4953240"/>
        </p:xfrm>
        <a:graphic>
          <a:graphicData uri="http://schemas.openxmlformats.org/drawingml/2006/table">
            <a:tbl>
              <a:tblPr/>
              <a:tblGrid>
                <a:gridCol w="2438280"/>
                <a:gridCol w="5181840"/>
              </a:tblGrid>
              <a:tr h="554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pre-basic and basic vine cuttings for further multiplication produc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3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e multipliers recruited and trai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undles of vines ready for dissemin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46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c 2015 to July 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beneficiaries  disagregated by gen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968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agro dealers piloted as selling points of vi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84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 2015 to 31 July 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network by gro-dealers (number serv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953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July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under dissemin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68256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ainings, demos, flyers, sign posts, radio programs and adverts, field days and cooking de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4928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varieties released or  near rele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9700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echnologies developed/validat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73040"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 2015 to Sep 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enterprises developed from OFSP linka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762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1029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3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4" name=""/>
          <p:cNvGraphicFramePr/>
          <p:nvPr/>
        </p:nvGraphicFramePr>
        <p:xfrm>
          <a:off x="152280" y="1371600"/>
          <a:ext cx="8839440" cy="5514840"/>
        </p:xfrm>
        <a:graphic>
          <a:graphicData uri="http://schemas.openxmlformats.org/drawingml/2006/table">
            <a:tbl>
              <a:tblPr/>
              <a:tblGrid>
                <a:gridCol w="2438640"/>
                <a:gridCol w="685800"/>
                <a:gridCol w="4190760"/>
                <a:gridCol w="1524240"/>
              </a:tblGrid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sustainably intensify maize dominated cropping syst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eached;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0% increase in maize yiel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0 farmers 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using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tensify maize/ legume intercropping syste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requirement for seeding to allow for timely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30 % reduction in labour for plant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430920">
                <a:tc rowSpan="2"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reduce labour for women and children for weed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 households reached with the technology; 30% reduction in labor for wee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 farmers using the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25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 farmers with plots under trial of this tech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ncrease land equivalent rat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mmendation legume combina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4309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the best bet green manure speci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6 + 48 CRS de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t-bet green manure cover cr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46152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dentify soil fertitlity benefits in 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trials =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ts bet maize-agroforestry sys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27720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itrogen use efficienc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trials; 1 recommendation develop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1" lang="en-GB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usto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4e1f2"/>
                    </a:solidFill>
                  </a:tcPr>
                </a:tc>
              </a:tr>
              <a:tr h="644040"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improve nutrition and test MLN resistant germplasm for adaptabil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n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trials; 3 varieties releas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4320" rIns="4320" tIns="43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320" marR="43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 4 Targ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8" name=""/>
          <p:cNvGraphicFramePr/>
          <p:nvPr/>
        </p:nvGraphicFramePr>
        <p:xfrm>
          <a:off x="685800" y="1600200"/>
          <a:ext cx="8305920" cy="5005440"/>
        </p:xfrm>
        <a:graphic>
          <a:graphicData uri="http://schemas.openxmlformats.org/drawingml/2006/table">
            <a:tbl>
              <a:tblPr/>
              <a:tblGrid>
                <a:gridCol w="3429000"/>
                <a:gridCol w="665280"/>
                <a:gridCol w="4211640"/>
              </a:tblGrid>
              <a:tr h="116784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quantify the value of the aflasafe bicontrol products in enhancing farmer income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 value of Aflasafe product in enhancing farmer income quantified and promoted amongst the private sector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adopter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assess the efficacy of two aflasafe bicontrol products in Region I and III agroecological zones of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g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fficcy of the Aflasafe biocontrol products ZM01 and ZM02 determined in Region I and III agroecological zone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=200 treated fiel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758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 business plan for comercializing aflasafe in Zambi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ch 2016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business plan </a:t>
                      </a: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 commercializing aflasafe in Zambia developed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Pl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840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develop an ecotoxicological dossier and identify requirements for aflasafe registration and commercializ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 2017</a:t>
                      </a:r>
                      <a:br>
                        <a:rPr sz="1700"/>
                      </a:b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lasafe biocontrol products, ZM01 and ZM02 registered by ZEMA =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ossier &amp; record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130248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measure impact of aflasafe application on cost and effectivness of key partners' opperations to inform buisness plan for aflasafe manufactur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-1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C cost benefit analysis for participating private sector partners </a:t>
                      </a:r>
                      <a:r>
                        <a:rPr b="1" lang="en-GB" sz="17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= VC Repor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bac8b8"/>
          </a:solidFill>
          <a:ln w="12600">
            <a:solidFill>
              <a:srgbClr val="4b843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Project Action Sites in Zambia (May 2016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0" name="Picture 10" descr="C:\Users\Mateete\Desktop\AAAAA\AR_Zambia_Demo_Sites_Themes.jpg"/>
          <p:cNvPicPr/>
          <p:nvPr/>
        </p:nvPicPr>
        <p:blipFill>
          <a:blip r:embed="rId1"/>
          <a:stretch/>
        </p:blipFill>
        <p:spPr>
          <a:xfrm>
            <a:off x="1600200" y="1981080"/>
            <a:ext cx="601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1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6" descr="AVRDC – The World Vegetable Center — avrdc.org"/>
          <p:cNvPicPr/>
          <p:nvPr/>
        </p:nvPicPr>
        <p:blipFill>
          <a:blip r:embed="rId6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43131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80520" y="1592280"/>
            <a:ext cx="7620120" cy="70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600" spc="-1" strike="noStrike">
              <a:solidFill>
                <a:srgbClr val="323232"/>
              </a:solidFill>
              <a:latin typeface="Gill Sans"/>
            </a:endParaRPr>
          </a:p>
        </p:txBody>
      </p:sp>
      <p:sp>
        <p:nvSpPr>
          <p:cNvPr id="741" name="Title 1"/>
          <p:cNvSpPr/>
          <p:nvPr/>
        </p:nvSpPr>
        <p:spPr>
          <a:xfrm>
            <a:off x="700200" y="2971800"/>
            <a:ext cx="7619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6104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bjecti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outcomes and activit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1001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matic targ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The present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Project Strategic Outco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7772400" cy="25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novations that increase productivity of farming systems and of availability and consumption of safe and nutritious food are adopt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timulate the commercialization and distribution of improved legume seed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ntribute to increased frequency of intake of vitamin A, especially by women and children under 5 year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sustainably intensify current maize-based low input production systems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-571320">
              <a:spcBef>
                <a:spcPts val="700"/>
              </a:spcBef>
              <a:buClr>
                <a:srgbClr val="ec821c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commercialize the aflasafe biocontrol products for aflatoxin mitigation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8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18720" y="12189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matic Objec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821c"/>
                </a:solidFill>
                <a:latin typeface="Calibri"/>
                <a:ea typeface="Calibri"/>
              </a:rPr>
              <a:t>Legume seed delivery systems impro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  <a:ea typeface="Times New Roman"/>
              </a:rPr>
              <a:t>1.1 Support for production of breeder/foundation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.2 Promotion of complimentary agronomic pract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 3 Promotion of inoculation practic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4 Conduct of efficacy tests for inocula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5 Support for the e-voucher FISP program as a roll out strategy for legumes to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6 Develop a plan for roll out beyond pilot distri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7 Identify and support small seed companies for commercialisation of legume s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8 Build capacity of agro dealer networks for seed distribution channel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9 Facilitate seed promotional and demand creation activ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0 Facilitate links with lead off-take / processing companies to stimulate end market demand of grai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1.11 Improve ZARI's storage and irrigation facili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2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11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OFSP planting material systems strengthen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 Multiply and disseminate superior OFSP variet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a Support for production of breeder/foundation seeds (vin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b Recruit and train Vine multipliers and partn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c Support the multiplication of vines by vine multiplier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d Facilitate the dissemination of vines to beneficiaries through promotion sales and pass-on syst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e Identify and support agro dealers to become linking points between multipliers and buyers of vin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1f Build capacity of agro dealer networks for vine distribution channe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2 Improve OFSP productivity through the demonstration of improved varieties and associated production practic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3 Develop and disseminate diet diversification and nutrition messages on vitamin A, child healthy and other critical nutritional aspects for malnutrition reductio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2.4 Support new variety relea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5 Conduct good agronomic practices stud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.6 Linking OFSP growers to road side and markets and other sweet potato related value chai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3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Low input maize/legume systems sustainably intensif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1 Scaling of maize/legume rot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2 Scaling of maize/legume intercropp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3 Scaling of direct seeding methodolog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4 Scaling of judicious use of herbicid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5 Research on doubled up legume techn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6 Research on use green manure cover cro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7 Evaluation of the COMACO agroforestry scaling model and trade-off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8 Improving manure handl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3.9 Testing of new QPM lines and MLN resistant varie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4 Outcome and activ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915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c821c"/>
                </a:solidFill>
                <a:latin typeface="Calibri"/>
                <a:ea typeface="Calibri"/>
              </a:rPr>
              <a:t>Efficacy of Aflasafe proven and commercialization facilit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ctiviti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.1 Conduct national and regional trade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2 Assessment of the value of the aflasafe biocontrol produ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3 Demonstration of  aflasafe efficac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4 Development of a business plan for commercialisation of aflasa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5 Registration of aflasafe produ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4.6 Conduct of the cost-benefit analys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me I Targe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TextBox 1"/>
          <p:cNvSpPr/>
          <p:nvPr/>
        </p:nvSpPr>
        <p:spPr>
          <a:xfrm>
            <a:off x="5029200" y="2610000"/>
            <a:ext cx="14479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152280" y="2057400"/>
          <a:ext cx="4191120" cy="4049640"/>
        </p:xfrm>
        <a:graphic>
          <a:graphicData uri="http://schemas.openxmlformats.org/drawingml/2006/table">
            <a:tbl>
              <a:tblPr/>
              <a:tblGrid>
                <a:gridCol w="990720"/>
                <a:gridCol w="1066680"/>
                <a:gridCol w="1109880"/>
                <a:gridCol w="102384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r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eed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Year 1: 2015/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to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8124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ybe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rowSpan="4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w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rtifi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15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16" name=""/>
          <p:cNvGraphicFramePr/>
          <p:nvPr/>
        </p:nvGraphicFramePr>
        <p:xfrm>
          <a:off x="4572000" y="1371600"/>
          <a:ext cx="4343400" cy="5059440"/>
        </p:xfrm>
        <a:graphic>
          <a:graphicData uri="http://schemas.openxmlformats.org/drawingml/2006/table">
            <a:tbl>
              <a:tblPr/>
              <a:tblGrid>
                <a:gridCol w="1862280"/>
                <a:gridCol w="877680"/>
                <a:gridCol w="1603440"/>
              </a:tblGrid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n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gridSpan="2"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eeder seed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ion (k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E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565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ly released varie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V 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SHAN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MUSANG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ZITA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PA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geon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  <a:tr h="28224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CEAP 01415/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fd7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Odhong, Jonathan (IITA)</cp:lastModifiedBy>
  <cp:lastPrinted>2016-08-15T09:21:41Z</cp:lastPrinted>
  <dcterms:modified xsi:type="dcterms:W3CDTF">2016-09-08T14:56:14Z</dcterms:modified>
  <cp:revision>216</cp:revision>
  <dc:subject/>
  <dc:title>Slide 1</dc:title>
</cp:coreProperties>
</file>