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2E68-A179-4DA4-B0E6-2F7F2E0D9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C883-43E5-4520-AFE0-1558FB33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3BE0-6593-4A7F-A78E-2B3F4E5F4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DAC2-D809-426B-A9C4-52FBC9298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334BB-1317-46CF-9BE3-073CF6B1B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BF4C-6A36-4C00-8F5E-4ED8A7A2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EEC0-C2BE-450D-A123-B4A01BC23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930A-BEC8-4A78-B3DB-AF64C525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B4025-87A3-48F4-8A8E-FE6FB4AE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8B6B9-B0BF-421B-B9C7-F2EFD31D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B86A-646B-4039-A5D2-C88F7DDAF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911D-E3ED-4F31-86B8-DE9CF664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72D4-77B4-4883-BE23-7D54A1A3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E2F35-9FDE-416F-9FBD-D911DDFD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323D-1E7B-4A73-97B3-8E107F14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31F0-E01A-4794-8C83-8FE6A6D08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155A0-6BBD-423F-9F8D-FA3D754E9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69C46-830C-46BE-843A-A5ED0868B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545BD-D368-46D6-A1D8-73FAC797F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47512-5C5C-4492-8E59-C97D6D81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24427-B879-4CB0-A8D6-970C14AA9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006C4-2BAE-418D-B804-C38B7AA40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6833-76A4-4EDB-A882-8BC8205F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6B2D4-84E5-477A-8A19-FABEC5BF9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1A6E6-E766-4117-A8F0-A221CDE3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9BD97-B26D-49C6-8BF8-A73C8AC46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817CE-8D1B-499D-9FDD-9E814FE08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DE431-7FF8-4B91-B71E-BDD9CDF4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ACE12-BA7F-4FE4-A6B4-DBBADC596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657EB-183E-4E63-8E5F-AF0E4B4FD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6925A-02C2-49D8-8690-53FDBF3CB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B3BCD-3E77-45EB-990D-B2F1C9FC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B04C1-8037-4A2E-A6B7-8A2BF567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F2EE-C5A9-4B0D-AA05-4B0750F89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E1CB1-578F-4FBB-9D42-684F5E65C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20D24-A77B-4596-AA35-D2557BF0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FBAB4-8911-4DA3-8862-C7090F0FD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52A78-8DDA-4FD3-B256-92C1444F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74B9A-B201-46B3-9539-7BD9CE66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934AF-54FB-456D-A7C8-FFC32913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71115-8D13-4E0F-AB7D-906FBD50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E17C0-775F-4947-9BC3-88C2C0EFC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E8B3A-A025-44CE-8977-74D02C9DD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0FD057-0A78-4F47-AA55-10C28DEF17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14FF-024C-4242-B08E-EED7879D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FC685B-96EB-4546-BB3A-D2EBF455069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DDF0259-9749-4495-87A4-6175F9C58C1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750305E-C056-4C3C-95B5-8BB910426A4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925567-5AF5-420E-A991-9D264F39BC2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AF4486B-8490-4B7F-8C4D-95334502B3D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9813ED-866E-46AC-B755-F9D44CE3178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36C0E8-EEFB-49A9-A86D-D9606F5A539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24D2B51-B7E7-475D-99CC-12DCD86D7DB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EFE78A-FEA9-4BA2-A396-0FD10016376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AC1B59C-202E-4EB0-8AFC-C991EC7AF2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F2F5-07CD-4DDD-B246-AF5A9FC97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31380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941440" y="220932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685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31380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5941440" y="423936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796D33-1391-4187-8B81-0F6B38451F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41AF-BB71-4C0E-82DA-DEB4ABD8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23936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209F-319C-4C83-95FB-68FB5DE90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20932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23936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1C3E-9D65-4AC9-A224-4ACC32CE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FC45-CEB7-4C74-9DBF-E02C4A52D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1066680"/>
            <a:ext cx="9144000" cy="15264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11"/>
          <p:cNvSpPr/>
          <p:nvPr/>
        </p:nvSpPr>
        <p:spPr>
          <a:xfrm>
            <a:off x="0" y="1219320"/>
            <a:ext cx="152280" cy="56386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" descr=""/>
          <p:cNvPicPr/>
          <p:nvPr/>
        </p:nvPicPr>
        <p:blipFill>
          <a:blip r:embed="rId2"/>
          <a:stretch/>
        </p:blipFill>
        <p:spPr>
          <a:xfrm>
            <a:off x="492120" y="109440"/>
            <a:ext cx="2201760" cy="849240"/>
          </a:xfrm>
          <a:prstGeom prst="rect">
            <a:avLst/>
          </a:prstGeom>
          <a:ln w="0">
            <a:noFill/>
          </a:ln>
        </p:spPr>
      </p:pic>
      <p:pic>
        <p:nvPicPr>
          <p:cNvPr id="8" name="Picture 11" descr=""/>
          <p:cNvPicPr/>
          <p:nvPr/>
        </p:nvPicPr>
        <p:blipFill>
          <a:blip r:embed="rId3"/>
          <a:stretch/>
        </p:blipFill>
        <p:spPr>
          <a:xfrm>
            <a:off x="5105520" y="73080"/>
            <a:ext cx="3289320" cy="84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1117-6CF2-48F4-9EC4-1CC61B747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0" y="1066680"/>
            <a:ext cx="9144000" cy="15264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1"/>
          <p:cNvSpPr/>
          <p:nvPr/>
        </p:nvSpPr>
        <p:spPr>
          <a:xfrm>
            <a:off x="0" y="1219320"/>
            <a:ext cx="152280" cy="56386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" descr=""/>
          <p:cNvPicPr/>
          <p:nvPr/>
        </p:nvPicPr>
        <p:blipFill>
          <a:blip r:embed="rId2"/>
          <a:stretch/>
        </p:blipFill>
        <p:spPr>
          <a:xfrm>
            <a:off x="492120" y="109440"/>
            <a:ext cx="2201760" cy="849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"/>
          <p:cNvPicPr/>
          <p:nvPr/>
        </p:nvPicPr>
        <p:blipFill>
          <a:blip r:embed="rId3"/>
          <a:stretch/>
        </p:blipFill>
        <p:spPr>
          <a:xfrm>
            <a:off x="5105520" y="73080"/>
            <a:ext cx="3289320" cy="84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"/>
          <p:cNvSpPr/>
          <p:nvPr/>
        </p:nvSpPr>
        <p:spPr>
          <a:xfrm>
            <a:off x="152280" y="1752480"/>
            <a:ext cx="8991720" cy="510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0" y="1752480"/>
            <a:ext cx="9144000" cy="15264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0" y="1905120"/>
            <a:ext cx="152280" cy="49528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14" descr=""/>
          <p:cNvPicPr/>
          <p:nvPr/>
        </p:nvPicPr>
        <p:blipFill>
          <a:blip r:embed="rId2"/>
          <a:stretch/>
        </p:blipFill>
        <p:spPr>
          <a:xfrm>
            <a:off x="165240" y="380880"/>
            <a:ext cx="2203200" cy="851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5" descr=""/>
          <p:cNvPicPr/>
          <p:nvPr/>
        </p:nvPicPr>
        <p:blipFill>
          <a:blip r:embed="rId3"/>
          <a:stretch/>
        </p:blipFill>
        <p:spPr>
          <a:xfrm>
            <a:off x="5410080" y="380880"/>
            <a:ext cx="3286080" cy="8496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5F1B4-6348-44A4-A706-3AE25E291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"/>
          <p:cNvSpPr/>
          <p:nvPr/>
        </p:nvSpPr>
        <p:spPr>
          <a:xfrm>
            <a:off x="152280" y="1752480"/>
            <a:ext cx="8991720" cy="5105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0" y="1752480"/>
            <a:ext cx="9144000" cy="15264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9"/>
          <p:cNvSpPr/>
          <p:nvPr/>
        </p:nvSpPr>
        <p:spPr>
          <a:xfrm>
            <a:off x="0" y="1905120"/>
            <a:ext cx="152280" cy="49528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4" descr=""/>
          <p:cNvPicPr/>
          <p:nvPr/>
        </p:nvPicPr>
        <p:blipFill>
          <a:blip r:embed="rId2"/>
          <a:stretch/>
        </p:blipFill>
        <p:spPr>
          <a:xfrm>
            <a:off x="165240" y="380880"/>
            <a:ext cx="2203200" cy="851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"/>
          <p:cNvPicPr/>
          <p:nvPr/>
        </p:nvPicPr>
        <p:blipFill>
          <a:blip r:embed="rId3"/>
          <a:stretch/>
        </p:blipFill>
        <p:spPr>
          <a:xfrm>
            <a:off x="5410080" y="380880"/>
            <a:ext cx="3286080" cy="8496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C2D9-4EE9-4D0A-BF41-DE98130009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0"/>
          <p:cNvSpPr/>
          <p:nvPr/>
        </p:nvSpPr>
        <p:spPr>
          <a:xfrm>
            <a:off x="0" y="1066680"/>
            <a:ext cx="9144000" cy="152640"/>
          </a:xfrm>
          <a:prstGeom prst="rect">
            <a:avLst/>
          </a:prstGeom>
          <a:solidFill>
            <a:srgbClr val="c21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1"/>
          <p:cNvSpPr/>
          <p:nvPr/>
        </p:nvSpPr>
        <p:spPr>
          <a:xfrm>
            <a:off x="0" y="1219320"/>
            <a:ext cx="152280" cy="5638680"/>
          </a:xfrm>
          <a:prstGeom prst="rect">
            <a:avLst/>
          </a:prstGeom>
          <a:solidFill>
            <a:srgbClr val="002a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1" descr=""/>
          <p:cNvPicPr/>
          <p:nvPr/>
        </p:nvPicPr>
        <p:blipFill>
          <a:blip r:embed="rId2"/>
          <a:stretch/>
        </p:blipFill>
        <p:spPr>
          <a:xfrm>
            <a:off x="492120" y="109440"/>
            <a:ext cx="2201760" cy="8492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"/>
          <p:cNvPicPr/>
          <p:nvPr/>
        </p:nvPicPr>
        <p:blipFill>
          <a:blip r:embed="rId3"/>
          <a:stretch/>
        </p:blipFill>
        <p:spPr>
          <a:xfrm>
            <a:off x="5105520" y="73080"/>
            <a:ext cx="3289320" cy="8492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1339-3C93-4420-B3E4-D92867F81ED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09480" y="2209320"/>
            <a:ext cx="792504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AFAKA- AFRICA RISING COLLABOR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tion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3 Way Forwar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mprove Operations and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2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mprove Linkages with Local Government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25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rterly Review 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854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ASANTEN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KWA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KUNISIKILIZ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0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IN ACTIVITIES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ject Inception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velopment of Annual Wor k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aize Based System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ost-Harvest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Vegetable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ice Based Systems Work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velopment of Demonstration Protocols, Field Layouts, Hand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1: Activities…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85440" y="1905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raining of NAFAKA Agronomists and D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wareness meetings with Associations and VBA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te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cessi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just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d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ion Sites Lay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lan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t- Harvest Technology Survey/needs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.1 Results to date…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7543800" cy="41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2 Demonstration Sites Established- ( Target was 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6 Groundnuts demonstration sites (5 Kongwa, 1 Kite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10 Maize (Mono-crop) demonstration sites( 5-Kongwa, 5 –Kite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6 Maize- beans Intercrop (Mvome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6 Soybeans demo sites (Mvome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550 Learners Participa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 algn="just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434600"/>
            <a:ext cx="822960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1" descr=""/>
          <p:cNvPicPr/>
          <p:nvPr/>
        </p:nvPicPr>
        <p:blipFill>
          <a:blip r:embed="rId1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2 Planned Activities (March – Jul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85440" y="18284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orized Rotary Weeder demonstration with Africa 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AP Training to Lead Farmers/ VBA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OT Training to Agronomists/D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anagement of Established Demo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rmation/Strengthening of District Innovation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ost- Harvest Technologies demonstration(PIC bags, Hermetic Cocoons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velopment Field Resource Book/Handboo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1 Challen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r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ice based System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perational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20:07:42Z</dcterms:created>
  <dc:creator>Design Studio</dc:creator>
  <dc:description/>
  <dc:language>en-US</dc:language>
  <cp:lastModifiedBy>user</cp:lastModifiedBy>
  <cp:lastPrinted>2012-10-29T12:01:56Z</cp:lastPrinted>
  <dcterms:modified xsi:type="dcterms:W3CDTF">2015-03-05T11:46:10Z</dcterms:modified>
  <cp:revision>302</cp:revision>
  <dc:subject/>
  <dc:title>PowerPoint Presentation</dc:title>
</cp:coreProperties>
</file>