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01A3-504F-41FC-9B9B-35297F264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41EB-32B5-4C8B-A638-67C78EA4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7688-E60C-4483-92EF-4792F084A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8245-05AD-45C9-8BA9-0A777E62C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CBF4-C00D-42A8-AB92-2518443B9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D6EA-A0E1-4F32-8E26-50D7B1E0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4F08-D498-4806-854D-0B9060BF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E04C5-CF9D-4710-903B-B8C0A60F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F7F7-315E-4B1E-8CF4-4710CD8B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D120-7101-4DF4-B2C6-A45BE010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27C4-F8F2-4526-9A33-78F86202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343A-D674-4F33-9240-B517C5EB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8F7E-675C-45AA-BF86-199657F7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1266-5AAE-445F-BC5A-7B508B61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1F04-1C36-4DB0-9C28-44001792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FFCA-6931-4E47-8BA0-16FA9C010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79AE-96FA-47AA-83D7-2EC2FFA2A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557E9-4621-4016-9099-D3F48AAC2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F27E9-3153-43D6-84A0-BB12BF78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30B6E-3637-4AB3-A4AA-CABB2A99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57A7C-BF52-4782-BC11-3E6E2843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95074-F52F-4934-A411-1061EA68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F957-ADEF-444B-9A2F-70FC94E4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6AF97-3D1A-4C54-81BB-B0F7F0B8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87C1F-3410-4992-991C-A415C502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116F9-F9E1-4817-B5DD-4F7B8CAF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D6FFB-0530-4DA3-9469-5C718278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49E98-549B-418D-A34A-344FA0A8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FAA88-841D-4856-838B-5E66F86C5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B5D69-B226-4B29-8701-EE9EF0B86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D6ACE-581F-4031-8403-EBD11F3EF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9DA02-F092-4862-9B39-A0536B75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881EE-B4FB-4273-B73E-0B665F74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8EFC-26BE-4CB8-9434-C04AB224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3B31D-9061-4426-A478-4F133388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8C7C6-8FDB-4568-8F43-2E230E46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7898F-0BCE-4749-98D6-5DE5231B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5FC05-EDA1-4A58-ACFA-09DBE44C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D12E7-EBFE-4E76-96C8-FA4B612A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25A4D-7876-43F1-AF04-D0A6EC18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CECCF-E019-4E25-BD76-46E1AB24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C9ADF-BBB4-4D4D-BE75-10A471ED5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B0B3F-B240-4752-8C11-73451F71E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469B3E-76F5-4098-9872-976BD2EC82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EB47-21D9-49C8-A3BF-6616DA76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C5368C-577B-428B-8B14-C88EC130404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79CEDB-D766-4438-84DF-DF16C30E7B3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D6D9DC-A36F-4A9E-8B18-6ADCE602C85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9BEC2F-7E31-4E41-B15E-10A1A7B8B0F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5349C0-A4D5-4F1C-AC66-E49641C86FA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84B5B1-80E9-4D2C-841E-175C79EDE8F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BF2113-6764-4612-8D17-7936AEB1907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1F4AFB-8622-4FA7-BCA4-B91F1613D75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D8562E-D4AD-4EE1-8F17-16B887714EB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A69AAD-CFDB-4F9E-8AFD-C45ECF4D60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000C-1D6C-4915-B931-81CAA37A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F7A5B7-2B61-4B48-BBD0-A34712BB21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1CA1-4694-463A-AAA0-ACFB759F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1D4B-3140-4254-B109-685272E4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20B7-E773-4A12-BA7E-EDF79175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315D-9AC3-4D5C-8423-D08042387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10666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0" y="1219320"/>
            <a:ext cx="152280" cy="56386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" descr=""/>
          <p:cNvPicPr/>
          <p:nvPr/>
        </p:nvPicPr>
        <p:blipFill>
          <a:blip r:embed="rId2"/>
          <a:stretch/>
        </p:blipFill>
        <p:spPr>
          <a:xfrm>
            <a:off x="492120" y="109440"/>
            <a:ext cx="2201760" cy="84924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1" descr=""/>
          <p:cNvPicPr/>
          <p:nvPr/>
        </p:nvPicPr>
        <p:blipFill>
          <a:blip r:embed="rId3"/>
          <a:stretch/>
        </p:blipFill>
        <p:spPr>
          <a:xfrm>
            <a:off x="5105520" y="73080"/>
            <a:ext cx="3289320" cy="84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F778-CDA8-4FAE-8FBB-1822443BA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10666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0" y="1219320"/>
            <a:ext cx="152280" cy="56386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2"/>
          <a:stretch/>
        </p:blipFill>
        <p:spPr>
          <a:xfrm>
            <a:off x="492120" y="109440"/>
            <a:ext cx="2201760" cy="849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"/>
          <p:cNvPicPr/>
          <p:nvPr/>
        </p:nvPicPr>
        <p:blipFill>
          <a:blip r:embed="rId3"/>
          <a:stretch/>
        </p:blipFill>
        <p:spPr>
          <a:xfrm>
            <a:off x="5105520" y="73080"/>
            <a:ext cx="3289320" cy="84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152280" y="1752480"/>
            <a:ext cx="8991720" cy="510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0" y="17524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0" y="1905120"/>
            <a:ext cx="152280" cy="49528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4" descr=""/>
          <p:cNvPicPr/>
          <p:nvPr/>
        </p:nvPicPr>
        <p:blipFill>
          <a:blip r:embed="rId2"/>
          <a:stretch/>
        </p:blipFill>
        <p:spPr>
          <a:xfrm>
            <a:off x="165240" y="380880"/>
            <a:ext cx="2203200" cy="851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5" descr=""/>
          <p:cNvPicPr/>
          <p:nvPr/>
        </p:nvPicPr>
        <p:blipFill>
          <a:blip r:embed="rId3"/>
          <a:stretch/>
        </p:blipFill>
        <p:spPr>
          <a:xfrm>
            <a:off x="5410080" y="380880"/>
            <a:ext cx="3286080" cy="8496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3AAB-1403-4C8A-A6CE-D74F37AC0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"/>
          <p:cNvSpPr/>
          <p:nvPr/>
        </p:nvSpPr>
        <p:spPr>
          <a:xfrm>
            <a:off x="152280" y="1752480"/>
            <a:ext cx="8991720" cy="510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0" y="17524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0" y="1905120"/>
            <a:ext cx="152280" cy="49528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4" descr=""/>
          <p:cNvPicPr/>
          <p:nvPr/>
        </p:nvPicPr>
        <p:blipFill>
          <a:blip r:embed="rId2"/>
          <a:stretch/>
        </p:blipFill>
        <p:spPr>
          <a:xfrm>
            <a:off x="165240" y="380880"/>
            <a:ext cx="2203200" cy="851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"/>
          <p:cNvPicPr/>
          <p:nvPr/>
        </p:nvPicPr>
        <p:blipFill>
          <a:blip r:embed="rId3"/>
          <a:stretch/>
        </p:blipFill>
        <p:spPr>
          <a:xfrm>
            <a:off x="5410080" y="380880"/>
            <a:ext cx="3286080" cy="8496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6BAC-18D4-48A9-AE60-76A543F6D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0"/>
          <p:cNvSpPr/>
          <p:nvPr/>
        </p:nvSpPr>
        <p:spPr>
          <a:xfrm>
            <a:off x="0" y="10666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1"/>
          <p:cNvSpPr/>
          <p:nvPr/>
        </p:nvSpPr>
        <p:spPr>
          <a:xfrm>
            <a:off x="0" y="1219320"/>
            <a:ext cx="152280" cy="56386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1" descr=""/>
          <p:cNvPicPr/>
          <p:nvPr/>
        </p:nvPicPr>
        <p:blipFill>
          <a:blip r:embed="rId2"/>
          <a:stretch/>
        </p:blipFill>
        <p:spPr>
          <a:xfrm>
            <a:off x="492120" y="109440"/>
            <a:ext cx="2201760" cy="849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"/>
          <p:cNvPicPr/>
          <p:nvPr/>
        </p:nvPicPr>
        <p:blipFill>
          <a:blip r:embed="rId3"/>
          <a:stretch/>
        </p:blipFill>
        <p:spPr>
          <a:xfrm>
            <a:off x="5105520" y="73080"/>
            <a:ext cx="3289320" cy="8492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3DAC-5740-4C8B-B4CD-58153B4BC4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09480" y="2209320"/>
            <a:ext cx="79250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AFAKA- AFRICA RISING COLLABOR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3 Way Forw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mprove Operations and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2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mprove Linkages with Local Government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2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rterly Review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854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SANTEN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KW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KUNISIKILIZ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0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IN ACTIVITIES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ject Inception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velopment of Annual Wor k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aize Based System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ost-Harvest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Vegetable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ice Based Systems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velopment of Demonstration Protocols, Field Layouts, Hand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1: Activities…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85440" y="1905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raining of NAFAKA Agronomists and D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wareness meetings with Associations and VBA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e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d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ion Sites Lay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- Harvest Technology Survey/needs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.1 Results to date…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5438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2 Demonstration Sites Established- ( Target was 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6 Groundnuts demonstration sites (5 Kongwa, 1 Kite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10 Maize (Mono-crop) demonstration sites( 5-Kongwa, 5 –Kite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6 Maize- beans Intercrop (Mvome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6 Soybeans demo sites (Mvome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550 Learners Particip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822960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2 Planned Activities (March – Jul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85440" y="18284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orized Rotary Weeder demonstration with Africa 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AP Training to Lead Farmers/ VBA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OT Training to Agronomists/D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nagement of Established Demo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rmation/Strengthening of District Innovation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ost- Harvest Technologies demonstration(PIC bags, Hermetic Cocoons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velopment Field Resource Book/Hand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1 Challe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r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ice based System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peration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20:07:42Z</dcterms:created>
  <dc:creator>Design Studio</dc:creator>
  <dc:description/>
  <dc:language>en-US</dc:language>
  <cp:lastModifiedBy>user</cp:lastModifiedBy>
  <cp:lastPrinted>2012-10-29T12:01:56Z</cp:lastPrinted>
  <dcterms:modified xsi:type="dcterms:W3CDTF">2015-03-05T11:46:10Z</dcterms:modified>
  <cp:revision>302</cp:revision>
  <dc:subject/>
  <dc:title>PowerPoint Presentation</dc:title>
</cp:coreProperties>
</file>