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250-9564-4D79-AEFA-25952EE9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E25B-76FA-4D07-8177-6CFE197D1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D8F-8A2F-4158-942F-F787438F2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58B-88C8-4B2C-9ACE-DDE4471E6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9F7-83ED-46AD-AAC6-AA8E8B75A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8749-6DCE-4630-9CF5-B15B4EE33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108-7C24-43E1-BB4B-A7AC4D6EA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0CF5-6143-4AB1-9797-8F012295A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E9A-50CB-44F2-A49D-569C1CB0A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550D71-9454-4774-A3D1-1CF7402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D7967-E55A-4DD7-B803-029D3603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917D4-4983-4357-9F4C-74D2D2C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D8E223-267D-4D78-8C31-3DCCC5A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A1E62-A199-4A8D-9E92-1FE049D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C3F82-F32F-4E79-B297-91A7E488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F7007-D3EA-43E6-8FD5-56430CCF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74BD4-8235-4C42-A615-97847CFB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58913-6A4E-4788-89B4-584369F5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29511-6A94-44E0-A9F8-58FFE379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B180A-9E18-45BB-8674-9B31136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B2896-BEEC-4071-912C-BCABC71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3FF75-8EE6-4042-A0F5-FCB8362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DD12F-EDEB-4A6C-9C81-C1D515B2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9AD07-A327-4A64-A586-47CCD215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8EEF5-3395-42EB-BCAE-5B06D24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768CD-A553-47A7-A137-DB97433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B1BBF-4DEA-4380-AD1B-6BF004D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82C03-A596-4339-8F54-6A8AE061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3FCED-BD88-4F28-8D25-BBE1A782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07FF3-1312-4A06-8636-841248B6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BDE3A2-96E4-4C9B-8758-CC39F50E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CB4C2-1FDE-4AED-A4E8-3388AFE8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98CECE-9C4D-4C54-A13A-AB9B824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204F52-9729-4343-B5CA-1E611F75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B729A3-0C9B-4CCB-AB53-B8A49893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87FC5-60C9-4B8B-8D6B-542FF98E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5AF437-69F8-474D-9E2E-F8BBD87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AE1527-4778-4115-B9B3-261CE19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D9F4F8-6931-404F-AAB9-EA04EA8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2144A-8E07-4FAE-AA8C-D1CD5007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C37BB5-DC60-42A2-A48F-221F9E9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E41555-EE04-47B7-BDE6-5C72F74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2DF3FC-2639-43DB-BE54-D6CCC527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D9138A-EB4D-4709-BB86-376F60D5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8A95F1-2C70-4F8F-A940-0103E1F8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EF7830-3A74-40D5-9F68-6FE74058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60CF2-F56A-459B-926D-FD5529D0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EE2D50-CCA2-44DA-91C6-C678464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DAE3F1-9D2F-4CDB-B0B7-E4834275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C59461-27BF-40D5-90E7-0A8B1952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AFF2-6CEC-4BF3-8AF4-D45E267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E1DF9-0A5A-4158-B48E-2BB0649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BDF050-F374-4AEA-9976-AC556433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806178-6143-4B2B-9F6C-03694683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B13E45-45D3-4D56-B5B4-27C601A9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77AF9C-4BD5-437B-9C46-047E8E26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0D8D0-20C1-46E2-9ED5-DFEAF0FF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77CF-67C2-47B8-B655-E9F9CCA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F6BF1-8971-4CD8-A158-60E6E15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2CE06-4EDD-4A31-950C-59AB574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A7506-3351-40D6-B2CB-23CEEB2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9DD3A-0782-4328-93E5-D07A18D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3D24C-B4CA-47A7-9268-C581B2AB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F015D-615C-4BE9-B876-FAE55BAE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4B5FC-764E-4726-AE3D-7CCDD834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A0684-2CC6-48D7-B77C-EFB3FC9E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4DB15-0582-4627-B06C-70F73260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5B32D-735B-40B0-8300-EAADFD25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8D11F-220A-4603-A24B-A2588FDA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67F7A-DB2B-4933-A40A-8AC1485B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79F4C-2DB2-4D24-B30F-9325AD70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83F08-01B7-4145-95A9-F6335709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C9186-C660-4834-9436-CBA5F6A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7D0EF-5E51-4F7F-B953-FB8E776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260AE-FE40-4919-812A-AC01ED2C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4C385-4FD9-4836-B52D-2A1DAF20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D0C77-59A1-495E-A4C0-200985F0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ED889-0CCA-4DDA-9940-FF3857D5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00CFA-3C65-4BB8-9938-53F6A7A4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7B3E9-783E-4D31-AEB7-6B4CF9AD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5FA7C-8541-4270-8BC7-C4099DA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FB8A8-D299-4ECC-A881-6E31A1E4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0C059-013F-4D14-803E-A97E7F8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4AA31-6E6D-4F5C-B0F9-637DC5D2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E3B14-AB56-487D-8A06-68509C5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02EE1-0825-463A-B580-E7FB8D3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17D46-852F-4D54-9CE5-3FBA158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56472-C9CC-4286-A836-8C31121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BC745-0311-411C-A827-19ACBAF5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14588-815D-4222-ADAE-CBC25175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6F8B0-773C-45A1-B680-B3F04579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8C42F-05E1-4170-ADB3-5D7652E3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6548C-BFA0-42EE-86F1-AB2DFF5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13E8C-8BC0-4B19-98DB-38614B6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EBD54-E712-46C1-84A9-5DC7D10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CB9B6-8D05-4A5C-8530-EF75B4CB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C929B-9B2D-485A-BE09-3112873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4012A-6B0A-4EAE-9B65-DEA8B67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8D633-40F3-4A88-BFA6-BD9AA5E6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FEAE3-B32A-4FE4-B366-178735C2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2F167-2A62-4F84-8326-5E50A7D5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B6B2D-0D07-4428-9ED7-BF144B9D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46592-C9CE-4EBD-911D-50D0EE72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9B6C8-C1AF-40E5-BF37-07504AC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7694B-2032-4100-B767-EE4DE600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04A3C-4174-4847-8816-D711FFC0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E2791-A16C-4CD2-9A0A-E5E73C88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488C5-396E-4BCB-AF4A-706F7D03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A8367-4D81-4C82-9B28-7C1950D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3A6BE-99D4-432D-B93A-9019B795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B32E2-BE19-49E2-B385-EBCE269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BD324-EAEE-494B-B6DD-74C4541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7B03D-DF97-4508-9CBB-08D59557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C2680-ADEC-44B2-A492-78A245E9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40FDF-08D1-454A-9758-B00C4D9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25ADA-0A98-4954-B5BF-3D215C6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C98D3-B3FF-49CC-858C-C332592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78849-B350-4758-98EB-856CC72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B4658-E8B5-47C0-A28B-2E73DF89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445D4-6756-4ADE-BEA9-8DBD324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B2C6A-4800-48DF-BE7E-CBD5EB8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3EEE9-8842-4446-9B58-DA83D90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B54D1-16E4-4C5D-BDC3-06637AA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635ED-E25C-4249-A92D-90802F4B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FCD8F-0BDF-4BE4-8A0E-4771A551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72CEA-3492-40AC-801C-89D60376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B1C00-797D-44B6-937B-E95E4476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86F0D-D5C5-4E00-AA16-4597D5A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8D5D0-11D7-4547-9A15-88093C99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95BBA-157E-4155-AE3E-0A99B1C5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7C0B8B-7338-4E39-B59E-16ECD0A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81960A-823B-4879-959C-D65B38D6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E46F63-0C19-4705-8852-D52B474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64B80-62DB-47C9-A1DB-CFEFBA3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DBF719-F71F-4D63-AB99-030126F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F2D86B-69C6-4317-943C-C5D28743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D3F97-6788-45F3-AAB8-9A33B991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4ABC27-91C2-45E3-A032-5D723CA3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8A615-C9CF-4B86-8FCA-713F5625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60F413-01E3-4B93-A32B-2E9E028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52795-4F9F-4B5C-B51A-549DC2F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E66-A09D-4B83-B793-80615314309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976C-B597-4B96-9382-A9DB9D065FD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551A-749F-4E61-96BB-5BAE40A8C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876C-94C5-482D-8A19-332ACBD0413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52F-3711-4EEE-9E07-6ED5836907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21C-62C1-4602-885B-3A21F35723D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6B0F-6051-42A0-B7AB-5FE42A51C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D46-6D92-46FB-BEC8-B1F1DB15EA5C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628-81E1-41A2-8D96-7625672CF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318-5E2C-446A-9D0A-EE014BF1DA6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1F81-BE26-40BB-A37D-8B53197A1CE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0DAE-B596-4C80-A195-5DA2ED9C4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477-E4B0-4F0C-953B-E9C8C424743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43C-1178-4C5C-A992-A255CF0A34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74AD-345B-40F8-AD39-3CED67308A0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189-8FAA-4DDD-BB97-355356266A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9545-8EFE-44F4-A979-DE2A4AC92E5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008-230C-4E71-AF15-ED247A2E41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ECD-914F-43FB-A1B2-4488A6B9A36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F6F1-392E-4B15-94DC-41C35BF23C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5DA-2B87-4DE6-8566-12E4CD9120D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7FE-C05B-4EF5-B594-E119B1CD9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46784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Opportunities for leveraging with PPP (NAFAKA)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3809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J.Rus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NAFAKA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eans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ject staples value chain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urrently very active rice sector in Kilombero and Mvom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5 Components (in rice sector plan for ma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habilitating value ch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e productivity in the two 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trade and competi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partnerships (ACDI-VOCA, MVIWATA,FIPS, RUDI, C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ing income for vulnerable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ntry point: village level FO: Identify existing or non-exi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o assessment see area for strengthening/develop partnerships: district federated FOS (Apex producer, outgrowers, cooperatives in crop prod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ther-Baby Trials: variety, fertilizer (YAR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grodeal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ost-harvest: Storage, warehouse receipt systems; SAC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arkets (Kibaigwa):  Local assembly, central, bargaining, finance/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5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vestock:  FIPS Chicken vaccinations but sto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-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Baby trials no fertilizer. Mother trials use fertilizer YARA , Minjingu P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Comparative advantage of the CGIAR agricultural systems production research; Contractors (ACDI, Abt) in value ch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rogram document/work plan of AR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SAID wants the two types of implementers to cooperate: Which project goes the credit for the value chain work (not counting twice), once for each pro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valuation is in two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1 Technologies per se using a GxEXMXLX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CTs to go beyond plot level rando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2 delivery value chain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Quasi-experimental approaches (befor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after interventions and with and without interventions i.e. differenc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differences; propensity score matching; Instrumental Variabl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sess the value added NAFAKA/ABT/DAI with and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thout technologies from the CGIARs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fference can be attributed to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alue chain work/agricultural production systems research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209680" y="5638680"/>
            <a:ext cx="838440" cy="419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914400" y="61722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2971800" y="6019920"/>
            <a:ext cx="905040" cy="59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4"/>
          <a:stretch/>
        </p:blipFill>
        <p:spPr>
          <a:xfrm>
            <a:off x="3886200" y="6019920"/>
            <a:ext cx="1219320" cy="519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logo-new"/>
          <p:cNvPicPr/>
          <p:nvPr/>
        </p:nvPicPr>
        <p:blipFill>
          <a:blip r:embed="rId5"/>
          <a:stretch/>
        </p:blipFill>
        <p:spPr>
          <a:xfrm>
            <a:off x="6400800" y="5410080"/>
            <a:ext cx="79704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"/>
          <p:cNvPicPr/>
          <p:nvPr/>
        </p:nvPicPr>
        <p:blipFill>
          <a:blip r:embed="rId6"/>
          <a:stretch/>
        </p:blipFill>
        <p:spPr>
          <a:xfrm>
            <a:off x="152280" y="5638680"/>
            <a:ext cx="1133640" cy="534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5181480" y="5334120"/>
            <a:ext cx="1089000" cy="129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8"/>
          <a:stretch/>
        </p:blipFill>
        <p:spPr>
          <a:xfrm>
            <a:off x="7162920" y="563868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3T11:32:23Z</dcterms:modified>
  <cp:revision>867</cp:revision>
  <dc:subject/>
  <dc:title>PowerPoint Presentation</dc:title>
</cp:coreProperties>
</file>