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dt" idx="3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ftr" idx="3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 type="sldNum" idx="3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0099-DAA0-4B69-AE6C-7D0E147194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C5B-F3BF-46CF-8C3A-0BFFDFE904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BE6E-6560-455D-BC6B-285C2401F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293B-D8BE-4ECC-98F6-3B3203F69B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CB0B-CE1D-47A8-A0C3-56AB21795B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7BF5-A3E7-467B-9E6F-1D84891665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396B-628D-4C7F-89A9-1EA8073209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3701-6AD8-4360-8B90-0BEC5309A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5FAA-6CB4-49A5-B458-7C42AB223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CAA6B4-AC1C-47BE-983C-7C6193F6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7DD6F-38FE-4CA7-819C-E7510397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7CF558-A75F-4B3A-BA37-F55A7080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2D5945-246C-461F-AF82-FE0AD74E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3CEA1A-8065-4329-AF56-96CE8351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330756-7A60-4C47-933B-D9E601E0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BAB2F9-1479-48BD-8A35-963C79F8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DBF2F9-2BE4-4037-A81F-C3AB96A52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9766C6-A8D6-4AC1-94DC-4BAB93E6E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A290E6-7D61-407C-9E70-8A6A571A0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EC5C6E-E78F-4C83-A166-ECFAE2303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F5B73A-909D-4808-8B57-BDAAC151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882A50-7027-432F-9414-4825032E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19BAE-5CE0-4675-A53E-9836D034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6CD391-859C-4922-9061-AC104A62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621C7F-5D54-48E0-941F-6A0C7D7B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EA81F3-BB7C-47D2-9DC3-F798EC2F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F1E8A6-83A6-487B-BE8D-EBA113DD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697C1E-C0AD-42DC-8D66-42F290B0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A8D1C-71B9-49F4-8654-FB1FDF743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CBA481-B8B9-4C06-9FA8-665879C1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8887AB-91B5-40BD-A570-B155307C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A66E4F-1EF3-4DC0-95D4-07BEF763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A5C10F-6642-443B-9B52-EF9595F7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28E2E7D-772E-4E9D-AB52-2B63F68EF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7BA922-108A-4CEC-9796-894E58D1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51C067-00A1-4529-82E2-EC1955A1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950064-ED1F-414D-8221-22D15FCE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F4CE8F-3273-4C1A-B820-E525262F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CFE0F6-D3D0-4FFA-A3AC-8618CE23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AF999-881B-4603-BF3A-67086F689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7E6FF4-5A12-418B-80F9-40E8912BA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BB7FF6-92D1-4E0F-98D4-D4809F8E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BAEDBB-D4AE-4C6D-84A8-4D435B0B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3DD191-DF38-4696-BBAF-6001B0E56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5CBE4D6-1100-404C-BFC6-FDBDC1CB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8630B4-FFAA-4E17-A7D7-F92D0682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150C5BC-4E71-4560-A4A3-8B251F4B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54391E9-6079-49FD-92B5-CA208056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128616-5196-4A3A-9B49-8970C760A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FFDE46-2BEE-44A5-81BF-7E4F7431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BC79-5286-4BA1-8C23-D23B3231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97CF21-8509-41AA-8DA9-25E85C0F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4A9E7B-1037-46F3-9011-56647A11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1227EE-3675-4DEF-927C-AD1E44B55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C25B7AE-F7F4-4E09-B35C-0CB8BF91A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FF021D1-1158-4EEE-BCA2-6200FE7F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A82B9-B45A-408F-A074-A3734D09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67F2C-E154-49E8-8F33-72A90088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D2022-3DDD-4387-85BB-B33DE7EF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F8F176-1686-4C21-BE2D-579057B7C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402F46-2926-44E8-B237-9066F07F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A7B826-DFE8-46D8-97ED-85E5E363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02E41-4B81-47B2-8D11-364FB78E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4C151-04BC-4FD2-8BB5-D226613AA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AD49DE-7C26-4A6C-A243-DC6D8C612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860458-7761-4533-BD51-32A7D95C6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69EE4-A1B6-48CA-8AC1-D4EFBEF9F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8C5573-B274-409E-82B3-298AE50E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BC4188-E786-44D5-A646-298B146C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30B977-6371-4C7C-BED2-09613ADAC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D786A4-ADB7-4B59-A046-F4C5A0C9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998187-38C9-485E-946E-63A13559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9FCCB-2A4C-4FA4-8658-7BDCCCAF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4EF80-F988-4292-A886-823A357A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F45476-5992-46D7-954B-8C6A375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62324-26D7-458B-9DFF-D909D4A9B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4ED34C-47AC-4E0D-8603-E3897CE7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BEA71-9DCC-4F6C-BA69-080F5A1E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D2247B-7242-4653-B053-14E4B7A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3E005C-574F-41DC-9F18-E51F728EB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BD3482-749A-47FA-812D-EE4477F8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5E5902-91B2-43EC-A6BE-056B2398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1E24CE-64E9-4189-AAD2-4D40A1B7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EB4E6D-3BC2-4044-91A9-F1CA5F06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9CCEB5-8D05-4504-9E42-2D9C34E3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6472CD-EA53-4563-9590-D2C0F494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A1899B-958A-4E98-9A1B-923709AB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8653EF-25A9-4CC1-9120-712E24EEE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2597CB-8C8B-4BF7-95C6-DAA437CFC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E58F3A-BD2B-4662-8875-ABAE0A64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A82AB4-A844-428B-8773-7E6343526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6512FD-3C28-40CA-A15E-AF4E7B2B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40B96A-2497-4692-8392-B95755FA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D940A3-7023-4F55-AD63-6427D33F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15952-F3B8-4ECF-A515-62AB89E2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46D344-F1D6-429B-887E-8D07E2FD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F16F5C-9756-4949-BFD0-AF6492E2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BF2D9-F326-47A8-9FFA-D055E365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F3CB7-8AFF-49E8-B0F0-85DE79AC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60D11B-F175-41C1-9166-074DF522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498F1-158F-4928-BC4E-EF3E7F20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BEB9CB-6575-4F83-849B-B08B3E55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51D10F-E5C8-4AFC-852D-D18F26D8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104AA-782F-4488-8376-FCFDB18E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542C62-B8E7-4965-9E00-AA9DF581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2BD93E-E0AC-495F-B6D5-7C5A0728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EC13CE-8420-4430-B606-710B375B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7A4AD-CA3A-480D-834E-D135029F1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DAE0C7-BC83-43D2-A11A-B97B9B20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E27C3B-4878-4C16-A793-7CA04631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480461-B532-4939-BBE3-BC8702D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5537C-0D63-467A-81C4-DE34D0D7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8157B3-ABD5-43BB-A4AE-5987FB6C8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CCE2C-2BBA-4880-ABAC-1889DEF3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474B5F-CD3A-4DF3-B911-4C4CFA404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26FDB-4A1F-4DAF-BEF6-6C11A405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390AF-2A70-46FE-9672-6E26B5AB9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58BEF-3814-47A6-98B7-D12FC85AE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9F6DE7-1BFD-40BE-8C1A-0377D2D80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5505AB-26F3-4272-B5BC-1A04CB57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092A84-9BF9-44D7-98C4-664AA337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E2527-B921-40B8-8935-B6D32BB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B0E90-1268-45B5-B1B6-C86C941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DF88F8-D72F-49B2-B1DB-E788AD61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6ADE9C-5BD9-4329-ACB7-E1E90898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B694EA-A76A-40C2-97F4-EEFC1420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01F798-47AE-4DB0-AC42-DEFC25A3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D02482-589E-4984-91ED-C6094812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E83A9A-B797-43AB-9927-C0643589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555724-550D-4B40-B0E5-56FAD6EA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022FFD-DB2B-4491-B583-F2B64D2D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127764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914438-8C9C-4A33-B746-ECE09C41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8D4FAD-E5E1-44E8-B423-884E78E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F86722-3544-4063-A295-7BEF9A78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3D47DC-11C7-4F3D-AE9E-203B37B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700160"/>
            <a:ext cx="7620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9A0E4-0F04-4D7E-BEDD-399A6A10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61760" y="259092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361760" y="4700160"/>
            <a:ext cx="37184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2A3E0D-E848-4E08-B5D6-C7CBEC97B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3336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609880" y="259092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03336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609880" y="4700160"/>
            <a:ext cx="2453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203317-8D44-4547-91E6-A1020468B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A7040C-D396-42F0-99F2-173B1693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1BAA05-147B-472F-BA37-E5C2DEB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857CF9-23CD-4954-8D20-3462621C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dt" idx="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237C-8295-4FEB-B050-3485A5043FE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6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7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5799-74FB-4DB7-ADE4-F4648290F1F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2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1A1C-FB85-4C01-B3FC-F0A56F3D3EF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ftr" idx="2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0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0EB3-4A50-47DE-83F1-C275ADEA56A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1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2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5AD-6F52-405A-8BBD-ED408786F1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F705-28F8-42BD-9612-5A5C3C47468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B4F2-29F5-42C9-8422-F619586CEC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57FE-AC61-40A6-AA5C-E838E693C706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4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5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B419F-352F-41D5-94D2-4E9C0733C68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6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1F8AB-DD56-4C19-92D3-8A4DA9E3A760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7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Contract Review Semin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8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9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BC56-F361-44FA-A2D4-08FA54DB280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0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1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58272-CCA7-43BB-908E-EEFAFE2DFE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2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BF73-405C-4270-B320-0337DF66D50B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3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4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84B1-4B04-491F-BE16-9A1092867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5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41638-F099-4844-ADFC-16A60B2BFAD4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6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7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10C2-E2AE-4A4D-9751-716200305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8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66CD-3423-4E15-81A0-F5B8656165FF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19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0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41AB-D13F-40F7-A535-0015882DDA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1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9471-FB1C-46D6-8E39-3F05FFA1E805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3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4C50-26A4-4C56-B391-5984217125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3" descr=""/>
          <p:cNvPicPr/>
          <p:nvPr/>
        </p:nvPicPr>
        <p:blipFill>
          <a:blip r:embed="rId2"/>
          <a:srcRect l="0" t="0" r="17216" b="0"/>
          <a:stretch/>
        </p:blipFill>
        <p:spPr>
          <a:xfrm>
            <a:off x="-17640" y="-39600"/>
            <a:ext cx="9161640" cy="133488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6"/>
          <p:cNvSpPr/>
          <p:nvPr/>
        </p:nvSpPr>
        <p:spPr>
          <a:xfrm>
            <a:off x="8458200" y="-39600"/>
            <a:ext cx="685800" cy="6897600"/>
          </a:xfrm>
          <a:prstGeom prst="rect">
            <a:avLst/>
          </a:prstGeom>
          <a:solidFill>
            <a:srgbClr val="3232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8"/>
          <p:cNvSpPr/>
          <p:nvPr/>
        </p:nvSpPr>
        <p:spPr>
          <a:xfrm>
            <a:off x="457200" y="-39600"/>
            <a:ext cx="990720" cy="1411200"/>
          </a:xfrm>
          <a:prstGeom prst="rect">
            <a:avLst/>
          </a:prstGeom>
          <a:solidFill>
            <a:srgbClr val="ffffff"/>
          </a:solidFill>
          <a:ln w="2556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9" name="Picture 9" descr=""/>
          <p:cNvPicPr/>
          <p:nvPr/>
        </p:nvPicPr>
        <p:blipFill>
          <a:blip r:embed="rId3"/>
          <a:stretch/>
        </p:blipFill>
        <p:spPr>
          <a:xfrm>
            <a:off x="520560" y="304920"/>
            <a:ext cx="851040" cy="9903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2" descr="C:\Users\Corporate Comms\Downloads\logo.png"/>
          <p:cNvPicPr/>
          <p:nvPr/>
        </p:nvPicPr>
        <p:blipFill>
          <a:blip r:embed="rId4"/>
          <a:stretch/>
        </p:blipFill>
        <p:spPr>
          <a:xfrm>
            <a:off x="1523880" y="66600"/>
            <a:ext cx="3111480" cy="54288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1277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456840" y="25909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e85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6048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2B824-B5BD-4A67-9BD5-14C3FFC0B787}" type="datetime">
              <a:rPr b="0" lang="en-US" sz="1200" spc="-1" strike="noStrike">
                <a:solidFill>
                  <a:srgbClr val="e3ded1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6"/>
          </p:nvPr>
        </p:nvSpPr>
        <p:spPr>
          <a:xfrm>
            <a:off x="8478360" y="56689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DB93-F0FF-439E-90AA-F57CFE91C1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pn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480" y="2133720"/>
            <a:ext cx="7467840" cy="99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en-US" sz="4000" spc="-1" strike="noStrike">
                <a:solidFill>
                  <a:srgbClr val="323232"/>
                </a:solidFill>
                <a:latin typeface="Cambria"/>
              </a:rPr>
              <a:t>Opportunities for leveraging with PPP (NAFAKA)</a:t>
            </a:r>
            <a:endParaRPr b="0" lang="en-US" sz="40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838080" y="38098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7952"/>
                </a:solidFill>
                <a:latin typeface="Calibri"/>
              </a:rPr>
              <a:t>J.Rusik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Subtitle 2"/>
          <p:cNvSpPr/>
          <p:nvPr/>
        </p:nvSpPr>
        <p:spPr>
          <a:xfrm>
            <a:off x="3048120" y="1143000"/>
            <a:ext cx="5317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search Review &amp; Planning M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frica RIS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-5 October 2012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7543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NAFAKA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2133360"/>
            <a:ext cx="761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Means gra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Project staples value chain a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Currently very active rice sector in Kilombero and Mvome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5 Components (in rice sector plan for maiz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habilitating value cha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e productivity in the two cro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trade and competitive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novative partnerships (ACDI-VOCA, MVIWATA,FIPS, RUDI, C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9f293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creasing income for vulnerable communit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456840" y="1904760"/>
            <a:ext cx="7620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Entry point: village level FO: Identify existing or non-exist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Do assessment see area for strengthening/develop partnerships: district federated FOS (Apex producer, outgrowers, cooperatives in crop production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other-Baby Trials: variety, fertilizer (YAR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Agrodeal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Post-harvest: Storage, warehouse receipt systems; SACCO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200" spc="-1" strike="noStrike">
                <a:solidFill>
                  <a:srgbClr val="000000"/>
                </a:solidFill>
                <a:latin typeface="Calibri"/>
              </a:rPr>
              <a:t>Markets (Kibaigwa):  Local assembly, central, bargaining, finance/cred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55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70000"/>
              </a:lnSpc>
              <a:spcBef>
                <a:spcPts val="476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533520" y="1828800"/>
            <a:ext cx="76197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Livestock:  FIPS Chicken vaccinations but stopp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25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For maize targeted high potential area based on soil fertility, rainf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In Kiteto 17 villages; Kongwa 33 villages; Mvomero 12 villages; in Kilombero divided into 2 clus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other trials 12x20 meters: 33 in Kongwa, 21 in Kite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Maize varieties-: Hybrids (Pioneer, DK, Tanseed); OPVs (Uganda Longe 6, Longe 4, Situ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All those attend during planting mothers demos each get varieties for baby tri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Comparison between Mother and bab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Baby trials no fertilizer. Mother trials use fertilizer YARA , Minjingu PR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0000"/>
                </a:solidFill>
                <a:latin typeface="Calibri"/>
              </a:rPr>
              <a:t>District Officers where to locate, farmers invited to participate about 100 farm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Comparative advantage of the CGIAR agricultural systems production research; Contractors (ACDI, Abt) in value chai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The program document/work plan of AR sco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ZA" sz="2800" spc="-1" strike="noStrike">
                <a:solidFill>
                  <a:srgbClr val="000000"/>
                </a:solidFill>
                <a:latin typeface="Calibri"/>
              </a:rPr>
              <a:t>USAID wants the two types of implementers to cooperate: Which project goes the credit for the value chain work (not counting twice), once for each projec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323232"/>
                </a:solidFill>
                <a:latin typeface="Cambria"/>
              </a:rPr>
              <a:t>Workings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0520" y="19047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Evaluation is in two pa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1 Technologies per se using a GxEXMXLX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RCTs to go beyond plot level random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2 delivery value chain wor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Quasi-experimental approaches (befor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nd after interventions and with and without interventions i.e. difference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in differences; propensity score matching; Instrumental Variable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Assess the value added NAFAKA/ABT/DAI with and 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without technologies from the CGIARs. 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Difference can be attributed to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value chain work/agricultural production systems research</a:t>
            </a:r>
            <a:br>
              <a:rPr sz="2400"/>
            </a:br>
            <a:r>
              <a:rPr b="0" lang="en-Z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5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5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5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5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6840" y="2895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mbria"/>
              </a:rPr>
              <a:t>Thank you!</a:t>
            </a:r>
            <a:endParaRPr b="0" lang="en-US" sz="4600" spc="-1" strike="noStrike">
              <a:solidFill>
                <a:srgbClr val="323232"/>
              </a:solidFill>
              <a:latin typeface="Cambria"/>
            </a:endParaRPr>
          </a:p>
        </p:txBody>
      </p:sp>
      <p:pic>
        <p:nvPicPr>
          <p:cNvPr id="586" name="Picture 3" descr=""/>
          <p:cNvPicPr/>
          <p:nvPr/>
        </p:nvPicPr>
        <p:blipFill>
          <a:blip r:embed="rId1"/>
          <a:stretch/>
        </p:blipFill>
        <p:spPr>
          <a:xfrm>
            <a:off x="2209680" y="5638680"/>
            <a:ext cx="838440" cy="41940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2" descr="C:\Users\Corporate Comms\Downloads\icrisat_logo.jpg"/>
          <p:cNvPicPr/>
          <p:nvPr/>
        </p:nvPicPr>
        <p:blipFill>
          <a:blip r:embed="rId2"/>
          <a:stretch/>
        </p:blipFill>
        <p:spPr>
          <a:xfrm>
            <a:off x="914400" y="6172200"/>
            <a:ext cx="1295280" cy="4096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2" descr=""/>
          <p:cNvPicPr/>
          <p:nvPr/>
        </p:nvPicPr>
        <p:blipFill>
          <a:blip r:embed="rId3"/>
          <a:stretch/>
        </p:blipFill>
        <p:spPr>
          <a:xfrm>
            <a:off x="2971800" y="6019920"/>
            <a:ext cx="905040" cy="5968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6" descr=""/>
          <p:cNvPicPr/>
          <p:nvPr/>
        </p:nvPicPr>
        <p:blipFill>
          <a:blip r:embed="rId4"/>
          <a:stretch/>
        </p:blipFill>
        <p:spPr>
          <a:xfrm>
            <a:off x="3886200" y="6019920"/>
            <a:ext cx="1219320" cy="51912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0" descr="logo-new"/>
          <p:cNvPicPr/>
          <p:nvPr/>
        </p:nvPicPr>
        <p:blipFill>
          <a:blip r:embed="rId5"/>
          <a:stretch/>
        </p:blipFill>
        <p:spPr>
          <a:xfrm>
            <a:off x="6400800" y="5410080"/>
            <a:ext cx="797040" cy="106704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11" descr=""/>
          <p:cNvPicPr/>
          <p:nvPr/>
        </p:nvPicPr>
        <p:blipFill>
          <a:blip r:embed="rId6"/>
          <a:stretch/>
        </p:blipFill>
        <p:spPr>
          <a:xfrm>
            <a:off x="152280" y="5638680"/>
            <a:ext cx="1133640" cy="53496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2"/>
          <p:cNvSpPr/>
          <p:nvPr/>
        </p:nvSpPr>
        <p:spPr>
          <a:xfrm>
            <a:off x="5181480" y="5334120"/>
            <a:ext cx="1089000" cy="129528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3" name="Picture 9" descr=""/>
          <p:cNvPicPr/>
          <p:nvPr/>
        </p:nvPicPr>
        <p:blipFill>
          <a:blip r:embed="rId8"/>
          <a:stretch/>
        </p:blipFill>
        <p:spPr>
          <a:xfrm>
            <a:off x="7162920" y="5638680"/>
            <a:ext cx="114300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3:43:14Z</dcterms:created>
  <dc:creator>JTOliver</dc:creator>
  <dc:description/>
  <dc:language>en-US</dc:language>
  <cp:lastModifiedBy>LeBorgne, Ewen (ILRI)</cp:lastModifiedBy>
  <cp:lastPrinted>2011-10-06T11:45:23Z</cp:lastPrinted>
  <dcterms:modified xsi:type="dcterms:W3CDTF">2012-10-03T11:32:23Z</dcterms:modified>
  <cp:revision>867</cp:revision>
  <dc:subject/>
  <dc:title>PowerPoint Presentation</dc:title>
</cp:coreProperties>
</file>