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7.png" ContentType="image/png"/>
  <Override PartName="/ppt/media/image22.jpeg" ContentType="image/jpeg"/>
  <Override PartName="/ppt/media/image12.jpeg" ContentType="image/jpeg"/>
  <Override PartName="/ppt/media/image6.png" ContentType="image/png"/>
  <Override PartName="/ppt/media/image13.jpeg" ContentType="image/jpeg"/>
  <Override PartName="/ppt/media/image4.png" ContentType="image/png"/>
  <Override PartName="/ppt/media/image2.jpeg" ContentType="image/jpeg"/>
  <Override PartName="/ppt/media/image23.jpeg" ContentType="image/jpeg"/>
  <Override PartName="/ppt/media/image26.jpeg" ContentType="image/jpeg"/>
  <Override PartName="/ppt/media/image1.png" ContentType="image/pn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D7DFB-7F63-4AE2-83B6-6F48874149F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rry out design example here to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4D871-D430-4F01-8364-97F85A9062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F0FC4-0E79-42AB-9C17-BDB81E7B706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34C3D-921F-46D8-97CF-7977F0195D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4F666-BEAE-4B05-9EBB-E865D7B215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00E30-9085-462F-8F0E-205EB77F7C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D4DFC-AAF3-40D2-8592-011C90526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5AA18-557A-43D8-B63F-9021B210C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55481-66DF-4E22-941A-EAE0C2B3B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4E351-8566-4C9B-8F99-FD69B4FC3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F7091-A381-479C-AF68-FFACEED4F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97662-69EB-42FF-9112-F988405F6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B64BD-7FC7-4586-B935-0DFE70FA2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ED1E2-A019-45BD-9EBE-AAC5502FD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00881-4732-45EE-AA3F-EF3DF8BCF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03748-404C-4D7C-B758-E4AB6C7A9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FE6B7-284B-4B15-9FF8-FDB7201AB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57056-A5C9-44D7-80F2-7A6C04B68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1044F-ED5D-46B5-B014-1276ABDFA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DA517-7904-4E06-8214-73B868498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F7050-8A99-4711-93AB-FB050F44D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F0BFF-ACDD-4733-8BB7-569B3EA76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CB8C4-510B-4A33-B549-5C23A0202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D3E49-F7B5-4C61-8CE7-782CFE1B7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0CBE4-08F3-4DEA-AFDC-D8A348395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238A6-2674-436F-9C3F-D719E19C9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8AE3B-82DA-4F64-B81B-F541EB1E6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FB7C6-6F0B-4D03-8B18-3BB937B00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3D374-3F84-4B29-9DA4-524999D71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E8EA2-C1A7-4A75-A775-2417C573C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07C0D-D6DF-498F-9581-D194B393C8D4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2A538-375F-4267-86C8-F729A34CE5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itle 1"/>
          <p:cNvSpPr/>
          <p:nvPr/>
        </p:nvSpPr>
        <p:spPr>
          <a:xfrm>
            <a:off x="500040" y="857160"/>
            <a:ext cx="8229600" cy="16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frica RISING Malawi experi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Content Placeholder 2"/>
          <p:cNvSpPr/>
          <p:nvPr/>
        </p:nvSpPr>
        <p:spPr>
          <a:xfrm>
            <a:off x="285840" y="3143160"/>
            <a:ext cx="8858160" cy="10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Regis Chikowo,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ezi Mhango, Desta Lulseged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saac Nyoka, Sieg Snap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Content Placeholder 2"/>
          <p:cNvSpPr/>
          <p:nvPr/>
        </p:nvSpPr>
        <p:spPr>
          <a:xfrm>
            <a:off x="6929280" y="6000840"/>
            <a:ext cx="18576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28 May 20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82964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Ntcheu si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Diagram 1" descr=""/>
          <p:cNvPicPr/>
          <p:nvPr/>
        </p:nvPicPr>
        <p:blipFill>
          <a:blip r:embed="rId1"/>
          <a:stretch/>
        </p:blipFill>
        <p:spPr>
          <a:xfrm>
            <a:off x="1071720" y="1143000"/>
            <a:ext cx="6638760" cy="510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Dedza si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Diagram 1" descr=""/>
          <p:cNvPicPr/>
          <p:nvPr/>
        </p:nvPicPr>
        <p:blipFill>
          <a:blip r:embed="rId1"/>
          <a:stretch/>
        </p:blipFill>
        <p:spPr>
          <a:xfrm>
            <a:off x="1181160" y="1454040"/>
            <a:ext cx="6962760" cy="490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5" descr=""/>
          <p:cNvPicPr/>
          <p:nvPr/>
        </p:nvPicPr>
        <p:blipFill>
          <a:blip r:embed="rId1"/>
          <a:stretch/>
        </p:blipFill>
        <p:spPr>
          <a:xfrm>
            <a:off x="530280" y="776160"/>
            <a:ext cx="7473960" cy="5878800"/>
          </a:xfrm>
          <a:prstGeom prst="rect">
            <a:avLst/>
          </a:prstGeom>
          <a:ln w="0">
            <a:noFill/>
          </a:ln>
        </p:spPr>
      </p:pic>
      <p:sp>
        <p:nvSpPr>
          <p:cNvPr id="119" name="TextBox 1"/>
          <p:cNvSpPr/>
          <p:nvPr/>
        </p:nvSpPr>
        <p:spPr>
          <a:xfrm>
            <a:off x="7557480" y="6488280"/>
            <a:ext cx="132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napp, 199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2"/>
          <p:cNvSpPr/>
          <p:nvPr/>
        </p:nvSpPr>
        <p:spPr>
          <a:xfrm>
            <a:off x="197280" y="0"/>
            <a:ext cx="7654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90"/>
                </a:solidFill>
                <a:latin typeface="Calibri"/>
              </a:rPr>
              <a:t>‘</a:t>
            </a:r>
            <a:r>
              <a:rPr b="0" lang="en-US" sz="4800" spc="-1" strike="noStrike">
                <a:solidFill>
                  <a:srgbClr val="000090"/>
                </a:solidFill>
                <a:latin typeface="Calibri"/>
              </a:rPr>
              <a:t>Mother and baby’ trial desig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56760" y="213840"/>
            <a:ext cx="7900920" cy="3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Mother trial treatment structure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28400" y="856800"/>
            <a:ext cx="8429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Maize control – no nutrients added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Maize fertilized with 70 kg N and 21 kg P [</a:t>
            </a: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FULL rate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]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Maize fertilized  with NPK compost or manure (3-5 t/ha)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Groundnut or soyabean or cowpea or pigeon pea fertilized with 5 kg P/ha [</a:t>
            </a: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HALF rate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]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Maize/pigeon pea intercrop fertilized with 70 kg N and 21 kg P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Maize/field bean intercrop fertilized with  70 kg N and 21 kg P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Doubled-up legumes A: Pigeon pea/groundnut intercrop fertilized with 5 kg P]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Doubled-up legumes B: Pigeon pea/soybean intercrop fertilized with 5 kg P]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Doubled-up legumes C: Pigeon pea/cowpea intercrop fertilized with 5 kg P]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002060"/>
                </a:solidFill>
                <a:uFillTx/>
                <a:latin typeface="Calibri"/>
              </a:rPr>
              <a:t>Rationa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3200" spc="-1" strike="noStrike">
                <a:solidFill>
                  <a:srgbClr val="000000"/>
                </a:solidFill>
                <a:latin typeface="Calibri"/>
              </a:rPr>
              <a:t>Unfertilized maize – </a:t>
            </a:r>
            <a:r>
              <a:rPr b="0" lang="en-ZW" sz="3200" spc="-1" strike="noStrike">
                <a:solidFill>
                  <a:srgbClr val="002060"/>
                </a:solidFill>
                <a:latin typeface="Calibri"/>
              </a:rPr>
              <a:t>for establishing base yields depending soil resource ba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3200" spc="-1" strike="noStrike">
                <a:solidFill>
                  <a:srgbClr val="000000"/>
                </a:solidFill>
                <a:latin typeface="Calibri"/>
              </a:rPr>
              <a:t>Maize + mineral fertilizers NPKS – </a:t>
            </a:r>
            <a:r>
              <a:rPr b="0" lang="en-ZW" sz="3200" spc="-1" strike="noStrike">
                <a:solidFill>
                  <a:srgbClr val="002060"/>
                </a:solidFill>
                <a:latin typeface="Calibri"/>
              </a:rPr>
              <a:t>for establishing water limited yield potenti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3200" spc="-1" strike="noStrike">
                <a:solidFill>
                  <a:srgbClr val="000000"/>
                </a:solidFill>
                <a:latin typeface="Calibri"/>
              </a:rPr>
              <a:t>Maize + manure/compost + NPKS </a:t>
            </a:r>
            <a:r>
              <a:rPr b="0" i="1" lang="en-ZW" sz="32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en-ZW" sz="3200" spc="-1" strike="noStrike">
                <a:solidFill>
                  <a:srgbClr val="002060"/>
                </a:solidFill>
                <a:latin typeface="Calibri"/>
              </a:rPr>
              <a:t>for establishing water limited yield potential with inorganic -organic nutrient sources combin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Baby trial formulation and management  </a:t>
            </a:r>
            <a:br>
              <a:rPr sz="36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285480" y="1071360"/>
            <a:ext cx="8429400" cy="55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558e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558ed5"/>
                </a:solidFill>
                <a:latin typeface="Calibri"/>
              </a:rPr>
              <a:t>Action groups were formulated around each of the 8 mother trials,  resulting in 2 action groups per intervention sit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b050"/>
                </a:solidFill>
                <a:latin typeface="Calibri"/>
              </a:rPr>
              <a:t>Action groups comprised of at least 38 farmers, who actively participated in the establishment of the mother trials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030a0"/>
                </a:solidFill>
                <a:latin typeface="Calibri"/>
              </a:rPr>
              <a:t>Action group members subsequently established baby trials based on the following rules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o more than 4 treatments were to be selected from the mother trial they had established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wo treatments were mandator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558ed5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8ed5"/>
                </a:solidFill>
                <a:latin typeface="Calibri"/>
              </a:rPr>
              <a:t>Fertilized maize plot  - farmers were not given any fertilizer – they had to source using own resources, including fertilizers from the subsidy progra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558ed5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8ed5"/>
                </a:solidFill>
                <a:latin typeface="Calibri"/>
              </a:rPr>
              <a:t>Doubled-up legume: selection from any of  those included in the mother tri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558e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85880" y="0"/>
            <a:ext cx="640080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Details on mother and baby tria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0" y="714240"/>
          <a:ext cx="8786880" cy="5429520"/>
        </p:xfrm>
        <a:graphic>
          <a:graphicData uri="http://schemas.openxmlformats.org/drawingml/2006/table">
            <a:tbl>
              <a:tblPr/>
              <a:tblGrid>
                <a:gridCol w="828720"/>
                <a:gridCol w="995400"/>
                <a:gridCol w="1468440"/>
                <a:gridCol w="1106280"/>
                <a:gridCol w="1106640"/>
                <a:gridCol w="1093680"/>
                <a:gridCol w="1094040"/>
                <a:gridCol w="1093680"/>
              </a:tblGrid>
              <a:tr h="77652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istri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ction sites (EPA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ther trial host farmer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aize varieties us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owpe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igeon pe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Groundnu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oybe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4720">
                <a:tc rowSpan="4"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edz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Linthip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hiyembekezo Chayera (38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AN 5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udan 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waiwathu alim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G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akwach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lfred Jas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39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KC 908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T82E-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aum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sinjir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asok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5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Golomot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Josephine Pindu (5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C4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kanakaufiti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aum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sinjir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asok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Benedict Damson (55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KC 805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kanakaufit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waiwathu alim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G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akwach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320">
                <a:tc rowSpan="4"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tche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Kande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Florence Odi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90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C6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udan 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waiwathu alim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sinjir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akwach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Gre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97) Charli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KC  805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T82E-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aum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G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asok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5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sip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eter Msowoy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39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C6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udan 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waiwathu alim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G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akwach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ary Mkund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38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KC  805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T82E-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waiwathu alim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sinjir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asok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Nsipe action group _November 2013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Picture 2" descr="C:\Users\Regis\Desktop\pictures_house\101MSDCF\DSC04769.JPG"/>
          <p:cNvPicPr/>
          <p:nvPr/>
        </p:nvPicPr>
        <p:blipFill>
          <a:blip r:embed="rId1"/>
          <a:stretch/>
        </p:blipFill>
        <p:spPr>
          <a:xfrm>
            <a:off x="928800" y="1249200"/>
            <a:ext cx="6589440" cy="49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Diversification …intensificati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785920" y="2071800"/>
            <a:ext cx="3357720" cy="286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Crop diversification as one of the major themes of the ‘mother and baby’ approa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Picture 2" descr="C:\Users\Regis\Desktop\DSC05099.JPG"/>
          <p:cNvPicPr/>
          <p:nvPr/>
        </p:nvPicPr>
        <p:blipFill>
          <a:blip r:embed="rId1"/>
          <a:stretch/>
        </p:blipFill>
        <p:spPr>
          <a:xfrm>
            <a:off x="393840" y="1643040"/>
            <a:ext cx="5678280" cy="37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-360" y="27432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Calibri"/>
              </a:rPr>
              <a:t>Doubled-up legumes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– intercropping 2 legumes that are complementary/have little competition for resour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2" descr="C:\Users\Regis\Desktop\DSC05020.JPG"/>
          <p:cNvPicPr/>
          <p:nvPr/>
        </p:nvPicPr>
        <p:blipFill>
          <a:blip r:embed="rId1"/>
          <a:stretch/>
        </p:blipFill>
        <p:spPr>
          <a:xfrm>
            <a:off x="1000080" y="1857240"/>
            <a:ext cx="67755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3" descr=""/>
          <p:cNvPicPr/>
          <p:nvPr/>
        </p:nvPicPr>
        <p:blipFill>
          <a:blip r:embed="rId1"/>
          <a:stretch/>
        </p:blipFill>
        <p:spPr>
          <a:xfrm>
            <a:off x="1714680" y="2857680"/>
            <a:ext cx="1904760" cy="9522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" descr="C:\Users\Corporate Comms\Downloads\icrisat_logo.jpg"/>
          <p:cNvPicPr/>
          <p:nvPr/>
        </p:nvPicPr>
        <p:blipFill>
          <a:blip r:embed="rId2"/>
          <a:stretch/>
        </p:blipFill>
        <p:spPr>
          <a:xfrm>
            <a:off x="1214280" y="857160"/>
            <a:ext cx="1981440" cy="6271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5" descr="C:\Users\Corporate Comms\Downloads\IFPRI logo (green).jpg"/>
          <p:cNvPicPr/>
          <p:nvPr/>
        </p:nvPicPr>
        <p:blipFill>
          <a:blip r:embed="rId3"/>
          <a:stretch/>
        </p:blipFill>
        <p:spPr>
          <a:xfrm>
            <a:off x="6357960" y="2143080"/>
            <a:ext cx="838080" cy="13176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4" descr=""/>
          <p:cNvPicPr/>
          <p:nvPr/>
        </p:nvPicPr>
        <p:blipFill>
          <a:blip r:embed="rId4"/>
          <a:stretch/>
        </p:blipFill>
        <p:spPr>
          <a:xfrm>
            <a:off x="3857760" y="714240"/>
            <a:ext cx="1290600" cy="3973680"/>
          </a:xfrm>
          <a:prstGeom prst="rect">
            <a:avLst/>
          </a:prstGeom>
          <a:ln w="0">
            <a:noFill/>
          </a:ln>
        </p:spPr>
      </p:pic>
      <p:sp>
        <p:nvSpPr>
          <p:cNvPr id="96" name="Title 1"/>
          <p:cNvSpPr/>
          <p:nvPr/>
        </p:nvSpPr>
        <p:spPr>
          <a:xfrm rot="16200000">
            <a:off x="-757080" y="2614320"/>
            <a:ext cx="307188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f497d"/>
                </a:solidFill>
                <a:latin typeface="Calibri"/>
              </a:rPr>
              <a:t>LUANA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itle 1"/>
          <p:cNvSpPr/>
          <p:nvPr/>
        </p:nvSpPr>
        <p:spPr>
          <a:xfrm>
            <a:off x="1714680" y="5072040"/>
            <a:ext cx="6858000" cy="7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Calibri"/>
              </a:rPr>
              <a:t>Malawi Agric Extension Servi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itle 1"/>
          <p:cNvSpPr/>
          <p:nvPr/>
        </p:nvSpPr>
        <p:spPr>
          <a:xfrm>
            <a:off x="5143680" y="928800"/>
            <a:ext cx="30812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f497d"/>
                </a:solidFill>
                <a:latin typeface="Calibri"/>
              </a:rPr>
              <a:t>CI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itle 1"/>
          <p:cNvSpPr/>
          <p:nvPr/>
        </p:nvSpPr>
        <p:spPr>
          <a:xfrm>
            <a:off x="5286240" y="3929040"/>
            <a:ext cx="2786040" cy="7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f497d"/>
                </a:solidFill>
                <a:latin typeface="Calibri"/>
              </a:rPr>
              <a:t>ICRAF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Great mixture.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Picture 2" descr="C:\Users\Regis\Desktop\pictures_house\101MSDCF\DSC05127.JPG"/>
          <p:cNvPicPr/>
          <p:nvPr/>
        </p:nvPicPr>
        <p:blipFill>
          <a:blip r:embed="rId1"/>
          <a:stretch/>
        </p:blipFill>
        <p:spPr>
          <a:xfrm>
            <a:off x="1184400" y="1600200"/>
            <a:ext cx="67752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ize +pigeon pe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Picture 3" descr="C:\Users\Regis\Desktop\pictures_house\101MSDCF\DSC05007.JPG"/>
          <p:cNvPicPr/>
          <p:nvPr/>
        </p:nvPicPr>
        <p:blipFill>
          <a:blip r:embed="rId1"/>
          <a:stretch/>
        </p:blipFill>
        <p:spPr>
          <a:xfrm>
            <a:off x="1184400" y="1600200"/>
            <a:ext cx="67752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After harvesting companion crop, pigeon pea continues growth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1" name="Picture 2" descr="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...and produces its own gra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3" name="Picture 2" descr="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.... plus soil fertility replenish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" name="Picture 3" descr="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Livestock =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7" name="Picture 2" descr="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56760" y="-360"/>
            <a:ext cx="8115480" cy="101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ood and nutritional secur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9" name="Picture 2" descr="C:\Users\Regis\Pictures\20-03-2013\DSC05133.JPG"/>
          <p:cNvPicPr/>
          <p:nvPr/>
        </p:nvPicPr>
        <p:blipFill>
          <a:blip r:embed="rId1"/>
          <a:stretch/>
        </p:blipFill>
        <p:spPr>
          <a:xfrm>
            <a:off x="357120" y="1500120"/>
            <a:ext cx="5346720" cy="3571920"/>
          </a:xfrm>
          <a:prstGeom prst="rect">
            <a:avLst/>
          </a:prstGeom>
          <a:ln w="0">
            <a:noFill/>
          </a:ln>
        </p:spPr>
      </p:pic>
      <p:sp>
        <p:nvSpPr>
          <p:cNvPr id="150" name="Title 1"/>
          <p:cNvSpPr/>
          <p:nvPr/>
        </p:nvSpPr>
        <p:spPr>
          <a:xfrm>
            <a:off x="5929200" y="1571760"/>
            <a:ext cx="3000600" cy="30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Soyabean has the best per capita protein production compared to any known agricultural enterprise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4"/>
          <p:cNvSpPr/>
          <p:nvPr/>
        </p:nvSpPr>
        <p:spPr>
          <a:xfrm>
            <a:off x="9917280" y="636480"/>
            <a:ext cx="2286000" cy="61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Per capita protein production through soya can remains supre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honde = soil organic mat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3" name="Picture 2" descr="C:\Users\Regis\Desktop\pictures_house\101MSDCF\DSC05126.JPG"/>
          <p:cNvPicPr/>
          <p:nvPr/>
        </p:nvPicPr>
        <p:blipFill>
          <a:blip r:embed="rId1"/>
          <a:stretch/>
        </p:blipFill>
        <p:spPr>
          <a:xfrm>
            <a:off x="1184400" y="1600200"/>
            <a:ext cx="67752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-360" y="356760"/>
            <a:ext cx="8729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Exposing farmers to agric intensification technologies .....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5" name="Picture 2" descr="C:\Users\Regis\Pictures\20-03-2013\DSC05141.JPG"/>
          <p:cNvPicPr/>
          <p:nvPr/>
        </p:nvPicPr>
        <p:blipFill>
          <a:blip r:embed="rId1"/>
          <a:stretch/>
        </p:blipFill>
        <p:spPr>
          <a:xfrm>
            <a:off x="928800" y="1857240"/>
            <a:ext cx="67752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-214560" y="-360"/>
            <a:ext cx="9644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.. and IITA, USAID, and MSU administrators in the field to see our intensification ideas at wor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7" name="Picture 2" descr="C:\Users\Regis\Desktop\DSC05113.JPG"/>
          <p:cNvPicPr/>
          <p:nvPr/>
        </p:nvPicPr>
        <p:blipFill>
          <a:blip r:embed="rId1"/>
          <a:srcRect l="10855" t="20381" r="0" b="0"/>
          <a:stretch/>
        </p:blipFill>
        <p:spPr>
          <a:xfrm>
            <a:off x="0" y="1357200"/>
            <a:ext cx="922032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28400" y="1499760"/>
            <a:ext cx="82818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2060"/>
                </a:solidFill>
                <a:latin typeface="Calibri"/>
              </a:rPr>
              <a:t>Agro-ecological intensification of smallholder agriculture through action research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rmgard in Linthipe, Dedza  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9" name="Picture 2" descr="C:\Users\Regis\Desktop\pictures_house\101MSDCF\DSC05109.JPG"/>
          <p:cNvPicPr/>
          <p:nvPr/>
        </p:nvPicPr>
        <p:blipFill>
          <a:blip r:embed="rId1"/>
          <a:stretch/>
        </p:blipFill>
        <p:spPr>
          <a:xfrm>
            <a:off x="1184400" y="1600200"/>
            <a:ext cx="67752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.... Farmers and researchers determine yields togethe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1" name="Picture 2" descr="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28760" y="928440"/>
            <a:ext cx="8229600" cy="407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000000"/>
                </a:solidFill>
                <a:uFillTx/>
                <a:latin typeface="Calibri"/>
              </a:rPr>
              <a:t>Postharvest issues</a:t>
            </a:r>
            <a:br>
              <a:rPr sz="4400"/>
            </a:b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flatoxin contamination worsened by storage of grain at high moisture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Grain moisture and aflatoxin – can we invest in moisture meter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4" name="Picture 2" descr="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Poor but happy at last 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6" name="Picture 2" descr="C:\Users\Regis\Desktop\DSC04972.JPG"/>
          <p:cNvPicPr/>
          <p:nvPr/>
        </p:nvPicPr>
        <p:blipFill>
          <a:blip r:embed="rId1"/>
          <a:stretch/>
        </p:blipFill>
        <p:spPr>
          <a:xfrm>
            <a:off x="1184400" y="1600200"/>
            <a:ext cx="6480000" cy="43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We invest in training exten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8" name="Picture 2" descr="C:\Users\Regis\Desktop\pictures_house\101MSDCF\DSC04676.JPG"/>
          <p:cNvPicPr/>
          <p:nvPr/>
        </p:nvPicPr>
        <p:blipFill>
          <a:blip r:embed="rId1"/>
          <a:stretch/>
        </p:blipFill>
        <p:spPr>
          <a:xfrm>
            <a:off x="1285920" y="1285920"/>
            <a:ext cx="6804000" cy="5102280"/>
          </a:xfrm>
          <a:prstGeom prst="rect">
            <a:avLst/>
          </a:prstGeom>
          <a:ln w="0">
            <a:noFill/>
          </a:ln>
        </p:spPr>
      </p:pic>
      <p:sp>
        <p:nvSpPr>
          <p:cNvPr id="169" name="Title 1"/>
          <p:cNvSpPr/>
          <p:nvPr/>
        </p:nvSpPr>
        <p:spPr>
          <a:xfrm>
            <a:off x="1571760" y="4857840"/>
            <a:ext cx="614340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100" spc="-1" strike="noStrike">
                <a:solidFill>
                  <a:srgbClr val="000000"/>
                </a:solidFill>
                <a:latin typeface="Calibri"/>
              </a:rPr>
              <a:t>Dedza, Nov 2012 workshop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28760" y="2214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900" spc="-1" strike="noStrike">
                <a:solidFill>
                  <a:srgbClr val="0070c0"/>
                </a:solidFill>
                <a:latin typeface="Arnprior"/>
              </a:rPr>
              <a:t>Dry bones can live again ...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2" name="Picture 2" descr="C:\Users\Regis\Desktop\DSC05087.JPG"/>
          <p:cNvPicPr/>
          <p:nvPr/>
        </p:nvPicPr>
        <p:blipFill>
          <a:blip r:embed="rId1"/>
          <a:stretch/>
        </p:blipFill>
        <p:spPr>
          <a:xfrm>
            <a:off x="1184400" y="1600200"/>
            <a:ext cx="67752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3160" y="228600"/>
            <a:ext cx="69339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504d"/>
                </a:solidFill>
                <a:latin typeface="Calibri"/>
              </a:rPr>
              <a:t>What we know…the fa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7778880" cy="180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smallholder farmers have traditionally developed </a:t>
            </a:r>
            <a:r>
              <a:rPr b="0" lang="en-GB" sz="3200" spc="-1" strike="noStrike">
                <a:solidFill>
                  <a:srgbClr val="cc0000"/>
                </a:solidFill>
                <a:latin typeface="Calibri"/>
              </a:rPr>
              <a:t>risk-averse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management practices in an effort to ensure meeting their </a:t>
            </a:r>
            <a:r>
              <a:rPr b="0" lang="en-GB" sz="3200" spc="-1" strike="noStrike">
                <a:solidFill>
                  <a:srgbClr val="cc0000"/>
                </a:solidFill>
                <a:latin typeface="Calibri"/>
              </a:rPr>
              <a:t>subsistence food need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Line 4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571680" y="3643200"/>
            <a:ext cx="770400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practices are largely </a:t>
            </a:r>
            <a:r>
              <a:rPr b="0" lang="en-GB" sz="3200" spc="-1" strike="noStrike">
                <a:solidFill>
                  <a:srgbClr val="c0504d"/>
                </a:solidFill>
                <a:latin typeface="Calibri"/>
              </a:rPr>
              <a:t>sub-optimal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ven under </a:t>
            </a:r>
            <a:r>
              <a:rPr b="0" lang="en-GB" sz="3200" spc="-1" strike="noStrike">
                <a:solidFill>
                  <a:srgbClr val="c0504d"/>
                </a:solidFill>
                <a:latin typeface="Calibri"/>
              </a:rPr>
              <a:t>favourable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climatic condition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8584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e intensification strategy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56760" y="2000160"/>
            <a:ext cx="8358120" cy="29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Produce </a:t>
            </a:r>
            <a:r>
              <a:rPr b="1" lang="en-GB" sz="3200" spc="-1" strike="noStrike" u="sng">
                <a:solidFill>
                  <a:srgbClr val="000000"/>
                </a:solidFill>
                <a:uFillTx/>
                <a:latin typeface="Calibri"/>
              </a:rPr>
              <a:t>surplus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food in </a:t>
            </a:r>
            <a:r>
              <a:rPr b="1" lang="en-GB" sz="3200" spc="-1" strike="noStrike" u="sng">
                <a:solidFill>
                  <a:srgbClr val="000000"/>
                </a:solidFill>
                <a:uFillTx/>
                <a:latin typeface="Calibri"/>
              </a:rPr>
              <a:t>favourable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seasons and have less shocks in future bad season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he link between agricultural intensification and building of local safety nets in a changing clim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70c0"/>
                </a:solidFill>
                <a:latin typeface="Calibri"/>
              </a:rPr>
              <a:t>more resilient communi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115480" cy="208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alibri"/>
              </a:rPr>
              <a:t>Are technological options to achieve this available?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2071800" y="3428640"/>
            <a:ext cx="5857920" cy="23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800" spc="-1" strike="noStrike">
                <a:solidFill>
                  <a:srgbClr val="558ed5"/>
                </a:solidFill>
                <a:latin typeface="Calibri"/>
              </a:rPr>
              <a:t>Yes/oui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11548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alibri"/>
              </a:rPr>
              <a:t>Any problem then?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28400" y="1857240"/>
            <a:ext cx="8715240" cy="35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876"/>
              </a:spcBef>
              <a:buClr>
                <a:srgbClr val="558e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558ed5"/>
                </a:solidFill>
                <a:latin typeface="Calibri"/>
              </a:rPr>
              <a:t>Yes – inappropriate packaging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876"/>
              </a:spcBef>
              <a:buClr>
                <a:srgbClr val="558e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558ed5"/>
                </a:solidFill>
                <a:latin typeface="Calibri"/>
              </a:rPr>
              <a:t>Farmers fail to relate well with nice technologies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850"/>
              </a:spcBef>
              <a:buClr>
                <a:srgbClr val="558ed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558ed5"/>
                </a:solidFill>
                <a:latin typeface="Calibri"/>
              </a:rPr>
              <a:t>inappropriate learning platforms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850"/>
              </a:spcBef>
              <a:buClr>
                <a:srgbClr val="558ed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558ed5"/>
                </a:solidFill>
                <a:latin typeface="Calibri"/>
              </a:rPr>
              <a:t> </a:t>
            </a:r>
            <a:r>
              <a:rPr b="0" lang="en-GB" sz="3400" spc="-1" strike="noStrike">
                <a:solidFill>
                  <a:srgbClr val="558ed5"/>
                </a:solidFill>
                <a:latin typeface="Calibri"/>
              </a:rPr>
              <a:t>technologies coming as rigid packages,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799"/>
              </a:spcBef>
              <a:buClr>
                <a:srgbClr val="558ed5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58ed5"/>
                </a:solidFill>
                <a:latin typeface="Calibri"/>
              </a:rPr>
              <a:t>Wholesome uptake unlike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799"/>
              </a:spcBef>
              <a:buClr>
                <a:srgbClr val="558ed5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58ed5"/>
                </a:solidFill>
                <a:latin typeface="Calibri"/>
              </a:rPr>
              <a:t>rigidity stifling local innov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850"/>
              </a:spcBef>
              <a:buClr>
                <a:srgbClr val="558ed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850"/>
              </a:spcBef>
              <a:buClr>
                <a:srgbClr val="558e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Research ques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28760" y="1428840"/>
            <a:ext cx="828648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hat are the current biophysical and socio-economic constraints to increase quality, quantity and diversity of crop and livestock products? (RO1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hat  are the agricultural technology options that are amenable to sustainable intensification and concurrently alleviate poverty, improve nutrition and ecosystem stability? (RO1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How effective are the different technological options under different biophysical and socioeconomic conditions in achieving  poverty alleviation, improve nutrition and ecosystem stability? (RO2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hat are the major factors that determine farmers’ participation in field-based learning platforms and subsequent influence on their use of soil fertility and livestock production intensification technologies? (RO2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hat are the key ingredients for effective co-learning,  technology adaptation, scaling and delivery to farmers in heterogeneous farming systems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57120" y="1857240"/>
            <a:ext cx="8229600" cy="214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2060"/>
                </a:solidFill>
                <a:latin typeface="Calibri"/>
              </a:rPr>
              <a:t>Making experimentation with farmers (action research) a joy ..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21T00:17:23Z</dcterms:created>
  <dc:creator>Regis</dc:creator>
  <dc:description/>
  <dc:language>en-US</dc:language>
  <cp:lastModifiedBy>USAID</cp:lastModifiedBy>
  <dcterms:modified xsi:type="dcterms:W3CDTF">2013-06-06T21:50:32Z</dcterms:modified>
  <cp:revision>164</cp:revision>
  <dc:subject/>
  <dc:title>Slide 1</dc:title>
</cp:coreProperties>
</file>