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2.xml" ContentType="application/vnd.openxmlformats-officedocument.presentationml.comments+xml"/>
  <Override PartName="/ppt/comments/comment3.xml" ContentType="application/vnd.openxmlformats-officedocument.presentationml.comments+xml"/>
  <Override PartName="/ppt/comments/comment22.xml" ContentType="application/vnd.openxmlformats-officedocument.presentationml.comments+xml"/>
  <Override PartName="/ppt/comments/comment9.xml" ContentType="application/vnd.openxmlformats-officedocument.presentationml.comments+xml"/>
  <Override PartName="/ppt/comments/comment13.xml" ContentType="application/vnd.openxmlformats-officedocument.presentationml.comments+xml"/>
  <Override PartName="/ppt/comments/comment14.xml" ContentType="application/vnd.openxmlformats-officedocument.presentationml.comments+xml"/>
  <Override PartName="/ppt/comments/comment15.xml" ContentType="application/vnd.openxmlformats-officedocument.presentationml.comments+xml"/>
  <Override PartName="/ppt/comments/comment1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baidoo, Robert  (IITA)" initials="AR (" lastIdx="9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<Relationship Id="rId28" Type="http://schemas.openxmlformats.org/officeDocument/2006/relationships/commentAuthors" Target="commentAuthors.xml"/>
</Relationships>
</file>

<file path=ppt/comments/comment13.xml><?xml version="1.0" encoding="utf-8"?>
<p:cmLst xmlns:p="http://schemas.openxmlformats.org/presentationml/2006/main">
  <p:cm authorId="0" dt="2012-01-09T08:13:30.711000000" idx="4">
    <p:pos x="2488" y="2136"/>
    <p:text>ambigious? improved food secirity strategies??</p:text>
  </p:cm>
</p:cmLst>
</file>

<file path=ppt/comments/comment14.xml><?xml version="1.0" encoding="utf-8"?>
<p:cmLst xmlns:p="http://schemas.openxmlformats.org/presentationml/2006/main">
  <p:cm authorId="0" dt="2012-01-09T08:15:19.776000000" idx="5">
    <p:pos x="656" y="2464"/>
    <p:text>insert 'and prioritize'</p:text>
  </p:cm>
</p:cmLst>
</file>

<file path=ppt/comments/comment15.xml><?xml version="1.0" encoding="utf-8"?>
<p:cmLst xmlns:p="http://schemas.openxmlformats.org/presentationml/2006/main">
  <p:cm authorId="0" dt="2012-01-09T08:16:02.119000000" idx="6">
    <p:pos x="584" y="1416"/>
    <p:text>can we do this?</p:text>
  </p:cm>
</p:cmLst>
</file>

<file path=ppt/comments/comment17.xml><?xml version="1.0" encoding="utf-8"?>
<p:cmLst xmlns:p="http://schemas.openxmlformats.org/presentationml/2006/main">
  <p:cm authorId="0" dt="2012-01-09T08:18:58.618000000" idx="7">
    <p:pos x="5040" y="3248"/>
    <p:text>many other nutrients are equally limiting</p:text>
  </p:cm>
</p:cmLst>
</file>

<file path=ppt/comments/comment2.xml><?xml version="1.0" encoding="utf-8"?>
<p:cmLst xmlns:p="http://schemas.openxmlformats.org/presentationml/2006/main">
  <p:cm authorId="0" dt="2012-01-09T08:00:16.812000000" idx="1">
    <p:pos x="10" y="10"/>
    <p:text/>
  </p:cm>
</p:cmLst>
</file>

<file path=ppt/comments/comment22.xml><?xml version="1.0" encoding="utf-8"?>
<p:cmLst xmlns:p="http://schemas.openxmlformats.org/presentationml/2006/main">
  <p:cm authorId="0" dt="2012-01-09T08:21:06.171000000" idx="8">
    <p:pos x="3484" y="1031"/>
    <p:text>Add KNUST for Capacity building</p:text>
  </p:cm>
  <p:cm authorId="0" dt="2012-01-09T08:21:47.270000000" idx="9">
    <p:pos x="3569" y="1841"/>
    <p:text>Add N2Africa</p:text>
  </p:cm>
</p:cmLst>
</file>

<file path=ppt/comments/comment3.xml><?xml version="1.0" encoding="utf-8"?>
<p:cmLst xmlns:p="http://schemas.openxmlformats.org/presentationml/2006/main">
  <p:cm authorId="0" dt="2012-01-09T08:03:01.955000000" idx="2">
    <p:pos x="5337" y="340"/>
    <p:text>production systems</p:text>
  </p:cm>
</p:cmLst>
</file>

<file path=ppt/comments/comment9.xml><?xml version="1.0" encoding="utf-8"?>
<p:cmLst xmlns:p="http://schemas.openxmlformats.org/presentationml/2006/main">
  <p:cm authorId="0" dt="2012-01-09T08:07:56.815000000" idx="3">
    <p:pos x="5122" y="3151"/>
    <p:text>What does this mean? why not llimited sustained capacity building programmes in agricultural technologies and associated manpower needs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EF63-C9EA-44AD-B3C0-D3A42DA6D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B5FD726-D1F4-4FCF-BC73-7880CEF06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D37D-D1E7-466D-B613-0F7DAD334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F18F9B-1CA8-43C3-8081-1DF82FF07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3560"/>
            <a:ext cx="297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334FE7-2B51-4B6C-90D8-94CE4197B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43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F479-59AF-42C2-9E5E-BF93B4A98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86D8-C388-46B8-9820-34224309E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3192-3AC7-4CC8-A643-C89CB0C49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FF2-27BA-476E-BC2F-BFFDDCE2A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6DA4-467C-4B85-99F1-550E8857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6AA-F966-4721-9235-9FE5A579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A34B-21A7-4142-B0FA-CE99F13F7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EA41-BDDB-49B1-B0D2-8055EA04B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64C9-62D4-44E2-8D72-301A1A7D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1D7C-7063-4BCF-B497-4EBE3ABB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25AC-71EF-45D3-A84B-342D7473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013D-0F6E-4E3D-A9B6-034E4C64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007C-6D55-4D35-9D8D-132C22714F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ustainable Intensification of Cereal-Legume Farming Systems in the Sudano-Sahelian Savanna Zone of Gh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Y Kama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s Agronomi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TA-K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Objectiv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productivity of maize-legume and crop/tree/livestock systems in the Sudan savanna zone of Gh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 and strengthen partnerships for implementing sustainable initiatives in the maize-legume systems of northern G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land, water, and natural resource management for increased systems productiv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improve the adoption of productive and resilient agronomic practices and local innovation systems for system inten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 rural incomes through improved market linkages for rural far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rove nutritional status of populations improved through increased nutritional awareness interventions and promotion of dietary divers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ographical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Region- Karaga, Cheroponi, and  Tolon-Kumbun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West Region-Kassena-Nankana and Bawku W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per East Region-Wa East and Nadow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ject outpu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al innovation platform (IPs) operating with capacity of partners strengthened at different levels to resolve community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roved rural incomes through improved input-output marketing for smallholder far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tritional status of populations improved through increased nutritional awareness interventions and promotion of dietary d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innovation platform (IPs) operating with capacity of partners strengthened at different levels to resolve community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districts  and communities to participate in projec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potential IP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agree modalities, procedures, responsibilities, tasks and interaction among IP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take community and livelihood analysis to identify and priortize constraints and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IP activities and review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raining needs  of project stakeholders and conduct training a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graduate training for members of research institutions participating in the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e impacts of soil and water conservation strategies on system productivity compared to traditional cultural practic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sess the performance of tree crops with fertilizer rations, fodder and fruit  tree spec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te information on soil health and the key tree crops for food security and CDM pro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 knowledge and options for growth resources sharing between annual and perennial components in agroforestry syste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potential of surface and groundwater pump irrigation for dry season farming and supplemental irr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actual and potential spatial spread of pump irrigation practices along major rivers in the three Northern Reg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nd, water, and natural resource management technologies identified and promo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e options of land use changes and land management practices which would prevent land degrad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pproaches and technologies needed to improve rainwater harvesting and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entify and evaluate models for conducting water balance estimates at watershed scales in study si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rmine the potential increases in crop yields attainable through improved rainwater harvesting and supplemental irrig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lect best varieties of soybean for high N2-fixation capacity and adaptation to abiotic and biotic stresses (pests and diseas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 best-fit agronomic practices for maximizing potential benefits of legume and inoculant technologies on increasing and stabilizing productiv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e contributions of improved legume varieties to best-fit agronomic practices, system productivity and farm livelihood with specific attention to trade-off analysis between competing agricultural enterpri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ing of improved crop varieties to mitigate farmer identified productio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nduct on-station and on-farm trials across agro-ecologies to identify high-yielding, drought, pest and disease tolerant maize and legume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 varietal performance data to facilitate variety registration and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functional community based seed production schemes and link to seed compan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promote improved crop management practices that optimize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phosphorous application rate and starter N application to soybeans, groundnuts and cowp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crop diversification to arrest environmental degradation including declining soil fertility and increased Striga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IPM technologies for pest management in 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and quantify the contribution of legumes to improve the productivity and profitability of farming systems across different agro-ec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alidation of simulation models for growth and yield of maize, cowpea, and soybean cultivars under simulated changing climate scenar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e more feed through identification of food-feed varieties of major crop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cropping systems for sustainable agricultural productivity identified and promoted among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sess tillage and biomass management options; develop smart combination of cereal and legumes residues for improved animal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velop options for moving feed temporarily and spatially through promotion of fodder trade, improved storage to reduce dry season scar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develop with farmers livestock management options that optimize nutrient cycling and draught animal power input to cropping and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dentify and promote the most productive and nutritious vegetable varieties to boost their production and optimize their unique nutritive proper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valuate and promote options for the resilient production of vegetable crop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-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pt with farmers available crop, soil and pest management technologies to boost current vegetable 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orthern Regions of Ghana are characterized by small land holdings of low input-output farm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dversely impact food security in terms of availability, access and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ops in the Ghana savannas are often produced in production systems in which soil natural resources are steadily deple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roved rural incomes through improved input-output marketing for smallholder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 maize and grain legume sub-sector surveys to Identify market and investment opportunities to promote production, processing and marketing of maize and grain legumes in northern G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ulate strategy to develop maize and grain legume value chain in northern Gh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rry out participatory value chain analysis to identify constraints, needs, and solutions to vegetable market chain ineffici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ess existing vegetable postharvest technologies and potential for small scal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utritional status of populations improved through increased nutritional awareness interventions and promotion of dietary d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 traditional foods and explore ways of modifying food preparation practices to optimize retention of nutrients and improve bio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cument local food systems and investigate traditional food technologies and improve food preservation and distribution by local entrepreneu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evidence-based dietary strategies with locally-adapted options and analyze their acceptability and effectiv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oposed part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earch: IITA, IWMI, ILRI, AVRDC,, SARI, KN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Os in Ghan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d compani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ybean processo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A funded projects in northern Gh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ARA fertilizer compan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Serve, Tamale Implement Factory Ltd, 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K&amp;A oil mill, ADVANCE (USAID project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hana Nuts oil mill and their out growers project GOAL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anna Farmers Marketing Company Lt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Options for scaling 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chnology dissemination approach of this project is based upon a series of proven developmental models including group training in technology extension, Participatory Research and Development, community-based outreach through farmer collective action, and the support for agricultural value chain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on Platforms that include broad partnership involving researchers, extension system, marketers, policy ma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of GIS tools, modelling to scale-out workable technologies to broader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to community seed production and linkage with seed companies to enhance ado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ffects of continous monocro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ing soil organic matter cont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populations of chronic parasitic weeds (eg. Striga spp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soil biological divers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d  risk of erosion, and annual nutrient loss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on-farm maize yields (1-2t/ha) are well below on-station yields (6-8t/h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761760"/>
            <a:ext cx="66294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55040" y="3230640"/>
            <a:ext cx="31921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sorgh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454320" y="6029280"/>
            <a:ext cx="281088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ma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9"/>
          <p:cNvSpPr/>
          <p:nvPr/>
        </p:nvSpPr>
        <p:spPr>
          <a:xfrm>
            <a:off x="4721400" y="5715000"/>
            <a:ext cx="303804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6"/>
          <p:cNvGrpSpPr/>
          <p:nvPr/>
        </p:nvGrpSpPr>
        <p:grpSpPr>
          <a:xfrm>
            <a:off x="380880" y="1371600"/>
            <a:ext cx="8077320" cy="5105520"/>
            <a:chOff x="380880" y="1371600"/>
            <a:chExt cx="8077320" cy="5105520"/>
          </a:xfrm>
        </p:grpSpPr>
        <p:pic>
          <p:nvPicPr>
            <p:cNvPr id="60" name="Picture 9" descr="my picture0120"/>
            <p:cNvPicPr/>
            <p:nvPr/>
          </p:nvPicPr>
          <p:blipFill>
            <a:blip r:embed="rId1"/>
            <a:stretch/>
          </p:blipFill>
          <p:spPr>
            <a:xfrm>
              <a:off x="380880" y="1371600"/>
              <a:ext cx="388620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Picture 12" descr="0006"/>
            <p:cNvPicPr/>
            <p:nvPr/>
          </p:nvPicPr>
          <p:blipFill>
            <a:blip r:embed="rId2"/>
            <a:stretch/>
          </p:blipFill>
          <p:spPr>
            <a:xfrm>
              <a:off x="380880" y="3886200"/>
              <a:ext cx="388620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18" descr="0231"/>
            <p:cNvPicPr/>
            <p:nvPr/>
          </p:nvPicPr>
          <p:blipFill>
            <a:blip r:embed="rId3"/>
            <a:stretch/>
          </p:blipFill>
          <p:spPr>
            <a:xfrm>
              <a:off x="4267080" y="3886200"/>
              <a:ext cx="41911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3" descr="my picture0105"/>
            <p:cNvPicPr/>
            <p:nvPr/>
          </p:nvPicPr>
          <p:blipFill>
            <a:blip r:embed="rId4"/>
            <a:stretch/>
          </p:blipFill>
          <p:spPr>
            <a:xfrm>
              <a:off x="4267080" y="1371600"/>
              <a:ext cx="4191120" cy="25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Text Box 24"/>
          <p:cNvSpPr/>
          <p:nvPr/>
        </p:nvSpPr>
        <p:spPr>
          <a:xfrm>
            <a:off x="4782240" y="3211560"/>
            <a:ext cx="255636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5680" y="68544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Highlights of biophysical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100_0076"/>
          <p:cNvPicPr/>
          <p:nvPr/>
        </p:nvPicPr>
        <p:blipFill>
          <a:blip r:embed="rId1"/>
          <a:stretch/>
        </p:blipFill>
        <p:spPr>
          <a:xfrm>
            <a:off x="380880" y="1371600"/>
            <a:ext cx="4353120" cy="4572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DSC05086"/>
          <p:cNvPicPr/>
          <p:nvPr/>
        </p:nvPicPr>
        <p:blipFill>
          <a:blip r:embed="rId2"/>
          <a:stretch/>
        </p:blipFill>
        <p:spPr>
          <a:xfrm>
            <a:off x="4724280" y="137160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0" descr="IMG_4039"/>
          <p:cNvPicPr/>
          <p:nvPr/>
        </p:nvPicPr>
        <p:blipFill>
          <a:blip r:embed="rId1"/>
          <a:stretch/>
        </p:blipFill>
        <p:spPr>
          <a:xfrm>
            <a:off x="4495680" y="1295280"/>
            <a:ext cx="4267440" cy="2590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IMG_4044"/>
          <p:cNvPicPr/>
          <p:nvPr/>
        </p:nvPicPr>
        <p:blipFill>
          <a:blip r:embed="rId2"/>
          <a:stretch/>
        </p:blipFill>
        <p:spPr>
          <a:xfrm>
            <a:off x="304920" y="3886200"/>
            <a:ext cx="4184640" cy="26668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4796640" y="3162240"/>
            <a:ext cx="318132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Alectr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454320" y="5908680"/>
            <a:ext cx="303804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trig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effect on cowp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7" descr="DSC01430"/>
          <p:cNvPicPr/>
          <p:nvPr/>
        </p:nvPicPr>
        <p:blipFill>
          <a:blip r:embed="rId3"/>
          <a:stretch/>
        </p:blipFill>
        <p:spPr>
          <a:xfrm>
            <a:off x="316080" y="1295280"/>
            <a:ext cx="4179600" cy="2590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DSC00903"/>
          <p:cNvPicPr/>
          <p:nvPr/>
        </p:nvPicPr>
        <p:blipFill>
          <a:blip r:embed="rId4"/>
          <a:stretch/>
        </p:blipFill>
        <p:spPr>
          <a:xfrm>
            <a:off x="4491000" y="3886200"/>
            <a:ext cx="4272120" cy="26668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9"/>
          <p:cNvSpPr/>
          <p:nvPr/>
        </p:nvSpPr>
        <p:spPr>
          <a:xfrm>
            <a:off x="4781880" y="5830920"/>
            <a:ext cx="308088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ought effect on ma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"/>
          <p:cNvSpPr/>
          <p:nvPr/>
        </p:nvSpPr>
        <p:spPr>
          <a:xfrm>
            <a:off x="457200" y="3200400"/>
            <a:ext cx="3429000" cy="398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ought effect on soyb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680" y="685440"/>
            <a:ext cx="67816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Highlights of biophysic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7"/>
          <p:cNvGrpSpPr/>
          <p:nvPr/>
        </p:nvGrpSpPr>
        <p:grpSpPr>
          <a:xfrm>
            <a:off x="343080" y="1447920"/>
            <a:ext cx="8304840" cy="4952520"/>
            <a:chOff x="343080" y="1447920"/>
            <a:chExt cx="8304840" cy="4952520"/>
          </a:xfrm>
        </p:grpSpPr>
        <p:sp>
          <p:nvSpPr>
            <p:cNvPr id="80" name="Rectangle 8"/>
            <p:cNvSpPr/>
            <p:nvPr/>
          </p:nvSpPr>
          <p:spPr>
            <a:xfrm>
              <a:off x="343080" y="1447920"/>
              <a:ext cx="8304840" cy="4952520"/>
            </a:xfrm>
            <a:prstGeom prst="rect">
              <a:avLst/>
            </a:prstGeom>
            <a:solidFill>
              <a:srgbClr val="ffffcc"/>
            </a:solidFill>
            <a:ln w="1908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Object 9"/>
            <p:cNvGraphicFramePr/>
            <p:nvPr/>
          </p:nvGraphicFramePr>
          <p:xfrm>
            <a:off x="733680" y="1609920"/>
            <a:ext cx="7523280" cy="4626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3680" y="1609920"/>
                      <a:ext cx="7523280" cy="462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" name="Text Box 7"/>
          <p:cNvSpPr/>
          <p:nvPr/>
        </p:nvSpPr>
        <p:spPr>
          <a:xfrm>
            <a:off x="689400" y="5410080"/>
            <a:ext cx="259020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or soil fer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s of continous monocrop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verty profile also depicts the three northern regions as the most poverty stricken and hunger spots in Gha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der inequalities are also apparent in these regions where women have less access to resources and capacity to generate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development in marketing and transport, access to social services, such as education and health are poor in the three northern reg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ivers of Food insecurity in northern Gha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atic rainfall distribution and recurrent drough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ds and crop failures leading to poor yiel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post-harvest loss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ck of improved storage structures and market for farm produ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ccess to productive resources such as land, irrigable land, labou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access to improved livestock breeds and crop varieti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water for dry season irrigated agricul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adequate human resource for development and transfer of agricultural technolog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8:47:50Z</dcterms:created>
  <dc:creator>Kamara</dc:creator>
  <dc:description/>
  <dc:language>en-US</dc:language>
  <cp:lastModifiedBy>PBallantyne</cp:lastModifiedBy>
  <dcterms:modified xsi:type="dcterms:W3CDTF">2012-01-10T07:19:47Z</dcterms:modified>
  <cp:revision>25</cp:revision>
  <dc:subject/>
  <dc:title>Sustainable Intensification of Cereal-Legume Farming Systems in the Sudan Savanna Zone of Ghana</dc:title>
</cp:coreProperties>
</file>