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FDA-4310-4210-A82A-DD5E9B81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03A-A6C5-458B-9431-E24027C3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2C2-2A0E-4CB8-94AF-F3720399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B86-8F8E-4741-BD6E-1D19C1A4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961-D887-44CB-A73C-837E36F1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1E5-708A-4054-9D10-6203420C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C18-2019-45A4-977E-2EF8A46A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2BD-6826-495D-8106-BF353ECD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39A-B54C-4775-BD23-AE3301E8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ABA-18A1-4770-A8A9-41254CAD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C19-703A-437D-885C-549E6703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A22-5BC4-4DD3-A898-180D8849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9C0F-DE10-4A22-BFEC-5453034EC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technolog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NOW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search for agric inputs delivery mechanis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s  - market input  (seed, fertilizer supply, pesticides, farm implements ….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the relevant regulatory body to carry out quality control of different inputs in the market of technolog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evelop information related to the use and impact of different agric inpu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alternative input delivery mechanisms/ accessibility for different household typologies – private, public, NGOs, farmer organization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228600"/>
          <a:ext cx="8686800" cy="5486400"/>
        </p:xfrm>
        <a:graphic>
          <a:graphicData uri="http://schemas.openxmlformats.org/drawingml/2006/table">
            <a:tbl>
              <a:tblPr/>
              <a:tblGrid>
                <a:gridCol w="3809880"/>
                <a:gridCol w="2743200"/>
                <a:gridCol w="21337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esearch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tic nutrient limitations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technologies -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, MSU, SUA, IITA, ICRISAT,  Bunda College, CIMM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monitoring system -  diseases, crop prodc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AF, UNZA, CIAT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labour saving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, Othe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MAT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 pesticide mis(use) in vegetable gard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mycotoxins, particularly groundnut an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-ante analysis of different land management op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I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, MSU,CIAT, ICR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RI in Tanza, N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DA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914400"/>
          <a:ext cx="9144000" cy="5029200"/>
        </p:xfrm>
        <a:graphic>
          <a:graphicData uri="http://schemas.openxmlformats.org/drawingml/2006/table">
            <a:tbl>
              <a:tblPr/>
              <a:tblGrid>
                <a:gridCol w="3809880"/>
                <a:gridCol w="2286000"/>
                <a:gridCol w="30481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the relevant regulatory body to carry out quality control of different inputs in the market of technolog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information related to the use and impact of different agric 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alternative input delivery mechanisms/ accessibility for different household typologies – private, public, NGOs, farmer organization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Rs, NGOs, private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your group name under th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828800" y="19810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il –Crop Grou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ize based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groecolog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762120"/>
          <a:ext cx="7772400" cy="5851440"/>
        </p:xfrm>
        <a:graphic>
          <a:graphicData uri="http://schemas.openxmlformats.org/drawingml/2006/table">
            <a:tbl>
              <a:tblPr/>
              <a:tblGrid>
                <a:gridCol w="2274840"/>
                <a:gridCol w="2654280"/>
                <a:gridCol w="2843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 (&gt;1100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humid (500-1100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-arid (&lt;800 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(early and drought toleran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 (plant lat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ice of var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apted varie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in legumes with high H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mbing beans –high altitu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oral and spatial crop arrang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p ro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cropping (maize-pigeonpe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ubled-up legumes (pigeon pea –groundnut/cowpea) –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xploit resource use niche complementar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t input from farmer action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introduce systems from other regions e.g. Cowpea from west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il fertility and nutrient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agnostic nutrient trials (establish nutrient limitat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rgeted combinations of nutrients (organic/inorganic) for the cropping system and soil typ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ro dos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ponsive system of N application based on rainfall season quality – withhold resources when it does no longer make economic sense to app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iar application of micronutrients (Zinc, boron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ding to farm typologies and dom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560" y="9140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il and water conserv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for semi arid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cover technologies - semi-arid and sandy so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agriculture (soil cov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dging, terracing,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rehab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ginal lands – species with high biomass and soil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520" y="9140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erant/resistant var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, diagnostics and responsiv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zapyr resistant  (IR maize) - this pesticide kills str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tilit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s/intercr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sh-Pull (crop –livestoc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ultural practices to pre-empt and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 use – appropriate use for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cotoxins –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560" y="685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ur saving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zation for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oug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harves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of storage techniques/facilities e.g bags, si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comb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ropriate varieties + cultural practices +soil fertility management + IPM + labour saving technologies +post harvest and safety oriented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3:14Z</dcterms:modified>
  <cp:revision>53</cp:revision>
  <dc:subject/>
  <dc:title>What component technologies  would fit in this system?</dc:title>
</cp:coreProperties>
</file>