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E0A3-ABB9-4A19-ADB6-F18FD83CD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5CAA-561C-4569-95FC-FA0AF7079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4D71-1D89-4E45-B4F9-4CDB55A7A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0D48-2C57-4FA2-B652-02AC949E4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A36B-EEBB-466B-B11C-D78221BA8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E7E3-D3E8-4EC6-95F3-F9AA48645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9527-91C5-489B-AFBC-E0285D714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D010-41AE-4B7A-91C7-58DA3B474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EBDC-710D-4948-9C02-00FFA7A4F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1066-C8F7-4445-97B7-F6B3AFB9D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9EAB-168E-434C-88F1-61CDB577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96F9-9D10-4230-BCDB-D4532B5B7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0EC31-2CF4-4672-A843-24D5E58AAE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OIL AND CROP (1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Group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tangible research activities should we undertake to test if our combination fits this system?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NOW?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to be in the fiel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167616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Biophysical technologi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stablishment of nutrient limitations – nutrient limiting trials across domains (this will inform modeling activities lat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ticipatory evaluation of integrated technologies (varieties, balanced nutrient inputs, IPM, water managemen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stablish monitoring system - for diseases, crop productivity in farmers’ fields, soil fertility surveys, land degradation assess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ticipatory evaluation of labour saving technolog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nitor pesticide mis(use) in vegetable garde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aluate mycotoxins, particularly groundnut and maiz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-ante analysis of different land management option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38188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What tangible research activities should we undertake to test if our combination fits this system? </a:t>
            </a:r>
            <a:r>
              <a:rPr b="1" lang="en-US" sz="2900" spc="-1" strike="noStrike" u="sng">
                <a:solidFill>
                  <a:srgbClr val="000000"/>
                </a:solidFill>
                <a:uFillTx/>
                <a:latin typeface="Calibri"/>
              </a:rPr>
              <a:t>NOW </a:t>
            </a:r>
            <a:br>
              <a:rPr sz="2900"/>
            </a:br>
            <a:r>
              <a:rPr b="1" lang="en-US" sz="2900" spc="-1" strike="noStrike">
                <a:solidFill>
                  <a:srgbClr val="000000"/>
                </a:solidFill>
                <a:latin typeface="Calibri"/>
              </a:rPr>
              <a:t>Research for agric inputs delivery mechanism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3352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itutions  - market input  (seed, fertilizer supply, pesticides, farm implements ….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acilitate the relevant regulatory body to carry out quality control of different inputs in the market of technologie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o develop information related to the use and impact of different agric inpu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est alternative input delivery mechanisms/ accessibility for different household typologies – private, public, NGOs, farmer organizations, etc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tangible research activities should we undertake to test if our combination fits this system?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NOW?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to be in the fiel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04920" y="167616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stablishment of nutrient limitations – nutrient limiting trials across domains (this will inform modeling activities lat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articipatory evaluation of integrated technologies (varieties, balanced nutrient inputs, IPM, water management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stablish monitoring system - for diseases, crop productivity in farmers’ fields, soil fertility surveys, land degradation assess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articipatory evaluation of labour saving technolog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onitor pesticide mis(use) in vegetable gard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valuate mycotoxins, particularly groundnut and maiz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x-ante analysis of different land management option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228600" y="228600"/>
          <a:ext cx="8686800" cy="5486400"/>
        </p:xfrm>
        <a:graphic>
          <a:graphicData uri="http://schemas.openxmlformats.org/drawingml/2006/table">
            <a:tbl>
              <a:tblPr/>
              <a:tblGrid>
                <a:gridCol w="3809880"/>
                <a:gridCol w="2743200"/>
                <a:gridCol w="2133720"/>
              </a:tblGrid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o should be part of the Research te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tential partn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gnostic nutrient limitations 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ticipatory evaluation of technologies -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AT, MSU, SUA, IITA, ICRISAT,  Bunda College, CIMMY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NI, N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tablish monitoring system -  diseases, crop prodc, et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TA, ICRAF, UNZA, CIAT, MS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NI, N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ticipatory evaluation of labour saving technolog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MMYT, Other cent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MATE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27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itor pesticide mis(use) in vegetable garde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valuate mycotoxins, particularly groundnut and ma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-ante analysis of different land management option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TA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TA, ICRIS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FPRI, MSU,CIAT, ICRA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PRI in Tanza, NAR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FDA, N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0" y="914400"/>
          <a:ext cx="9144000" cy="5029200"/>
        </p:xfrm>
        <a:graphic>
          <a:graphicData uri="http://schemas.openxmlformats.org/drawingml/2006/table">
            <a:tbl>
              <a:tblPr/>
              <a:tblGrid>
                <a:gridCol w="3809880"/>
                <a:gridCol w="2286000"/>
                <a:gridCol w="3048120"/>
              </a:tblGrid>
              <a:tr h="7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ho should be part of the 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tential partn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2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cilitate the relevant regulatory body to carry out quality control of different inputs in the market of technologi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develop information related to the use and impact of different agric inp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 alternative input delivery mechanisms/ accessibility for different household typologies – private, public, NGOs, farmer organizations, et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GIAR cent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GIAR centres, MS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vernment regulatory author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put suppli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Rs, NGOs, private se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vernment regulatory author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put suppli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OIL AND CROP (2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Put your group name under thi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Oval 2"/>
          <p:cNvSpPr/>
          <p:nvPr/>
        </p:nvSpPr>
        <p:spPr>
          <a:xfrm>
            <a:off x="1258920" y="1844640"/>
            <a:ext cx="3600360" cy="280836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Oval 3"/>
          <p:cNvSpPr/>
          <p:nvPr/>
        </p:nvSpPr>
        <p:spPr>
          <a:xfrm>
            <a:off x="179280" y="3357720"/>
            <a:ext cx="3600720" cy="2808000"/>
          </a:xfrm>
          <a:prstGeom prst="ellipse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Oval 4"/>
          <p:cNvSpPr/>
          <p:nvPr/>
        </p:nvSpPr>
        <p:spPr>
          <a:xfrm>
            <a:off x="2340000" y="3357720"/>
            <a:ext cx="3600360" cy="2808000"/>
          </a:xfrm>
          <a:prstGeom prst="ellipse">
            <a:avLst/>
          </a:prstGeom>
          <a:noFill/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676520" y="2495520"/>
            <a:ext cx="28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1. Crop/Shrubs/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3922560" y="493380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3.Livest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250920" y="501336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0504d"/>
                </a:solidFill>
                <a:latin typeface="Comic Sans MS"/>
                <a:ea typeface="Arial"/>
              </a:rPr>
              <a:t>2. </a:t>
            </a: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/W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5410080" y="1066680"/>
            <a:ext cx="3733920" cy="33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99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       </a:t>
            </a: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  </a:t>
            </a:r>
            <a:r>
              <a:rPr b="0" lang="en-GB" sz="1800" spc="-1" strike="noStrike">
                <a:solidFill>
                  <a:srgbClr val="ff3300"/>
                </a:solidFill>
                <a:latin typeface="Comic Sans MS"/>
                <a:ea typeface="Arial"/>
              </a:rPr>
              <a:t>      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r>
              <a:rPr b="0" lang="en-GB" sz="1800" spc="-1" strike="noStrike">
                <a:solidFill>
                  <a:srgbClr val="669900"/>
                </a:solidFill>
                <a:latin typeface="Comic Sans MS"/>
                <a:ea typeface="Arial"/>
              </a:rPr>
              <a:t>         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      </a:t>
            </a: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r>
              <a:rPr b="0" lang="en-GB" sz="1800" spc="-1" strike="noStrike">
                <a:solidFill>
                  <a:srgbClr val="669900"/>
                </a:solidFill>
                <a:latin typeface="Comic Sans MS"/>
                <a:ea typeface="Arial"/>
              </a:rPr>
              <a:t>      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1906560" y="3716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3851280" y="37101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2916360" y="49338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12"/>
          <p:cNvSpPr/>
          <p:nvPr/>
        </p:nvSpPr>
        <p:spPr>
          <a:xfrm>
            <a:off x="2987640" y="4005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Line 13"/>
          <p:cNvSpPr/>
          <p:nvPr/>
        </p:nvSpPr>
        <p:spPr>
          <a:xfrm>
            <a:off x="3059280" y="3716280"/>
            <a:ext cx="0" cy="936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Line 14"/>
          <p:cNvSpPr/>
          <p:nvPr/>
        </p:nvSpPr>
        <p:spPr>
          <a:xfrm>
            <a:off x="2843280" y="3860640"/>
            <a:ext cx="0" cy="792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Line 15"/>
          <p:cNvSpPr/>
          <p:nvPr/>
        </p:nvSpPr>
        <p:spPr>
          <a:xfrm>
            <a:off x="3276720" y="3789360"/>
            <a:ext cx="0" cy="863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Line 16"/>
          <p:cNvSpPr/>
          <p:nvPr/>
        </p:nvSpPr>
        <p:spPr>
          <a:xfrm>
            <a:off x="2627280" y="407664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Line 17"/>
          <p:cNvSpPr/>
          <p:nvPr/>
        </p:nvSpPr>
        <p:spPr>
          <a:xfrm>
            <a:off x="3492360" y="400536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AutoShape 18"/>
          <p:cNvSpPr/>
          <p:nvPr/>
        </p:nvSpPr>
        <p:spPr>
          <a:xfrm>
            <a:off x="0" y="0"/>
            <a:ext cx="9144000" cy="1081080"/>
          </a:xfrm>
          <a:prstGeom prst="downArrowCallout">
            <a:avLst>
              <a:gd name="adj1" fmla="val -146115"/>
              <a:gd name="adj2" fmla="val 211455"/>
              <a:gd name="adj3" fmla="val 16667"/>
              <a:gd name="adj4" fmla="val 6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 Box 19"/>
          <p:cNvSpPr/>
          <p:nvPr/>
        </p:nvSpPr>
        <p:spPr>
          <a:xfrm>
            <a:off x="0" y="302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Africa RISING’s Niche-</a:t>
            </a:r>
            <a:r>
              <a:rPr b="0" lang="en-GB" sz="3200" spc="-1" strike="noStrike">
                <a:solidFill>
                  <a:srgbClr val="ffff00"/>
                </a:solidFill>
                <a:latin typeface="Comic Sans MS"/>
                <a:ea typeface="Arial"/>
              </a:rPr>
              <a:t>Integrated Rese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Line 22"/>
          <p:cNvSpPr/>
          <p:nvPr/>
        </p:nvSpPr>
        <p:spPr>
          <a:xfrm>
            <a:off x="6324480" y="251460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Line 23"/>
          <p:cNvSpPr/>
          <p:nvPr/>
        </p:nvSpPr>
        <p:spPr>
          <a:xfrm>
            <a:off x="6324480" y="373392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Line 24"/>
          <p:cNvSpPr/>
          <p:nvPr/>
        </p:nvSpPr>
        <p:spPr>
          <a:xfrm>
            <a:off x="6324480" y="289548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Line 25"/>
          <p:cNvSpPr/>
          <p:nvPr/>
        </p:nvSpPr>
        <p:spPr>
          <a:xfrm>
            <a:off x="6248520" y="3352680"/>
            <a:ext cx="53316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Line 25"/>
          <p:cNvSpPr/>
          <p:nvPr/>
        </p:nvSpPr>
        <p:spPr>
          <a:xfrm>
            <a:off x="7162920" y="3733920"/>
            <a:ext cx="53316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ight Brace 27"/>
          <p:cNvSpPr/>
          <p:nvPr/>
        </p:nvSpPr>
        <p:spPr>
          <a:xfrm>
            <a:off x="8686800" y="2286000"/>
            <a:ext cx="380880" cy="1523880"/>
          </a:xfrm>
          <a:custGeom>
            <a:avLst/>
            <a:gdLst>
              <a:gd name="textAreaLeft" fmla="*/ 0 w 380880"/>
              <a:gd name="textAreaRight" fmla="*/ 137520 w 380880"/>
              <a:gd name="textAreaTop" fmla="*/ 9720 h 1523880"/>
              <a:gd name="textAreaBottom" fmla="*/ 151416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25"/>
                  <a:pt x="10800" y="450"/>
                </a:cubicBezTo>
                <a:lnTo>
                  <a:pt x="10800" y="10350"/>
                </a:lnTo>
                <a:cubicBezTo>
                  <a:pt x="10800" y="10575"/>
                  <a:pt x="16200" y="10800"/>
                  <a:pt x="21600" y="10800"/>
                </a:cubicBezTo>
                <a:cubicBezTo>
                  <a:pt x="16200" y="10800"/>
                  <a:pt x="10800" y="11025"/>
                  <a:pt x="10800" y="11250"/>
                </a:cubicBezTo>
                <a:lnTo>
                  <a:pt x="10800" y="21150"/>
                </a:lnTo>
                <a:cubicBezTo>
                  <a:pt x="10800" y="2137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1828800" y="19810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Soil –Crop Group (2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Maize based syste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1536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groecologie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85800" y="762120"/>
          <a:ext cx="7772400" cy="5851440"/>
        </p:xfrm>
        <a:graphic>
          <a:graphicData uri="http://schemas.openxmlformats.org/drawingml/2006/table">
            <a:tbl>
              <a:tblPr/>
              <a:tblGrid>
                <a:gridCol w="2274840"/>
                <a:gridCol w="2654280"/>
                <a:gridCol w="28432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umid (&gt;1100m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humid (500-1100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mi-arid (&lt;800 mm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z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z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ze (early and drought toleran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yabe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wpeas (plant later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wpe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lichos lablab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ssav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lichos lablab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ssav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mon be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mon be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undnu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undnu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getab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geon pe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getab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geon pe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getab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hat combination of technologie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ould potentially fit in this system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bearing constraints in mind)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5998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hoice of variet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dapted varie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rain legumes with high H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mbing beans –high altitu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emporal and spatial crop arrangemen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rop rot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tercropping (maize-pigeonpe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ubled-up legumes (pigeon pea –groundnut/cowpea) –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alibri"/>
              </a:rPr>
              <a:t>exploit resource use niche complementari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Get input from farmer action group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uld introduce systems from other regions e.g. Cowpea from west Afric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hat combination of technologie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ould potentially fit in this system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bearing constraints in mind)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5998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il fertility and nutrient manage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iagnostic nutrient trials (establish nutrient limitation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argeted combinations of nutrients (organic/inorganic) for the cropping system and soil typ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cro dos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sponsive system of N application based on rainfall season quality – withhold resources when it does no longer make economic sense to app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liar application of micronutrients (Zinc, boron, etc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sponding to farm typologies and domai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304560" y="9140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il and water conserv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specially for semi arid reg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il cover technologies - semi-arid and sandy soi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servation agriculture (soil cover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idging, terracing, ripp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nd rehabili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rginal lands – species with high biomass and soil cov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80520" y="91404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P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lerant/resistant varie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itoring, diagnostics and responsivenes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ig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azapyr resistant  (IR maize) - this pesticide kills strig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ertility manag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otations/intercrop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sh-Pull (crop –livestock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of cultural practices to pre-empt and contr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sticide use – appropriate use for safe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ycotoxins –aflatox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04560" y="6854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bour saving technolog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chanization for intens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ough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st-harvest technolog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aluation of storage techniques/facilities e.g bags, sil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Our combin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ppropriate varieties + cultural practices +soil fertility management + IPM + labour saving technologies +post harvest and safety oriented technolog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2T19:02:04Z</dcterms:created>
  <dc:creator>LeBorgne, Ewen (ILRI)</dc:creator>
  <dc:description/>
  <dc:language>en-US</dc:language>
  <cp:lastModifiedBy>LeBorgne, Ewen (ILRI)</cp:lastModifiedBy>
  <dcterms:modified xsi:type="dcterms:W3CDTF">2012-10-09T12:13:14Z</dcterms:modified>
  <cp:revision>53</cp:revision>
  <dc:subject/>
  <dc:title>What component technologies  would fit in this system?</dc:title>
</cp:coreProperties>
</file>