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6.jpeg" ContentType="image/jpeg"/>
  <Override PartName="/ppt/media/image20.png" ContentType="image/png"/>
  <Override PartName="/ppt/media/image7.jpeg" ContentType="image/jpeg"/>
  <Override PartName="/ppt/media/image23.png" ContentType="image/png"/>
  <Override PartName="/ppt/media/image13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5.png" ContentType="image/png"/>
  <Override PartName="/ppt/media/image27.wmf" ContentType="image/x-wmf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8542-3EA4-414E-A133-2D0004E5E1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030E-E793-4C84-8C6A-980B933D5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59E41-A2EE-461D-8201-1B74A078F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7279-A2EE-4056-BC6C-E4E1579172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11219040" cy="537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90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91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94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95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587520" y="12272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of SIMLEZA-AR technolo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8320" y="103932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2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6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1363320"/>
            <a:ext cx="753444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Discussions with stakeholders in 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1040" y="2087280"/>
            <a:ext cx="11599560" cy="27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s aimed at addressing bottlenecks to technology adoption &amp;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etings held: 20 November 2014 &amp; 7 Februar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109728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4T08:45:29Z</dcterms:modified>
  <cp:revision>111</cp:revision>
  <dc:subject/>
  <dc:title>PowerPoint Presentation</dc:title>
</cp:coreProperties>
</file>