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C76B-F85B-484B-A382-BF79E9C6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4C4-A289-4380-AC85-C538BDD5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F321-CAF8-4651-8F81-67C97EFD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485F-5C18-4864-B9FC-7A8F533B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D83-9072-4B96-AA33-4E1B0796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67D-4D3B-44C4-B6AE-C2AD9646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388-1E49-4533-8477-52234692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ECCC-929B-49E9-8B01-FEA27171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E94-1CE2-4E07-B27D-EF0235F0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7F12-96DD-476F-AFEE-421DC5BB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C921-27DD-422A-BDCD-72CDAD7D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FDE8-D2C1-40E2-848B-C597D01A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847E-F5AA-47A7-BDF5-74D7DBB69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: some possible scen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320" y="1828440"/>
            <a:ext cx="48769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. Dev. : 1027.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f: 1.28 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0.0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3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the required sample size to detect a 30% change in maize yiel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e this is the same question as if you wanted to see a 30% difference between related questions in the same data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1043.4 kg/hect (baseline +30%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1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62k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94k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24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3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043.4 kg/hect (baseline +3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9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80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19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9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2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required sample size to detect a 20% change in maize yiel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963.1 kg/hect (baseline +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0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41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11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82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2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963.1 kg/hect (baseline +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9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79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6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357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1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required sample size to detect a 10% change in maize yiel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82.6 kg/hect (baseline +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,82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566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84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.13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1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82.6 kg/hect (baseline +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,59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$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71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$1.08m $1.44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st of a rigorous evaluation depends on many parame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suming confidence level=90% and same correlation between baseline and follow-up measurements, survey cost can range from $62k to $1.44m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key hypothesis is just on the value of the % change: the lower the projected change the higher the sample required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, better be conservative and prepared to pick even the 10% change, as if we plan for the 30% and then the 10% occurs, our sample will be too small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02:59:44Z</dcterms:created>
  <dc:creator>CAZZARRI</dc:creator>
  <dc:description/>
  <dc:language>en-US</dc:language>
  <cp:lastModifiedBy>LeBorgne, Ewen (ILRI)</cp:lastModifiedBy>
  <dcterms:modified xsi:type="dcterms:W3CDTF">2012-10-02T10:14:20Z</dcterms:modified>
  <cp:revision>12</cp:revision>
  <dc:subject/>
  <dc:title>Evaluation: some possible scenarios</dc:title>
</cp:coreProperties>
</file>