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E98-1F8C-40EA-B86E-77596ACA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EF3-5F17-476D-9926-64578581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A36-9EA8-4060-B9F7-08D2DDA7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405-2728-46E3-8C84-D0BA5DB39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ECD-B4FC-46B5-A98F-DE4342A5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2E40-B446-4226-BED9-AE40C988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B62D-A068-49A7-B7D6-40E06677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1DC6-FE86-43FD-89AB-C346F706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E7C0-3A1E-4871-80E0-D56B8F2F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C5A9-98DE-45AE-ADE2-9A088E5B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FA4-8157-447C-A95B-FAC4AD89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509-09AA-4128-97C3-DD3AFF5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5DC60-9CAA-4AA7-9069-D7C50E2CBC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: some possibl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320" y="182844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. Dev. : 1027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f: 1.28 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0.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required sample size to detect a 30% change in maize yiel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is is the same question as if you wanted to see a 30% difference between related questions in the same data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62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94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24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9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0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1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9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2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0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4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1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82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9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7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6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357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1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,8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66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4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13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,59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$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71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.08m $1.44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st of a rigorous evaluation depends on many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ing confidence level=90% and same correlation between baseline and follow-up measurements, survey cost can range from $62k to $1.44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hypothesis is just on the value of the % change: the lower the projected change the higher the sample required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better be conservative and prepared to pick even the 10% change, as if we plan for the 30% and then the 10% occurs, our sample will be too smal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2:59:44Z</dcterms:created>
  <dc:creator>CAZZARRI</dc:creator>
  <dc:description/>
  <dc:language>en-US</dc:language>
  <cp:lastModifiedBy>LeBorgne, Ewen (ILRI)</cp:lastModifiedBy>
  <dcterms:modified xsi:type="dcterms:W3CDTF">2012-10-02T10:14:20Z</dcterms:modified>
  <cp:revision>12</cp:revision>
  <dc:subject/>
  <dc:title>Evaluation: some possible scenarios</dc:title>
</cp:coreProperties>
</file>