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3D69-D33F-4530-9612-79CDE24C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3BE1-702B-4C3D-AFCD-C9C889754D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D4F1-EB2C-4CB2-A726-33D2E810B5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4846-2E12-481C-92E3-B552DEF39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581C-A634-4CFD-AD01-6473D4CD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EB45-3D38-4F10-96F9-BFD661B57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336-BBF6-4D33-87EF-2CF02CAA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8A67-728D-41F3-8707-B2F02AE6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19EF-BA95-4F69-AB44-BAE6D11C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64AE-2DF9-4DB9-97C3-52AC9AF8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CE33-6693-4D9C-B46E-5E4F2210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04C5-8B82-4E61-B147-C14A4BAE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21E6-E7C3-4476-B349-F644644F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DD5-E104-487A-9DEC-0086637C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DDE0-3839-4552-8C09-E88396AF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68E8-112F-4CA1-AED4-9C1EF68B4E28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 in the CGIAR Research Programs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95288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1714680" y="2438280"/>
            <a:ext cx="567684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umidtropics: Integrated Systems for the Humid Tr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first of the four specific objectives is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 an integrated research program 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rainfed smallholder farming systems in the humid and sub-humid trop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gram structure is built around the ff. complementary Strategic The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Analysis and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Systems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caling and Institutional Inno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6"/>
          <p:cNvSpPr/>
          <p:nvPr/>
        </p:nvSpPr>
        <p:spPr>
          <a:xfrm>
            <a:off x="53352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Program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68680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3"/>
          <p:cNvGrpSpPr/>
          <p:nvPr/>
        </p:nvGrpSpPr>
        <p:grpSpPr>
          <a:xfrm>
            <a:off x="3352680" y="76320"/>
            <a:ext cx="5849280" cy="6705360"/>
            <a:chOff x="3352680" y="76320"/>
            <a:chExt cx="5849280" cy="6705360"/>
          </a:xfrm>
        </p:grpSpPr>
        <p:pic>
          <p:nvPicPr>
            <p:cNvPr id="113" name="Picture 9" descr=""/>
            <p:cNvPicPr/>
            <p:nvPr/>
          </p:nvPicPr>
          <p:blipFill>
            <a:blip r:embed="rId1"/>
            <a:srcRect l="3225" t="11966" r="1613" b="12419"/>
            <a:stretch/>
          </p:blipFill>
          <p:spPr>
            <a:xfrm>
              <a:off x="3352680" y="76320"/>
              <a:ext cx="5791320" cy="670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25"/>
            <p:cNvSpPr/>
            <p:nvPr/>
          </p:nvSpPr>
          <p:spPr>
            <a:xfrm>
              <a:off x="3951000" y="3073320"/>
              <a:ext cx="11196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843720" y="2783160"/>
              <a:ext cx="235548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5"/>
            <p:cNvSpPr/>
            <p:nvPr/>
          </p:nvSpPr>
          <p:spPr>
            <a:xfrm>
              <a:off x="4582080" y="3967200"/>
              <a:ext cx="10569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Central 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28"/>
            <p:cNvSpPr/>
            <p:nvPr/>
          </p:nvSpPr>
          <p:spPr>
            <a:xfrm>
              <a:off x="5654520" y="3738960"/>
              <a:ext cx="1076400" cy="460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5"/>
            <p:cNvSpPr/>
            <p:nvPr/>
          </p:nvSpPr>
          <p:spPr>
            <a:xfrm>
              <a:off x="4689000" y="1808640"/>
              <a:ext cx="104328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estern 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28"/>
            <p:cNvSpPr/>
            <p:nvPr/>
          </p:nvSpPr>
          <p:spPr>
            <a:xfrm>
              <a:off x="4393800" y="2386800"/>
              <a:ext cx="1374840" cy="3963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25"/>
            <p:cNvSpPr/>
            <p:nvPr/>
          </p:nvSpPr>
          <p:spPr>
            <a:xfrm>
              <a:off x="7948440" y="549252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umid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low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28"/>
            <p:cNvSpPr/>
            <p:nvPr/>
          </p:nvSpPr>
          <p:spPr>
            <a:xfrm rot="17286000">
              <a:off x="8169840" y="4803480"/>
              <a:ext cx="1237680" cy="46476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28"/>
            <p:cNvSpPr/>
            <p:nvPr/>
          </p:nvSpPr>
          <p:spPr>
            <a:xfrm>
              <a:off x="7143480" y="3805920"/>
              <a:ext cx="1099800" cy="124380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25"/>
            <p:cNvSpPr/>
            <p:nvPr/>
          </p:nvSpPr>
          <p:spPr>
            <a:xfrm>
              <a:off x="6392160" y="4551840"/>
              <a:ext cx="76428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outher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mo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avan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28"/>
            <p:cNvSpPr/>
            <p:nvPr/>
          </p:nvSpPr>
          <p:spPr>
            <a:xfrm rot="1655400">
              <a:off x="7331400" y="2421000"/>
              <a:ext cx="606240" cy="1510920"/>
            </a:xfrm>
            <a:prstGeom prst="ellipse">
              <a:avLst/>
            </a:prstGeom>
            <a:noFill/>
            <a:ln cap="rnd" w="19080">
              <a:solidFill>
                <a:srgbClr val="000000"/>
              </a:solidFill>
              <a:custDash>
                <a:ds d="3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5"/>
            <p:cNvSpPr/>
            <p:nvPr/>
          </p:nvSpPr>
          <p:spPr>
            <a:xfrm>
              <a:off x="7032600" y="1864080"/>
              <a:ext cx="12049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ast and Central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highla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TextBox 15"/>
          <p:cNvSpPr/>
          <p:nvPr/>
        </p:nvSpPr>
        <p:spPr>
          <a:xfrm>
            <a:off x="380880" y="762120"/>
            <a:ext cx="2971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outhern moist sava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jor farming systems (% of the land area by Dixon classific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eal-root crop mixed (35%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ot crop (26%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ze mixed (2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" descr=""/>
          <p:cNvPicPr/>
          <p:nvPr/>
        </p:nvPicPr>
        <p:blipFill>
          <a:blip r:embed="rId1"/>
          <a:srcRect l="1498" t="3073" r="1519" b="0"/>
          <a:stretch/>
        </p:blipFill>
        <p:spPr>
          <a:xfrm>
            <a:off x="533520" y="990720"/>
            <a:ext cx="8001000" cy="5562360"/>
          </a:xfrm>
          <a:prstGeom prst="rect">
            <a:avLst/>
          </a:prstGeom>
          <a:ln w="0">
            <a:noFill/>
          </a:ln>
        </p:spPr>
      </p:pic>
      <p:sp>
        <p:nvSpPr>
          <p:cNvPr id="128" name="TextBox 2"/>
          <p:cNvSpPr/>
          <p:nvPr/>
        </p:nvSpPr>
        <p:spPr>
          <a:xfrm>
            <a:off x="533520" y="228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idtropics 6-step Model: Translating Research to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2 Tar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397160"/>
            <a:ext cx="8381880" cy="393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15-year targets in the Action A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staple food yields by 6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Increase average farm income by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Lift 25% of poor households above th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Reduce the number of malnourished children b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Nutrient depletion on 40% of farms reversed to sustainable nutri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P 1.1: Dryland System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tegrated Agricultural Production Systems for the Poor and Vulnerable in Dry Areas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rget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"/>
          <p:cNvSpPr/>
          <p:nvPr/>
        </p:nvSpPr>
        <p:spPr>
          <a:xfrm>
            <a:off x="380880" y="571500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5623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P 1.1 Action, Satellite and Knowledge Sharing (KSS) Sites in East and Souther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219320" y="380880"/>
            <a:ext cx="710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219320"/>
            <a:ext cx="83059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od, energy, water and material resources are being driven towards critical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y facto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inued populatio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nging consumption patter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acts of climate change and environmental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d negative impact on the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contribution to natural capital &amp; environment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es should consider the trade-offs, local complexities; &amp; the social, economic and political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ceptual Framewor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nchmark area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grated Natural Resources Management (INRM)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gro-ecological Intensification (AE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f: CN on SI of maize-legume-livestock integrated farming systems in 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0 cases of projects in 20 countries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missioned by the UK Gov’t Office of Science Foresight project on Global Food and Farming Futures [Ref: Pretty, Toulmin, &amp; Williams (Eds.). Sustainable intensification: increasing productivity in African food and agricultural systems. Int. J. Agric. Sustainability 9 (1) 201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es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cience and farmer inputs into technologies &amp;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vel social infrastructure that builds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ment of farmer knowledge and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private sector for good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cus on women’s educational, microfinance, &amp; ag. tech.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availability of microfinance and rural ba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ing public sector support for agri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GIAR 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e process will see the operations of the CGIAR implemented through a number Research Programs (CRP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Ps are the main mechanism by which the CGIAR will achieve the greater alignment of research outputs with the four System Level Outco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7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62"/>
          <p:cNvSpPr/>
          <p:nvPr/>
        </p:nvSpPr>
        <p:spPr>
          <a:xfrm>
            <a:off x="83808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70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73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304920" y="53352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Sustainable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Group 16" descr=""/>
          <p:cNvPicPr/>
          <p:nvPr/>
        </p:nvPicPr>
        <p:blipFill>
          <a:blip r:embed="rId5"/>
          <a:stretch/>
        </p:blipFill>
        <p:spPr>
          <a:xfrm>
            <a:off x="2432160" y="500040"/>
            <a:ext cx="1212840" cy="102384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8"/>
          <p:cNvSpPr/>
          <p:nvPr/>
        </p:nvSpPr>
        <p:spPr>
          <a:xfrm>
            <a:off x="363204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1"/>
          <p:cNvSpPr/>
          <p:nvPr/>
        </p:nvSpPr>
        <p:spPr>
          <a:xfrm>
            <a:off x="488952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4"/>
          <p:cNvSpPr/>
          <p:nvPr/>
        </p:nvSpPr>
        <p:spPr>
          <a:xfrm>
            <a:off x="614664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, best management technologies &amp; livestock integ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90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91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102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22"/>
          <p:cNvSpPr/>
          <p:nvPr/>
        </p:nvSpPr>
        <p:spPr>
          <a:xfrm>
            <a:off x="6248520" y="676440"/>
            <a:ext cx="1076040" cy="312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8"/>
          <p:cNvSpPr/>
          <p:nvPr/>
        </p:nvSpPr>
        <p:spPr>
          <a:xfrm>
            <a:off x="7391520" y="213048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9"/>
          <p:cNvSpPr/>
          <p:nvPr/>
        </p:nvSpPr>
        <p:spPr>
          <a:xfrm>
            <a:off x="1447920" y="2133720"/>
            <a:ext cx="53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50"/>
          <p:cNvSpPr/>
          <p:nvPr/>
        </p:nvSpPr>
        <p:spPr>
          <a:xfrm>
            <a:off x="3962520" y="213372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ainfall Grad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IT-USER</cp:lastModifiedBy>
  <dcterms:modified xsi:type="dcterms:W3CDTF">2012-02-06T06:31:59Z</dcterms:modified>
  <cp:revision>105</cp:revision>
  <dc:subject/>
  <dc:title>Slide 1</dc:title>
</cp:coreProperties>
</file>