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7C3B-341F-4B89-A6D2-35A2E100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14D-E758-4E12-8082-2C077F37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DFC-8EFB-49D9-A7AB-84F8A2F1C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657F-12D6-4307-83BB-8756D0D2C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63FD-2638-40C4-9801-1EBA9594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9899-3430-479C-AF8B-35BB35BD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0C63-F86E-4510-B13D-396B28104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39ED-F3B5-4EE5-8E70-CAF6880D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AF2F-DB55-4559-ABDA-EE67BB39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4965C-83BC-464F-B536-6C1CB1D4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81DA-237E-4027-9612-3F21C355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B7C8-6CC0-42F0-956D-61C46DF8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D2CE0-49AA-463D-ABA5-63396E2D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9B21-4CC2-4772-BC45-00676208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1F82-54AE-417F-ACCA-58B3AD88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6B1F2-A7EB-45F3-AF73-497DF168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1FC1-AA6F-4B2C-8944-695AECB3D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A6950-4395-4C3B-82AD-FAB64379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E8B3D-4EE9-4E6C-B121-6A49DE54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077C3-C9D3-49C1-A585-887A5904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A0A7C-AAC8-4084-BC35-45451FD0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AF31C-4126-4FCF-B694-D57C39CB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1F7-8604-4A60-B3A2-BF20AB20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6F962-09D8-4E3D-B739-078D18601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8EC14-A3BB-4172-8593-F308D744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569E2-D27E-45CE-8A12-DEF84315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EE311-A800-475C-993E-1811CD5E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3A573-E0EA-4370-8FC8-F011889F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FDBBA-15DF-42FF-9481-D6F0DC43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6FEA2-61DC-4C83-AA12-3864BDF5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90C67-5A72-44C6-9D17-8A0A0860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EE1CC-24E2-47EC-B514-627AB0F4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C07E17-D24A-48EB-81EC-6BCD84F1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24BA-098A-4D40-822D-900B2401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4A5F4-5826-4DF5-B844-71574035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A7E77-F765-4B6C-BC76-95193C9F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A169D-1DD2-407F-934F-B3C630C9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C30A1-3B6C-43CE-B488-516753211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9B20B-5D24-42AF-B5CD-E87A45C5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27B65-A427-4FA2-BE5D-BAEC37923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481E2-295F-417B-86E6-ABE73F22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260EB-78FA-4567-B157-FB3CF7B7A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69BF2-C679-4C44-98FD-CC2E5A56A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7743E-4995-4A43-9F35-8A0FBC6BD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0D86-648C-48C9-A64F-B3D4A79FC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1EF10-79BD-4712-B665-0AF9916C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A8178-BEBC-4707-9D88-DBCF0806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A182E-EE66-493E-96FA-67D6146F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CFEC68-2DF0-4E1C-BAEC-262B0A3F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59BF2-1CB6-4E26-93A4-FDECCFE4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608D4-9500-4CFF-A22A-A43EFB3B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EC4F4-0625-444A-BB9D-FAC55759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F4DAA-C4CC-411A-BACD-ED2A15F6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18631-EFE3-4082-882F-0BCFCA18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FD14E-FD5D-4857-830C-A231B19D1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0374-09CB-49BF-804C-F2353DC7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DAA04-EB36-48D0-8ECC-42ECE5633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6108-3E80-4FC8-974F-8EEBDD8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262-EA2F-4765-816A-AB1E85B8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F06C-22DA-497D-96DE-833FFFFD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8ADB-5865-4043-884E-0634E1FF958E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038A-5366-42D3-8FFA-959691FF8F1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423F-11CA-4A30-85E3-E0B9CB3156F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18D2-3E62-459B-A3D2-7606579C60A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AC08-D76B-452C-8208-1A465D962753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hyperlink" Target="http://mofa.gov.gh/site" TargetMode="External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0" y="152280"/>
            <a:ext cx="914400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Sustainable Intensification of Key Farming Systems in the Sudano-Sahelian Zone of West Afric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N. Karbo, F. K. Avornyo, H. K. Dei, B. Alenyorege, E. Osafo, S. Konlan, A. Fal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CSIR-ARI, UDS, ILRI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514600" y="304920"/>
            <a:ext cx="1523880" cy="1218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C:\Documents and Settings\CSIR\Local Settings\Temp\Rar$DI00.406\4221308719_7e861369dc.jpg"/>
          <p:cNvPicPr/>
          <p:nvPr/>
        </p:nvPicPr>
        <p:blipFill>
          <a:blip r:embed="rId2"/>
          <a:stretch/>
        </p:blipFill>
        <p:spPr>
          <a:xfrm>
            <a:off x="685800" y="685800"/>
            <a:ext cx="863640" cy="887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6719132809_d02a581715_b.jpg"/>
          <p:cNvPicPr/>
          <p:nvPr/>
        </p:nvPicPr>
        <p:blipFill>
          <a:blip r:embed="rId3"/>
          <a:stretch/>
        </p:blipFill>
        <p:spPr>
          <a:xfrm>
            <a:off x="7162920" y="380880"/>
            <a:ext cx="971280" cy="10414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University for Development Studies logo - All Ghana Data"/>
          <p:cNvPicPr/>
          <p:nvPr/>
        </p:nvPicPr>
        <p:blipFill>
          <a:blip r:embed="rId4"/>
          <a:stretch/>
        </p:blipFill>
        <p:spPr>
          <a:xfrm>
            <a:off x="5181480" y="457200"/>
            <a:ext cx="1067040" cy="961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2" descr="http://www.knust.edu.gh/images/content/pics/img27052010_135229.gif"/>
          <p:cNvPicPr/>
          <p:nvPr/>
        </p:nvPicPr>
        <p:blipFill>
          <a:blip r:embed="rId5"/>
          <a:stretch/>
        </p:blipFill>
        <p:spPr>
          <a:xfrm>
            <a:off x="228600" y="5410080"/>
            <a:ext cx="4572000" cy="914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Republic of Ghana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876920" y="5486400"/>
            <a:ext cx="4114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1"/>
          <p:cNvSpPr/>
          <p:nvPr/>
        </p:nvSpPr>
        <p:spPr>
          <a:xfrm>
            <a:off x="228600" y="685800"/>
            <a:ext cx="8686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Capacity building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implement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Improvement in understanding of crop-livestock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Benefited from biometry train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farmer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ensitization on protoc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monstration on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28600" y="1066680"/>
            <a:ext cx="8534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Training of stud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emonstration on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rop-livestock system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228600" y="838080"/>
            <a:ext cx="85345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Dissemin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rmer field visits (75 men and 42 women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eed millers’ visit to project sit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mmunity experience-sharing and learning (120 participant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sters distributed (3,000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Box 1"/>
          <p:cNvSpPr/>
          <p:nvPr/>
        </p:nvSpPr>
        <p:spPr>
          <a:xfrm>
            <a:off x="228600" y="609480"/>
            <a:ext cx="868680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Challeng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armonization gaps of the protocols due to limited  information on socio-cultural setti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ime and area to cover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Managing in the absence of a project vehicl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upport needed by farmers for technology/innovation uptak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How to sustain the process/interventions – farmers are wondering if we will come back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228600" y="1219320"/>
            <a:ext cx="84582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Lesson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Team work contributed greatly to the achievemen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Regional teams required monitoring due to peculiarity of data collection - without which project might have fail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228600" y="762120"/>
            <a:ext cx="8534520" cy="42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Element of long term relationship, commitment and trust 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et season intervention is justified particularly for restrained animal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Land is an issue for intensification  - In UER where crops are failing diversifying into livestock production for integration with crops can improve livelihood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1"/>
          <p:cNvSpPr/>
          <p:nvPr/>
        </p:nvSpPr>
        <p:spPr>
          <a:xfrm>
            <a:off x="228600" y="533520"/>
            <a:ext cx="8763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Opportunitie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Community members are more receptive and are organizing themselves into group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ome feed formulations were promising and this provides an opportunity for scaling up – development of feed marke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New partnerships formed present an opportunity for future collaborations (internal and external partner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228600" y="1143000"/>
            <a:ext cx="8686800" cy="43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esence of milk groups presents an opportunity for the development of the dairy sector in northern Ghana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vailability of synthesized knowledge for uptake – proceedings, repor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Working as a consortium for future project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609480" y="68580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Perpetu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0" y="762120"/>
            <a:ext cx="914400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Perpetua"/>
              </a:rPr>
              <a:t>ACTIVITIES/OUTPUT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Perpetua"/>
              </a:rPr>
              <a:t>Planning meeting and team form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re team for coordin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Regional teams for coordin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Committee on planning for Regional workshop, training cours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Perpetua"/>
              </a:rPr>
              <a:t>Areas for protocol development identifie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6"/>
          <p:cNvSpPr/>
          <p:nvPr/>
        </p:nvSpPr>
        <p:spPr>
          <a:xfrm>
            <a:off x="228600" y="228600"/>
            <a:ext cx="8686800" cy="66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Regional workshop on constraints and opportunities for intensification of integrated crop-livestock system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roceedings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Perpetua"/>
              </a:rPr>
              <a:t>Technologies tested/generated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On-station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lse yam for guinea fowls (8 feed formulations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alse yam fro pigs (9 feed formulations out of which two were promising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C:\Users\DELPHE\Pictures\23-09-2012\DSC00556.JP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152280" y="152280"/>
            <a:ext cx="8839440" cy="67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Perpetua"/>
              </a:rPr>
              <a:t>On-far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Feed supplementation under wet season management of small ruminants – 1 promising feed formulation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Sorghum spent malt for guinea fowls (cheaper feed formulation)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Perpetua"/>
              </a:rPr>
              <a:t>Best-bet technologies in milk hygiene and processing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Appropriate pasteurization equipmen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Perpetua"/>
              </a:rPr>
              <a:t>Posters on milk hygiene, milk platform, salt wagashi, good wagashi, quesco blanco cheese and yoghur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DSC05820"/>
          <p:cNvPicPr/>
          <p:nvPr/>
        </p:nvPicPr>
        <p:blipFill>
          <a:blip r:embed="rId1"/>
          <a:stretch/>
        </p:blipFill>
        <p:spPr>
          <a:xfrm>
            <a:off x="152280" y="0"/>
            <a:ext cx="883944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1" descr="C:\Users\DELPHE\Pictures\23-09-2012\DSC00570.JPG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Figure 1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1" descr="wagashibrine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22:14:50Z</dcterms:created>
  <dc:creator>Hp</dc:creator>
  <dc:description/>
  <dc:language>en-US</dc:language>
  <cp:lastModifiedBy>LeBorgne, Ewen (ILRI)</cp:lastModifiedBy>
  <dcterms:modified xsi:type="dcterms:W3CDTF">2012-10-24T12:28:10Z</dcterms:modified>
  <cp:revision>118</cp:revision>
  <dc:subject/>
  <dc:title>Slide 1</dc:title>
</cp:coreProperties>
</file>