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DE09-6725-40F7-B303-CE26C7BF1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772D-80E7-4C0C-91E6-BF65E2112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24CA-D9EF-4462-8ACA-83BC9601F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2387-7BCA-4D89-9484-43EC94B2AA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81DB-211C-46AB-8B64-9ACE8D85E2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F7D1-9524-4AA2-AC23-2DD9EB23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B376-3B3E-4F84-9F2C-2B3D1408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46FF-B387-48FB-88E6-AF52221E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E0FE-65F6-4A4C-AB02-F08A3EA25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455E-BEAA-45B0-9F25-367EFB35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2FD39-D96B-4B3F-8A9C-FF737DCE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358F-4E5F-4AFE-A304-95ADADA8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ED2-EFEC-4B0F-92F2-AAD5E37C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151-0EA0-4C6F-A2BE-C346CEEC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04B-8C11-4562-8BB5-5DC44CF2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13FC-8F8F-4D4F-B791-005B1E70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684-1AC7-4E39-BC35-A7F035BF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w-K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0318-D690-4EDA-B6C2-069C3E35C9FD}" type="slidenum">
              <a:rPr b="0" lang="sw-K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7632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GIAR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tegrated Systems Approach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to Research on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ustainable Intens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48006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R. Asiedu, I. Hoeschle-Zeledon, and E. Ko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52.jpg                                                         0004BEA7Macintosh HD                   B3585E45:"/>
          <p:cNvPicPr/>
          <p:nvPr/>
        </p:nvPicPr>
        <p:blipFill>
          <a:blip r:embed="rId1">
            <a:alphaModFix amt="58000"/>
          </a:blip>
          <a:srcRect l="0" t="12283" r="0" b="24258"/>
          <a:stretch/>
        </p:blipFill>
        <p:spPr>
          <a:xfrm>
            <a:off x="2057400" y="2438280"/>
            <a:ext cx="5027760" cy="23623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4"/>
          <p:cNvSpPr/>
          <p:nvPr/>
        </p:nvSpPr>
        <p:spPr>
          <a:xfrm>
            <a:off x="0" y="579132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Strategic Research Theme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1: Approaches and models for strengthening innovation systems, building stakeholder innovation capacity, and linking knowledge to policy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2: Reducing vulnerability and managing risk, leading to resilient dryland agro-ecosystems with less vulnerable and improved livelihoods of rural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3: Sustainable intensification for more productive, profitable and diversified dryland agriculture with well-established linkages to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RT 4: Measuring impact and cross-regional syn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 rot="16200000">
            <a:off x="3384360" y="154620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"/>
          <p:cNvSpPr/>
          <p:nvPr/>
        </p:nvSpPr>
        <p:spPr>
          <a:xfrm>
            <a:off x="1701720" y="2521080"/>
            <a:ext cx="4535640" cy="1585800"/>
          </a:xfrm>
          <a:prstGeom prst="rtTriangle">
            <a:avLst/>
          </a:prstGeom>
          <a:solidFill>
            <a:srgbClr val="cc33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 flipH="1">
            <a:off x="3047400" y="2517840"/>
            <a:ext cx="4537080" cy="1585800"/>
          </a:xfrm>
          <a:prstGeom prst="rtTriangle">
            <a:avLst/>
          </a:prstGeom>
          <a:solidFill>
            <a:srgbClr val="99cc00">
              <a:alpha val="4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5"/>
          <p:cNvSpPr/>
          <p:nvPr/>
        </p:nvSpPr>
        <p:spPr>
          <a:xfrm rot="5400000">
            <a:off x="3384000" y="-1900080"/>
            <a:ext cx="2394000" cy="6956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7614" y="2445"/>
                  <a:pt x="13627" y="5080"/>
                  <a:pt x="13627" y="10800"/>
                </a:cubicBezTo>
                <a:cubicBezTo>
                  <a:pt x="13627" y="16520"/>
                  <a:pt x="17614" y="1915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2801880" y="612720"/>
            <a:ext cx="357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alibri"/>
                <a:ea typeface="Calibri"/>
              </a:rPr>
              <a:t>SRT1. Better functioning innovation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 rot="19846200">
            <a:off x="1253160" y="1440000"/>
            <a:ext cx="18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1 Innovation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 rot="1661400">
            <a:off x="6470280" y="158436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3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4025880" y="1265400"/>
            <a:ext cx="132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1.2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893320" y="5413320"/>
            <a:ext cx="387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RT4. Targeting, character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&amp;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 rot="1396800">
            <a:off x="1038240" y="4346280"/>
            <a:ext cx="209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1 Future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2"/>
          <p:cNvSpPr/>
          <p:nvPr/>
        </p:nvSpPr>
        <p:spPr>
          <a:xfrm rot="20110200">
            <a:off x="5855400" y="434664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3 Measuring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3"/>
          <p:cNvSpPr/>
          <p:nvPr/>
        </p:nvSpPr>
        <p:spPr>
          <a:xfrm>
            <a:off x="2675160" y="5119560"/>
            <a:ext cx="378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4.2 Characterization and prior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 rot="1163400">
            <a:off x="1694520" y="3006720"/>
            <a:ext cx="279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2. Reduced vulnerabil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&amp; ri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 rot="20458800">
            <a:off x="4822920" y="2936880"/>
            <a:ext cx="29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alibri"/>
                <a:ea typeface="Calibri"/>
              </a:rPr>
              <a:t>SRT3. Sustainable inten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812240" y="338292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1811520" y="36115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81224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2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6246000" y="3459240"/>
            <a:ext cx="83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1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0"/>
          <p:cNvSpPr/>
          <p:nvPr/>
        </p:nvSpPr>
        <p:spPr>
          <a:xfrm>
            <a:off x="6250320" y="365760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2 Scaling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1"/>
          <p:cNvSpPr/>
          <p:nvPr/>
        </p:nvSpPr>
        <p:spPr>
          <a:xfrm>
            <a:off x="6253920" y="384012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3 Trade-of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3"/>
          <p:cNvSpPr/>
          <p:nvPr/>
        </p:nvSpPr>
        <p:spPr>
          <a:xfrm>
            <a:off x="4392720" y="3352680"/>
            <a:ext cx="433440" cy="822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24"/>
          <p:cNvSpPr/>
          <p:nvPr/>
        </p:nvSpPr>
        <p:spPr>
          <a:xfrm rot="2816400">
            <a:off x="4416840" y="3766320"/>
            <a:ext cx="201960" cy="266400"/>
          </a:xfrm>
          <a:prstGeom prst="diamond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25"/>
          <p:cNvSpPr/>
          <p:nvPr/>
        </p:nvSpPr>
        <p:spPr>
          <a:xfrm rot="2816400">
            <a:off x="4588200" y="3502800"/>
            <a:ext cx="201600" cy="266760"/>
          </a:xfrm>
          <a:prstGeom prst="diamond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6"/>
          <p:cNvSpPr/>
          <p:nvPr/>
        </p:nvSpPr>
        <p:spPr>
          <a:xfrm flipH="1" flipV="1">
            <a:off x="4594320" y="3720600"/>
            <a:ext cx="15840" cy="9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685800" y="6411960"/>
            <a:ext cx="80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view of CRP1.1 Strategic Research Themes (SRTs) &amp; their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74520" y="152280"/>
            <a:ext cx="9069480" cy="541044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380880" y="58672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P 1.1 Benchmark Areas focusing on reducing vulnerability (SRT2 type) or on sustainable intensification (SRT3 type). Circles/ovals indicate the 5 target reg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8382240" cy="56707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152280" y="609588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tion Site Transects and Satellite Sites in the West African Sahel and dry savan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2680" y="6480"/>
            <a:ext cx="822960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Rockwell"/>
              </a:rPr>
              <a:t>Impact  zones and IITA hu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3480" y="1215720"/>
            <a:ext cx="47401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oduction system plat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63920" y="852120"/>
            <a:ext cx="3879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llaborative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324400" y="1855440"/>
            <a:ext cx="381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USAID Feed the fut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AGRA &amp; BMG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Millennium vill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Regional pri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FARA learning si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1"/>
          <a:stretch/>
        </p:blipFill>
        <p:spPr>
          <a:xfrm>
            <a:off x="-9360" y="1967040"/>
            <a:ext cx="5317920" cy="48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33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Integration of IITA research with CR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Object 2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143" name="Rounded Rectangle 3"/>
          <p:cNvSpPr/>
          <p:nvPr/>
        </p:nvSpPr>
        <p:spPr>
          <a:xfrm>
            <a:off x="762120" y="3048120"/>
            <a:ext cx="1728720" cy="144756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technology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Genetic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Up-Down Arrow 4"/>
          <p:cNvSpPr/>
          <p:nvPr/>
        </p:nvSpPr>
        <p:spPr>
          <a:xfrm>
            <a:off x="1295280" y="2619360"/>
            <a:ext cx="457200" cy="533520"/>
          </a:xfrm>
          <a:prstGeom prst="upDownArrow">
            <a:avLst>
              <a:gd name="adj1" fmla="val 50000"/>
              <a:gd name="adj2" fmla="val 50010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5"/>
          <p:cNvSpPr/>
          <p:nvPr/>
        </p:nvSpPr>
        <p:spPr>
          <a:xfrm>
            <a:off x="2590920" y="3124080"/>
            <a:ext cx="1981080" cy="137160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5, CRP 1.2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own Arrow 9"/>
          <p:cNvSpPr/>
          <p:nvPr/>
        </p:nvSpPr>
        <p:spPr>
          <a:xfrm flipV="1">
            <a:off x="54100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6"/>
          <p:cNvSpPr/>
          <p:nvPr/>
        </p:nvSpPr>
        <p:spPr>
          <a:xfrm>
            <a:off x="4687920" y="3071880"/>
            <a:ext cx="1941480" cy="1393920"/>
          </a:xfrm>
          <a:prstGeom prst="roundRect">
            <a:avLst>
              <a:gd name="adj" fmla="val 16667"/>
            </a:avLst>
          </a:prstGeom>
          <a:solidFill>
            <a:srgbClr val="33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cial Sciences &amp; Commerci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2, CRP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wn Arrow 10"/>
          <p:cNvSpPr/>
          <p:nvPr/>
        </p:nvSpPr>
        <p:spPr>
          <a:xfrm flipV="1">
            <a:off x="7467480" y="2554200"/>
            <a:ext cx="451080" cy="53352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7"/>
          <p:cNvSpPr/>
          <p:nvPr/>
        </p:nvSpPr>
        <p:spPr>
          <a:xfrm>
            <a:off x="6719760" y="3065400"/>
            <a:ext cx="1758960" cy="13939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on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P 3.5, CRP 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wn Arrow 8"/>
          <p:cNvSpPr/>
          <p:nvPr/>
        </p:nvSpPr>
        <p:spPr>
          <a:xfrm flipV="1">
            <a:off x="3352680" y="2743200"/>
            <a:ext cx="451080" cy="3808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ision and system level outco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is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reduce poverty and hunger, improve human health and nutrition, and enhance ecosystem resilience through high-quality international agricultural research, partnership and 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ing rural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food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ing nutrition an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le management of natural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GIAR Research Programs (CR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going change process will in the near future see the operations of the CGIAR implemented through a number Research Programs (CRP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imed to better coordinate R4D efforts, enhance efficiencies, and encourage cooperation and collaboration with a focus on effective partnerships to achieve more development imp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31840" y="274320"/>
            <a:ext cx="8454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GIAR System on-going Reform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1057320"/>
            <a:ext cx="9144000" cy="55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ood security, Poverty, Natural  Resources, Under-nutr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"/>
          <p:cNvPicPr/>
          <p:nvPr/>
        </p:nvPicPr>
        <p:blipFill>
          <a:blip r:embed="rId1"/>
          <a:srcRect l="0" t="12736" r="0" b="7448"/>
          <a:stretch/>
        </p:blipFill>
        <p:spPr>
          <a:xfrm>
            <a:off x="4456080" y="1951200"/>
            <a:ext cx="4483080" cy="4703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231840" y="1951200"/>
            <a:ext cx="3886200" cy="470376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sp>
        <p:nvSpPr>
          <p:cNvPr id="60" name="Rectangle 6"/>
          <p:cNvSpPr/>
          <p:nvPr/>
        </p:nvSpPr>
        <p:spPr>
          <a:xfrm>
            <a:off x="546120" y="3710160"/>
            <a:ext cx="3379680" cy="19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00"/>
                </a:solidFill>
                <a:latin typeface="Arial Narrow"/>
              </a:rPr>
              <a:t>Impact by 2025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Increase yield  6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Sustain annual growth 0.5 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en-US" sz="1600" spc="-1" strike="noStrike">
                <a:solidFill>
                  <a:srgbClr val="ffff00"/>
                </a:solidFill>
                <a:latin typeface="Arial Narrow"/>
              </a:rPr>
              <a:t>R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</a:rPr>
              <a:t>educe poverty 15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GIAR Research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487440"/>
          <a:ext cx="8229600" cy="6370560"/>
        </p:xfrm>
        <a:graphic>
          <a:graphicData uri="http://schemas.openxmlformats.org/drawingml/2006/table">
            <a:tbl>
              <a:tblPr/>
              <a:tblGrid>
                <a:gridCol w="792000"/>
                <a:gridCol w="5639040"/>
                <a:gridCol w="1798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d Cen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duction systems in dry are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AR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ystems for the humid tropic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quatic agricultural 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licies, institutions and mar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cc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MMY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iSP – A global rice science partners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s, tubers and banan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in legu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yland cere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CRIS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t, milk and f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L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iculture for nutrition and heal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PR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, land and ecosyste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WM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ests, trees and agrofores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imate change, agriculture, food secur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62"/>
          <p:cNvSpPr/>
          <p:nvPr/>
        </p:nvSpPr>
        <p:spPr>
          <a:xfrm>
            <a:off x="914400" y="147600"/>
            <a:ext cx="7543800" cy="6710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47" descr=""/>
          <p:cNvPicPr/>
          <p:nvPr/>
        </p:nvPicPr>
        <p:blipFill>
          <a:blip r:embed="rId1"/>
          <a:stretch/>
        </p:blipFill>
        <p:spPr>
          <a:xfrm>
            <a:off x="1749600" y="4608360"/>
            <a:ext cx="1341360" cy="1395720"/>
          </a:xfrm>
          <a:prstGeom prst="rect">
            <a:avLst/>
          </a:prstGeom>
          <a:ln w="0">
            <a:noFill/>
          </a:ln>
        </p:spPr>
      </p:pic>
      <p:sp>
        <p:nvSpPr>
          <p:cNvPr id="65" name="Freeform 50"/>
          <p:cNvSpPr/>
          <p:nvPr/>
        </p:nvSpPr>
        <p:spPr>
          <a:xfrm>
            <a:off x="2241720" y="2457360"/>
            <a:ext cx="4959360" cy="2957760"/>
          </a:xfrm>
          <a:custGeom>
            <a:avLst/>
            <a:gdLst>
              <a:gd name="textAreaLeft" fmla="*/ 0 w 4959360"/>
              <a:gd name="textAreaRight" fmla="*/ 4959720 w 4959360"/>
              <a:gd name="textAreaTop" fmla="*/ 0 h 2957760"/>
              <a:gd name="textAreaBottom" fmla="*/ 2958120 h 2957760"/>
            </a:gdLst>
            <a:ahLst/>
            <a:rect l="textAreaLeft" t="textAreaTop" r="textAreaRight" b="textAreaBottom"/>
            <a:pathLst>
              <a:path w="3360" h="1968">
                <a:moveTo>
                  <a:pt x="1776" y="1968"/>
                </a:moveTo>
                <a:lnTo>
                  <a:pt x="0" y="1392"/>
                </a:lnTo>
                <a:lnTo>
                  <a:pt x="0" y="0"/>
                </a:lnTo>
                <a:lnTo>
                  <a:pt x="3360" y="0"/>
                </a:lnTo>
                <a:lnTo>
                  <a:pt x="3360" y="1440"/>
                </a:lnTo>
                <a:lnTo>
                  <a:pt x="1776" y="1968"/>
                </a:lnTo>
                <a:close/>
              </a:path>
            </a:pathLst>
          </a:custGeom>
          <a:solidFill>
            <a:srgbClr val="00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311560" y="2529000"/>
            <a:ext cx="50292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P 1.2 Humidtropics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kets                    NRM integ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Rectangle 5"/>
          <p:cNvGrpSpPr/>
          <p:nvPr/>
        </p:nvGrpSpPr>
        <p:grpSpPr>
          <a:xfrm>
            <a:off x="1359000" y="2120760"/>
            <a:ext cx="6657840" cy="274680"/>
            <a:chOff x="1359000" y="2120760"/>
            <a:chExt cx="6657840" cy="274680"/>
          </a:xfrm>
        </p:grpSpPr>
        <p:pic>
          <p:nvPicPr>
            <p:cNvPr id="68" name="Rectangle 5" descr=""/>
            <p:cNvPicPr/>
            <p:nvPr/>
          </p:nvPicPr>
          <p:blipFill>
            <a:blip r:embed="rId2"/>
            <a:stretch/>
          </p:blipFill>
          <p:spPr>
            <a:xfrm>
              <a:off x="1359000" y="2120760"/>
              <a:ext cx="6657840" cy="27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71600" y="2133720"/>
              <a:ext cx="662940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6"/>
          <p:cNvSpPr/>
          <p:nvPr/>
        </p:nvSpPr>
        <p:spPr>
          <a:xfrm>
            <a:off x="7201080" y="2168640"/>
            <a:ext cx="97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2311560" y="2168640"/>
            <a:ext cx="4889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914400" y="2529000"/>
            <a:ext cx="125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y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7201080" y="2529000"/>
            <a:ext cx="12571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quati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2286000" y="2133720"/>
            <a:ext cx="444600" cy="2649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705720" y="2133720"/>
            <a:ext cx="495360" cy="2379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04920" y="5335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P 3: Commod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Group 16" descr=""/>
          <p:cNvPicPr/>
          <p:nvPr/>
        </p:nvPicPr>
        <p:blipFill>
          <a:blip r:embed="rId5"/>
          <a:stretch/>
        </p:blipFill>
        <p:spPr>
          <a:xfrm>
            <a:off x="2511360" y="500040"/>
            <a:ext cx="1206720" cy="1023840"/>
          </a:xfrm>
          <a:prstGeom prst="rect">
            <a:avLst/>
          </a:prstGeom>
          <a:ln w="0">
            <a:noFill/>
          </a:ln>
        </p:spPr>
      </p:pic>
      <p:sp>
        <p:nvSpPr>
          <p:cNvPr id="78" name="Freeform 18"/>
          <p:cNvSpPr/>
          <p:nvPr/>
        </p:nvSpPr>
        <p:spPr>
          <a:xfrm>
            <a:off x="3708360" y="509760"/>
            <a:ext cx="1257480" cy="1000080"/>
          </a:xfrm>
          <a:custGeom>
            <a:avLst/>
            <a:gdLst>
              <a:gd name="textAreaLeft" fmla="*/ 0 w 1257480"/>
              <a:gd name="textAreaRight" fmla="*/ 1257840 w 12574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3798720" y="552600"/>
            <a:ext cx="107640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in leg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1"/>
          <p:cNvSpPr/>
          <p:nvPr/>
        </p:nvSpPr>
        <p:spPr>
          <a:xfrm>
            <a:off x="4965840" y="509760"/>
            <a:ext cx="1257120" cy="1000080"/>
          </a:xfrm>
          <a:custGeom>
            <a:avLst/>
            <a:gdLst>
              <a:gd name="textAreaLeft" fmla="*/ 0 w 1257120"/>
              <a:gd name="textAreaRight" fmla="*/ 1257480 w 12571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2"/>
          <p:cNvSpPr/>
          <p:nvPr/>
        </p:nvSpPr>
        <p:spPr>
          <a:xfrm>
            <a:off x="5056200" y="533520"/>
            <a:ext cx="1076400" cy="626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397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ots, Tubers, &amp; Banan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"/>
          <p:cNvSpPr/>
          <p:nvPr/>
        </p:nvSpPr>
        <p:spPr>
          <a:xfrm>
            <a:off x="6222960" y="509760"/>
            <a:ext cx="1187640" cy="1000080"/>
          </a:xfrm>
          <a:custGeom>
            <a:avLst/>
            <a:gdLst>
              <a:gd name="textAreaLeft" fmla="*/ 0 w 1187640"/>
              <a:gd name="textAreaRight" fmla="*/ 1188000 w 11876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672" h="432">
                <a:moveTo>
                  <a:pt x="240" y="288"/>
                </a:moveTo>
                <a:lnTo>
                  <a:pt x="0" y="288"/>
                </a:lnTo>
                <a:lnTo>
                  <a:pt x="0" y="0"/>
                </a:lnTo>
                <a:lnTo>
                  <a:pt x="672" y="0"/>
                </a:lnTo>
                <a:lnTo>
                  <a:pt x="672" y="288"/>
                </a:lnTo>
                <a:lnTo>
                  <a:pt x="432" y="288"/>
                </a:lnTo>
                <a:lnTo>
                  <a:pt x="336" y="432"/>
                </a:lnTo>
                <a:lnTo>
                  <a:pt x="240" y="288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7"/>
          <p:cNvSpPr/>
          <p:nvPr/>
        </p:nvSpPr>
        <p:spPr>
          <a:xfrm>
            <a:off x="2311560" y="1519200"/>
            <a:ext cx="48895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essment of new crop varieties/breeds and best management/husbandry technolog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46" descr=""/>
          <p:cNvPicPr/>
          <p:nvPr/>
        </p:nvPicPr>
        <p:blipFill>
          <a:blip r:embed="rId6"/>
          <a:stretch/>
        </p:blipFill>
        <p:spPr>
          <a:xfrm>
            <a:off x="3005280" y="5005440"/>
            <a:ext cx="1341360" cy="1395360"/>
          </a:xfrm>
          <a:prstGeom prst="rect">
            <a:avLst/>
          </a:prstGeom>
          <a:ln w="0">
            <a:noFill/>
          </a:ln>
        </p:spPr>
      </p:pic>
      <p:pic>
        <p:nvPicPr>
          <p:cNvPr id="85" name="Group 53" descr=""/>
          <p:cNvPicPr/>
          <p:nvPr/>
        </p:nvPicPr>
        <p:blipFill>
          <a:blip r:embed="rId7"/>
          <a:stretch/>
        </p:blipFill>
        <p:spPr>
          <a:xfrm>
            <a:off x="4267080" y="5400720"/>
            <a:ext cx="1262160" cy="1396800"/>
          </a:xfrm>
          <a:prstGeom prst="rect">
            <a:avLst/>
          </a:prstGeom>
          <a:ln w="0">
            <a:noFill/>
          </a:ln>
        </p:spPr>
      </p:pic>
      <p:pic>
        <p:nvPicPr>
          <p:cNvPr id="86" name="Group 52" descr=""/>
          <p:cNvPicPr/>
          <p:nvPr/>
        </p:nvPicPr>
        <p:blipFill>
          <a:blip r:embed="rId8"/>
          <a:stretch/>
        </p:blipFill>
        <p:spPr>
          <a:xfrm>
            <a:off x="5389560" y="4968720"/>
            <a:ext cx="1266840" cy="1395720"/>
          </a:xfrm>
          <a:prstGeom prst="rect">
            <a:avLst/>
          </a:prstGeom>
          <a:ln w="0">
            <a:noFill/>
          </a:ln>
        </p:spPr>
      </p:pic>
      <p:pic>
        <p:nvPicPr>
          <p:cNvPr id="87" name="Group 51" descr=""/>
          <p:cNvPicPr/>
          <p:nvPr/>
        </p:nvPicPr>
        <p:blipFill>
          <a:blip r:embed="rId9"/>
          <a:stretch/>
        </p:blipFill>
        <p:spPr>
          <a:xfrm>
            <a:off x="6437160" y="4608360"/>
            <a:ext cx="1262160" cy="13957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8"/>
          <p:cNvSpPr/>
          <p:nvPr/>
        </p:nvSpPr>
        <p:spPr>
          <a:xfrm>
            <a:off x="3106800" y="42908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alue add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4132440" y="4416480"/>
            <a:ext cx="1488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ed Soil Fertility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315040" y="4332240"/>
            <a:ext cx="118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est marg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6145200" y="394164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bon dyna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4"/>
          <p:cNvSpPr/>
          <p:nvPr/>
        </p:nvSpPr>
        <p:spPr>
          <a:xfrm>
            <a:off x="2101680" y="3971880"/>
            <a:ext cx="118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cy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5"/>
          <p:cNvSpPr/>
          <p:nvPr/>
        </p:nvSpPr>
        <p:spPr>
          <a:xfrm>
            <a:off x="3848040" y="378792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56"/>
          <p:cNvSpPr/>
          <p:nvPr/>
        </p:nvSpPr>
        <p:spPr>
          <a:xfrm>
            <a:off x="3778200" y="2841480"/>
            <a:ext cx="174600" cy="198720"/>
          </a:xfrm>
          <a:custGeom>
            <a:avLst/>
            <a:gdLst>
              <a:gd name="textAreaLeft" fmla="*/ 0 w 174600"/>
              <a:gd name="textAreaRight" fmla="*/ 174960 w 17460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w="120" h="132">
                <a:moveTo>
                  <a:pt x="0" y="132"/>
                </a:moveTo>
                <a:lnTo>
                  <a:pt x="12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7"/>
          <p:cNvSpPr/>
          <p:nvPr/>
        </p:nvSpPr>
        <p:spPr>
          <a:xfrm flipH="1">
            <a:off x="3263760" y="3328920"/>
            <a:ext cx="20952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0"/>
          <p:cNvGrpSpPr/>
          <p:nvPr/>
        </p:nvGrpSpPr>
        <p:grpSpPr>
          <a:xfrm>
            <a:off x="5494320" y="2876400"/>
            <a:ext cx="733320" cy="704520"/>
            <a:chOff x="5494320" y="2876400"/>
            <a:chExt cx="733320" cy="704520"/>
          </a:xfrm>
        </p:grpSpPr>
        <p:sp>
          <p:nvSpPr>
            <p:cNvPr id="97" name="Freeform 58"/>
            <p:cNvSpPr/>
            <p:nvPr/>
          </p:nvSpPr>
          <p:spPr>
            <a:xfrm flipH="1">
              <a:off x="5494320" y="2876400"/>
              <a:ext cx="174240" cy="198720"/>
            </a:xfrm>
            <a:custGeom>
              <a:avLst/>
              <a:gdLst>
                <a:gd name="textAreaLeft" fmla="*/ 360 w 174240"/>
                <a:gd name="textAreaRight" fmla="*/ 174960 w 17424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120" h="132">
                  <a:moveTo>
                    <a:pt x="0" y="132"/>
                  </a:moveTo>
                  <a:lnTo>
                    <a:pt x="12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9"/>
            <p:cNvSpPr/>
            <p:nvPr/>
          </p:nvSpPr>
          <p:spPr>
            <a:xfrm>
              <a:off x="6018480" y="3364200"/>
              <a:ext cx="209160" cy="216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22"/>
          <p:cNvSpPr/>
          <p:nvPr/>
        </p:nvSpPr>
        <p:spPr>
          <a:xfrm>
            <a:off x="6248520" y="533520"/>
            <a:ext cx="1076040" cy="531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estock &amp; Fis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376200" y="228600"/>
            <a:ext cx="8615520" cy="65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971640" y="1176480"/>
            <a:ext cx="7200720" cy="4505040"/>
          </a:xfrm>
          <a:prstGeom prst="rect">
            <a:avLst/>
          </a:prstGeom>
          <a:ln w="0">
            <a:noFill/>
          </a:ln>
        </p:spPr>
      </p:pic>
      <p:sp>
        <p:nvSpPr>
          <p:cNvPr id="102" name="Title 3"/>
          <p:cNvSpPr/>
          <p:nvPr/>
        </p:nvSpPr>
        <p:spPr>
          <a:xfrm>
            <a:off x="457200" y="304920"/>
            <a:ext cx="8229600" cy="3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umidtropics R4D Impact Model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P 1.1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ystem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reas/systems with the deepest endemic poverty and most vulnerable populations often associated with severe natural resource degradation and extreme environmental variabilit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ystems with the greatest potential for impact on poverty in the short to medium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03:46:35Z</dcterms:created>
  <dc:creator>Woomer</dc:creator>
  <dc:description/>
  <dc:language>en-US</dc:language>
  <cp:lastModifiedBy>PBallantyne</cp:lastModifiedBy>
  <dcterms:modified xsi:type="dcterms:W3CDTF">2012-01-10T07:20:21Z</dcterms:modified>
  <cp:revision>76</cp:revision>
  <dc:subject/>
  <dc:title>Slide 1</dc:title>
</cp:coreProperties>
</file>