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3133-A298-464F-B042-9DB0884F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8019-B880-48C6-B2DE-EFDC2A68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C98-04B2-4147-A6E2-25107D29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CE9B-BD03-40A5-AAB0-D204B2DB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6069-8899-43B1-97F9-36BB263C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435-7119-4A14-94A2-68B108B9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76B-83B3-4DEC-BDA1-D7B152A2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FF35-0A59-4B1B-95B5-C2543708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1E24-9B8F-429B-BB66-5FD3F11E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15D-0039-439B-B600-4255CABE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2973-94C8-4EDE-9C3C-1A3AB255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54D5-D12F-4504-A257-143917E1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2CB1-6804-4EB2-B153-B7442A54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8A39-71C5-4B11-9E4C-99282C0B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B328-D948-40B5-806E-4DC15E0E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5757-1796-4EFC-AD77-5567EBFD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4ED2-43E1-4D3D-BC88-D1BBD35C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0D86-DF0C-4ECB-A875-D7FD5F3A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9DB0-C24E-4D2E-9A0F-6F52079B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AE37-FCE3-4495-9A86-9B60E952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3ABC-D32F-4E73-AF2C-D10C723B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E7A7-6146-46E2-B35B-8F78A89F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64B0-F535-4EE1-81A8-A46BCEE5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61C4-F5F0-4F40-8BA0-AC8E5102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5468-5BDC-43D3-A13E-DB6C146B02D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6606-0C25-4DAE-A388-6C9515D7D49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4"/>
          <p:cNvSpPr/>
          <p:nvPr/>
        </p:nvSpPr>
        <p:spPr>
          <a:xfrm>
            <a:off x="328680" y="333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me 2: Timelines for revision and submission of manu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1280" y="907920"/>
          <a:ext cx="8893440" cy="5722920"/>
        </p:xfrm>
        <a:graphic>
          <a:graphicData uri="http://schemas.openxmlformats.org/drawingml/2006/table">
            <a:tbl>
              <a:tblPr/>
              <a:tblGrid>
                <a:gridCol w="3170520"/>
                <a:gridCol w="1353960"/>
                <a:gridCol w="1373400"/>
                <a:gridCol w="1498320"/>
                <a:gridCol w="1497240"/>
              </a:tblGrid>
              <a:tr h="64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uscript 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letion of re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bmission of manuscri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rget 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rralling, plant density and N fertilizer rate effect on soil, weed and grain y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ud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vestock corralling density effect on soil quality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ud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ode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 growth type effects on productivity  and profitability of hybrid ma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ar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roved rice variety response to nitrogen rate in Northern 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ul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. J of Agric. &amp; Bio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vity of maize-vegetable intercrops in Northern 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ean-Bapt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vity of maize-vegetable intercrops in Northern M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ean-Bapt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TIT2</cp:lastModifiedBy>
  <cp:lastPrinted>2015-09-01T11:16:39Z</cp:lastPrinted>
  <dcterms:modified xsi:type="dcterms:W3CDTF">2016-12-13T15:46:07Z</dcterms:modified>
  <cp:revision>998</cp:revision>
  <dc:subject/>
  <dc:title>Diapositiva 1</dc:title>
</cp:coreProperties>
</file>