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D59C-53E8-4921-AFDD-199801E992A8}" type="slidenum">
              <a:rPr b="0" lang="en-I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E7A-E770-40AB-87CA-ADD0060F3A2C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A1144E-5401-4976-A2FA-A16EC5890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07580-9B8C-46B9-B6DF-517E985C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73B27-8921-430E-936F-93A5D278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E894-BFF0-451A-8435-CF9BAB3F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AEEB9-D5AC-4367-A171-325F334A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E3530-C313-4198-9D3C-48FB3DA7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58203-87A7-4363-A64A-53AA6FA90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EA58B-19DE-473C-8BB8-C9317A9C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0AADD-4086-4323-B4EC-24B06FB6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B89C3-E10B-42AA-AD04-808EE7BD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D5721-5393-4DA1-BF14-B68A22E3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B791B-5355-48EA-9B2F-EC8A244A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64BC4-BC2F-4251-B75A-626DD007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957EA-E227-44F0-8A73-B0353E5C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632CE-8291-48ED-AEE7-E1DD6A201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AE849F-A878-4BCB-BBBF-7B1C891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1A8590-E5A8-4E18-B727-54F741AB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253D5-7F36-4D57-BEFC-390235C9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57D30-88CD-4ED1-B283-332F24E9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04D99-6F13-4C0B-9CC6-82376588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5E2CF-AD7D-4F8D-94AE-08069E751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CD8D6-B228-49B8-B4FD-1E5842520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DEC27-3FE8-4C89-BDA7-5137D6B6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F6B12-137A-4E4B-A81F-C696C100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5E363-F526-42CF-9349-0D0A0EFD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4D609-C8A1-436D-9AF7-EA22799A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177714-BEE8-49B4-A49C-2FFFD902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465E87-50B8-479D-8FFB-C63163E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6D35D0-B4BA-4361-893A-86F9B656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0B85E8-F3B5-43A9-9ABC-9E5D924C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FBAE-3765-47C9-90A7-D8E76B66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799A17-1C92-4C88-B7F5-BE31D295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42208-C98B-4796-A0BA-B3DBA6C3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DC059-12A1-4A9D-9CAE-87E8A9A4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3EC0F-A576-4DCC-B127-FD00CDEE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CDA3C-037D-4A9F-9D04-471EEF4B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99C65-E2A9-48DC-8191-368E9ECD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D70874-8D60-4C73-B2D0-96707050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DC254-E2D0-4A3E-B1F9-4100EC4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0FD7C-D9AF-4E96-8EDB-C53D4D834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9BC66-D112-49B9-BE60-FBAB7BE0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D77C-E83E-4E8C-BE98-2AB0B200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2DC22F-5388-4ADA-A4B5-F6C8817A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F467B1-B3F9-4019-B7EC-82CC2765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2785F-3EEC-4333-9271-C4048B30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F157E-5AE6-4348-BCF6-98191326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F5EB82-033D-4C30-BBDA-2B0851DDF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1D08-B98F-4C27-95E6-89CADE18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FD2-5B8F-4F74-BABC-5C48373C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784A-3908-48F9-8E37-A17BA4E7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8AE5-229A-4426-85FC-DD51A6F2B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8B19-2720-4020-B543-7E70A6CC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E58-86D9-4965-9B05-3A66F32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C19A-5E4A-45D3-B285-91BB99BE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22FC-B24F-42FD-AB4C-4E50F81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E9B3-6091-4BA2-A9B4-CEC111FA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052-BE03-4FA8-A8BC-4C163679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2065-5359-4A2C-B2ED-E27FA7199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7A7-CB23-457C-BDF1-07B79294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2726-821A-4F7C-85CA-2EEB2E74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000F-B0FA-4326-AB42-DF515E9E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BF45E-FD97-44EA-B1B2-AC36E3B5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02901-815F-49F6-B5C3-1B6CB4118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0642-C66A-4622-9D26-E61FE0E5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3B76-0D41-4F47-9700-FCB5E33B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FEEE-D180-45C6-B16F-81579E9A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E528-F627-41FD-90ED-DA0FB647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33E0-F9FC-423C-93EB-80C7FD59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166B-EBD9-445C-A4B5-409A6005E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D600D-CFA2-407C-AC4C-F8D91CD1A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EFFDA-93E6-4706-BF54-A7325369E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7CF9-BEE7-4DD9-8254-0F4E16D2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DC431-116F-4568-A4A9-407B317D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C20D3-6A6F-40AE-BCC3-C1854805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12CC4-3561-41C7-AADF-23A918C3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0AF73-A206-4F0C-8186-9A3D5B5C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0B4C3-7AAE-424B-98D4-5B4A43E1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30C0-2E3B-4D00-97F8-4F33F8C7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A0A6B-FE26-455D-8791-61E5EA21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46D5B-A2DD-49CF-8B1D-19B02EF6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8E5CB-9832-42B2-BB35-657909E9F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B24CB-E1B5-479E-9777-E0A4C6E2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C7424-8E47-462C-B9E2-75F170B8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58BAA-F80D-45EE-A74F-0541A419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EA264-DADA-41C6-8CE3-F5A67AEE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B12A-B799-4F46-BE6A-8DE44D428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24D97-F7BC-4721-B5B0-B567430B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5C722-9D45-4C76-9CDB-54DAB2B3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C9697-5DF2-44B3-A507-A4252F0B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617D-69CA-4802-AC09-153FA611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39CDE-AFFE-4C56-A9CB-F1AE001D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D6D20-DDCB-477D-91B2-A41E11A97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E50F5-AC9D-4037-9097-61D337447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4B0D2-E057-4E9E-B21E-E0CBC0D87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87171-920F-40FD-B56E-B9101EAC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0BD71-8391-4F61-BC88-680D6783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BDC26-8925-40FF-8311-FE3C5884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9B485-140C-42DC-B013-65850D9F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CDBF5-DC78-4CB3-A26A-7B4EE430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D56DE-213E-43AD-A2F6-D710B98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F226F-59A4-4640-B492-9475BAFD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CB60D-8758-4229-8546-CBF42E09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3BA71-D094-4941-9F99-132EFC52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A1624-4177-49AF-BD5F-D9407983D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AEE7-25A1-4EF8-BDAA-FF3274D66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5B880-E5C5-4A59-BD35-70422033C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D898E-AA4F-4FB0-8CE7-3FFA21A1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7CE4C-609B-4509-BAE9-F2641EF4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8325C-E296-4A1F-8990-9DD94727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139AF3-0E1E-4AB7-89BC-390B2651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6F8ED-92C5-4767-A06A-F67E16E0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7D821-87E2-4BFA-A9AF-733A211A0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97CF8-5029-4F55-B990-C12B2893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AFCE-891C-42EE-9C11-71691A9D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EAF5F-D20F-4F70-83F6-96E6C5C6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2A3F6-E835-4C99-98C1-B03E576B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80E7A-B39B-4D8E-B392-6233A3D32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11BB7-4D30-4568-97BA-6F8EAAA3D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E84F9-30F7-476F-B9FF-B24CA1D4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F545-9F19-4FAE-91A8-CF0C82F5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0279F-F756-4A7A-8D20-5EB3AACE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099F6-2A78-41E3-BE50-AA384FF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9EB53-D2FD-4353-8956-687459BB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C331-F582-444B-99D6-91FC8FC1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C98E7-2867-455C-B97B-26B84B59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0E9B2-29AF-4C44-AA88-D782FA48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B1BE1-5BF0-4926-9562-5FAD17EA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EB50-751F-432E-B0A9-D8EF1629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C1046-7384-4D97-AD1E-E3EB0473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C735F3-67F2-46E4-907C-B949BEE80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2245B-61CB-4531-97FE-F1CD8A04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A1570D-BFD1-4AC2-95E2-7035A89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EE86-A556-4FB4-8795-15A16346CC8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2A26-5056-41F6-AA2B-B9652F2632E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2B64-57CB-48C4-9FFA-F113468473F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F9B6-3FC0-4FF8-AAB5-4E514B9E8081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CCB3B-966B-4111-B4B9-F4638B2A10A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69F1-477E-4E1D-AF76-139A533CEB8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F743-3438-4DFA-870E-6C00168BB99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4A25-2589-4F82-9838-C125315C265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7EB1-5243-49D5-A34E-24F7B40E9E9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E01B-0DD7-4321-8271-8F490B557FB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57D8-B08A-458C-B95B-1697891BA6D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5"/>
          <p:cNvSpPr/>
          <p:nvPr/>
        </p:nvSpPr>
        <p:spPr>
          <a:xfrm>
            <a:off x="0" y="1989000"/>
            <a:ext cx="9144000" cy="468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Our research uses Mother - baby trial approach  to evaluate and validate the technologies (test lines; tillage; fertilizer, nutrition/feeding 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Mother Trial 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Researcher designed and farmer/researcher implemented trial  (for technology testing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’s contribution: Land, labour, security and certain activities to manage the plot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Incentives- crop produce goes to farmers and monitory compen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Baby Trial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Used  for technology validation. Farmer provides land, labour and manage the  trial; seed/fertilizer </a:t>
            </a:r>
            <a:r>
              <a:rPr b="0" i="1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tc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supplied by researche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7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224e25"/>
                </a:solidFill>
                <a:latin typeface="Times New Roman"/>
                <a:ea typeface="Calibri"/>
              </a:rPr>
              <a:t>Incentive</a:t>
            </a:r>
            <a:r>
              <a:rPr b="0" lang="en-IN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: farmers get quick access to technology and knowled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611280" y="1162080"/>
            <a:ext cx="791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600" spc="-1" strike="noStrike">
                <a:solidFill>
                  <a:srgbClr val="224e25"/>
                </a:solidFill>
                <a:latin typeface="Calibri"/>
              </a:rPr>
              <a:t>Inputs and Incentives – KK perspec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put situ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04920" y="609480"/>
          <a:ext cx="8839080" cy="4937400"/>
        </p:xfrm>
        <a:graphic>
          <a:graphicData uri="http://schemas.openxmlformats.org/drawingml/2006/table">
            <a:tbl>
              <a:tblPr/>
              <a:tblGrid>
                <a:gridCol w="1819080"/>
                <a:gridCol w="5710320"/>
                <a:gridCol w="1309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fini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tu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or Fr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tes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ther trials: typical of crop, soils: test lines, candidate varieties, fertilizer options, chicken, feeds, Farm implements, tree seedlings, crop management inputs - pesticides, herbicides,  vacc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ials for Technology valid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by trials at same time as mother trials (random): promising technologies selected by farmers; candidate varieties, promising fertilizer op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earch under farmer’s condi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eneric definition covering  situations above with examples…and data/knowledge collected or generat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Box 2"/>
          <p:cNvSpPr/>
          <p:nvPr/>
        </p:nvSpPr>
        <p:spPr>
          <a:xfrm>
            <a:off x="-108000" y="1268280"/>
            <a:ext cx="943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review by the team for publication – Key issu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792000" y="2060640"/>
            <a:ext cx="7848720" cy="52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Data is generally assembled but some of them need re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Need to sharpen background and discussions/justific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ome methodologies should be more precisely describe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Clarifications/assumptions/sensitivity analysi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Statistics – qualitative, quantitative data- how do we handle. Some needs qualitative support for discus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Overall on the science – how novel it is – highlight – how it solves the problem especially in the light of sustainable intensification for semi-arid reg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We have some publication which needed to be combined with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Poul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R4D platform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Calibri"/>
              </a:rPr>
              <a:t>Socioeconomic data, fertilizers and agronomy, soil land and wa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Box 2"/>
          <p:cNvSpPr/>
          <p:nvPr/>
        </p:nvSpPr>
        <p:spPr>
          <a:xfrm>
            <a:off x="3203640" y="765000"/>
            <a:ext cx="28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blication statu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270000" y="1413000"/>
          <a:ext cx="8856360" cy="5302080"/>
        </p:xfrm>
        <a:graphic>
          <a:graphicData uri="http://schemas.openxmlformats.org/drawingml/2006/table">
            <a:tbl>
              <a:tblPr/>
              <a:tblGrid>
                <a:gridCol w="1135080"/>
                <a:gridCol w="984240"/>
                <a:gridCol w="984240"/>
                <a:gridCol w="1060200"/>
                <a:gridCol w="1059120"/>
                <a:gridCol w="1307880"/>
                <a:gridCol w="1192320"/>
                <a:gridCol w="1133280"/>
              </a:tblGrid>
              <a:tr h="912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uscrip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papers submit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ready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rget jou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manuscript under prepar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me needed for submis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04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itha Seet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rnal and child 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flatoxin and stun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1006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thony Kima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riculture, ecosystem &amp; environ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804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wa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mon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and wate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4554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rtha swami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 cost benef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228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uban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  <a:tr h="685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trick Ok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½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t bree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seed systems, PVS, cost benefit , food secur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mont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ea"/>
                    </a:solidFill>
                  </a:tcPr>
                </a:tc>
              </a:tr>
              <a:tr h="603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IN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7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EYSWAI</cp:lastModifiedBy>
  <dcterms:modified xsi:type="dcterms:W3CDTF">2016-07-02T08:58:31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