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6C55-FB15-43CE-982C-D4B1C8118F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C3C88-07F1-4592-912B-7AEB1CF3E2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2687E-0520-44ED-BE38-1B3AC2877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6901E-569B-490C-976C-82459DA7A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C74F8-B88C-4618-BBEC-E4E98FFAD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9A3E0-07CB-4274-BE99-DE330047D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5EB4F-79A8-4947-905E-239762770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41994-07C0-4CE9-A536-F65531F4B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18729-C16D-41CE-A580-987803473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52B35-63A7-436F-BFEE-6FD2D160F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2569C-4624-4833-B00E-14C50C539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1E714-2108-4A51-A043-1882C2472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EBC99-F7BB-4512-8966-60DC747E4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50163-9779-48FF-953A-E62EE7A7A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B825-F53E-4F7A-AE29-234576C6010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05BB-BA08-4F5E-AB4A-73E5DDD471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80520"/>
            <a:ext cx="8686800" cy="304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4000" spc="-1" strike="noStrike">
                <a:solidFill>
                  <a:srgbClr val="000000"/>
                </a:solidFill>
                <a:latin typeface="Calibri"/>
              </a:rPr>
              <a:t>Effect of concentrate supplementation and season on nitrogen flow and growth performance of sheep in smallholder production system </a:t>
            </a:r>
            <a:br>
              <a:rPr sz="4000"/>
            </a:br>
            <a:r>
              <a:rPr b="1" i="1" lang="en-US" sz="4000" spc="-1" strike="noStrike">
                <a:solidFill>
                  <a:srgbClr val="000000"/>
                </a:solidFill>
                <a:latin typeface="Calibri"/>
              </a:rPr>
              <a:t> </a:t>
            </a:r>
            <a:br>
              <a:rPr sz="4000"/>
            </a:br>
            <a:br>
              <a:rPr sz="4000"/>
            </a:b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447560" y="4495320"/>
            <a:ext cx="6629400" cy="129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Konlan S. P., Ayantunde A., Addah W., Dei, H. K., Avornyo F. K. </a:t>
            </a:r>
            <a:r>
              <a:rPr b="1" lang="en-US" sz="3200" spc="-1" strike="noStrike" baseline="30000">
                <a:solidFill>
                  <a:srgbClr val="898989"/>
                </a:solidFill>
                <a:latin typeface="Calibri"/>
              </a:rPr>
              <a:t> </a:t>
            </a:r>
            <a:r>
              <a:rPr b="1" lang="en-US" sz="3200" spc="-1" strike="noStrike">
                <a:solidFill>
                  <a:srgbClr val="898989"/>
                </a:solidFill>
                <a:latin typeface="Calibri"/>
              </a:rPr>
              <a:t>and Karbo N.</a:t>
            </a:r>
            <a:endParaRPr b="0" lang="en-US" sz="32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E039C-770C-4CBE-8845-D1B7DF7856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and objective  </a:t>
            </a:r>
            <a:endParaRPr b="0" lang="en-US" sz="4000" spc="-1" strike="noStrike">
              <a:solidFill>
                <a:srgbClr val="000000"/>
              </a:solidFill>
              <a:latin typeface="Calibri"/>
            </a:endParaRPr>
          </a:p>
        </p:txBody>
      </p:sp>
      <p:sp>
        <p:nvSpPr>
          <p:cNvPr id="52" name=""/>
          <p:cNvSpPr txBox="1"/>
          <p:nvPr/>
        </p:nvSpPr>
        <p:spPr>
          <a:xfrm>
            <a:off x="228600" y="914400"/>
            <a:ext cx="8610480" cy="55627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imals’ productivity is constraint by variability in quality and quantity of feed resources (Oppong-Anane, 2013) with change in season in tropic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hana, there is decreased in protein content of l pasture from wet season to dry season FAO (2006) and negatively affect productiv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utrient content of feed especially N influences nutrient flows (Fernandez-Rivera, et al., 1995) and productivity.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1" lang="en-US" sz="3000" spc="-1" strike="noStrike">
                <a:solidFill>
                  <a:srgbClr val="000000"/>
                </a:solidFill>
                <a:latin typeface="Calibri"/>
              </a:rPr>
              <a:t>objective</a:t>
            </a:r>
            <a:r>
              <a:rPr b="0" lang="en-US" sz="3000" spc="-1" strike="noStrike">
                <a:solidFill>
                  <a:srgbClr val="000000"/>
                </a:solidFill>
                <a:latin typeface="Calibri"/>
              </a:rPr>
              <a:t> was to estimate the effect of concentrate supplementation plus healthcare and season on DM and N flow and growth performance of sheep in smallholder production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B48E7-AE05-4BF0-832A-74EBE83CE1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terials and methods</a:t>
            </a:r>
            <a:endParaRPr b="0" lang="en-US" sz="4000" spc="-1" strike="noStrike">
              <a:solidFill>
                <a:srgbClr val="000000"/>
              </a:solidFill>
              <a:latin typeface="Calibri"/>
            </a:endParaRPr>
          </a:p>
        </p:txBody>
      </p:sp>
      <p:sp>
        <p:nvSpPr>
          <p:cNvPr id="55" name=""/>
          <p:cNvSpPr txBox="1"/>
          <p:nvPr/>
        </p:nvSpPr>
        <p:spPr>
          <a:xfrm>
            <a:off x="228600" y="837720"/>
            <a:ext cx="8763120" cy="57913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study was conducted in NR, UER and UWR of Northern Ghana.  Districts were classified into 3 strata based on the length of growing period and 2 communities were randomly chosen from each strata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 smallholder sheep farmers were selected in each village  based on their willingness to participate in the research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was conducted as a randomized complete block design with region as a block</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eed offer, grazing, and weight gain of all sheep in each pen of the farmers were studied across seasons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se  included early dry season (Nov. to Jan., 2013), late dry season (Feb. to Apr., 2014), early wet season (May to Jul., 2014), and main wet season (Aug. to Oct, 2014). </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BA40-B051-4FBD-AA63-655BA86F61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erials and methods</a:t>
            </a:r>
            <a:endParaRPr b="0" lang="en-US" sz="4400" spc="-1" strike="noStrike">
              <a:solidFill>
                <a:srgbClr val="000000"/>
              </a:solidFill>
              <a:latin typeface="Calibri"/>
            </a:endParaRPr>
          </a:p>
        </p:txBody>
      </p:sp>
      <p:sp>
        <p:nvSpPr>
          <p:cNvPr id="58" name=""/>
          <p:cNvSpPr txBox="1"/>
          <p:nvPr/>
        </p:nvSpPr>
        <p:spPr>
          <a:xfrm>
            <a:off x="228600" y="1599840"/>
            <a:ext cx="8610480" cy="48006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wo rams were sub-sampled from each pen for digestibility study.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wo management regimes ware applied as treatments, In the 1</a:t>
            </a:r>
            <a:r>
              <a:rPr b="0" lang="en-US" sz="2700" spc="-1" strike="noStrike" baseline="30000">
                <a:solidFill>
                  <a:srgbClr val="000000"/>
                </a:solidFill>
                <a:latin typeface="Calibri"/>
              </a:rPr>
              <a:t>st</a:t>
            </a:r>
            <a:r>
              <a:rPr b="0" lang="en-US" sz="2700" spc="-1" strike="noStrike">
                <a:solidFill>
                  <a:srgbClr val="000000"/>
                </a:solidFill>
                <a:latin typeface="Calibri"/>
              </a:rPr>
              <a:t> regime, (control) sheep were grazed daily at pasture and offered crop residues (75 g/d DM). In the 2</a:t>
            </a:r>
            <a:r>
              <a:rPr b="0" lang="en-US" sz="2700" spc="-1" strike="noStrike" baseline="30000">
                <a:solidFill>
                  <a:srgbClr val="000000"/>
                </a:solidFill>
                <a:latin typeface="Calibri"/>
              </a:rPr>
              <a:t>nd</a:t>
            </a:r>
            <a:r>
              <a:rPr b="0" lang="en-US" sz="2700" spc="-1" strike="noStrike">
                <a:solidFill>
                  <a:srgbClr val="000000"/>
                </a:solidFill>
                <a:latin typeface="Calibri"/>
              </a:rPr>
              <a:t>  regime (CH), sheep were offered concentrate  (180 g/d DM) plus healthcare in addition to the control.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tal DM inflow was determined from 24 h faecal collection and IVDMD of the feed consumed (Cottle, 2013) and use in estimating DM and N flow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ata  collected was analyzed with Genstat in 2 × 4 factorial arrangemen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12CE-FFD0-4803-B1F6-C93207A3CC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nd discussion</a:t>
            </a:r>
            <a:endParaRPr b="0" lang="en-US" sz="4400" spc="-1" strike="noStrike">
              <a:solidFill>
                <a:srgbClr val="000000"/>
              </a:solidFill>
              <a:latin typeface="Calibri"/>
            </a:endParaRPr>
          </a:p>
        </p:txBody>
      </p:sp>
      <p:sp>
        <p:nvSpPr>
          <p:cNvPr id="61" name=""/>
          <p:cNvSpPr txBox="1"/>
          <p:nvPr/>
        </p:nvSpPr>
        <p:spPr>
          <a:xfrm>
            <a:off x="228600" y="1371600"/>
            <a:ext cx="876312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 did not affect (P&gt;0.05) the CP content and general quality  of the crop residues (Antwi et al., 2010)</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 however, affected (P&lt;0.05) IVOMD</a:t>
            </a:r>
            <a:r>
              <a:rPr b="0" i="1" lang="en-US" sz="2700" spc="-1" strike="noStrike">
                <a:solidFill>
                  <a:srgbClr val="000000"/>
                </a:solidFill>
                <a:latin typeface="Calibri"/>
              </a:rPr>
              <a:t> </a:t>
            </a:r>
            <a:r>
              <a:rPr b="0" lang="en-US" sz="2700" spc="-1" strike="noStrike">
                <a:solidFill>
                  <a:srgbClr val="000000"/>
                </a:solidFill>
                <a:latin typeface="Calibri"/>
              </a:rPr>
              <a:t>of the crop residues offered to sheep.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ality affected (P&lt;0.05) the nutrient content of common grazed forage at pasture.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P content was highest (P&lt;0.05) (142 g/kg DM) during early wet season and lowest (61 g/kg DM) in the late dry season </a:t>
            </a:r>
            <a:r>
              <a:rPr b="0" lang="en-GB" sz="2700" spc="-1" strike="noStrike">
                <a:solidFill>
                  <a:srgbClr val="000000"/>
                </a:solidFill>
                <a:latin typeface="Calibri"/>
              </a:rPr>
              <a:t>Fernandez-Rivera, et al. (1995)</a:t>
            </a:r>
            <a:r>
              <a:rPr b="0" lang="en-US" sz="2700" spc="-1" strike="noStrike">
                <a:solidFill>
                  <a:srgbClr val="000000"/>
                </a:solidFill>
                <a:latin typeface="Calibri"/>
              </a:rPr>
              <a:t>.</a:t>
            </a:r>
            <a:r>
              <a:rPr b="0" i="1"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flow of DM was higher (P &lt;0.05) in animals on CH than control (608 versus 515 g/d DM) due to supplement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75E1-AAAC-456A-9E19-473F93E843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nd discussion</a:t>
            </a:r>
            <a:endParaRPr b="0" lang="en-US" sz="4400" spc="-1" strike="noStrike">
              <a:solidFill>
                <a:srgbClr val="000000"/>
              </a:solidFill>
              <a:latin typeface="Calibri"/>
            </a:endParaRPr>
          </a:p>
        </p:txBody>
      </p:sp>
      <p:sp>
        <p:nvSpPr>
          <p:cNvPr id="64" name=""/>
          <p:cNvSpPr txBox="1"/>
          <p:nvPr/>
        </p:nvSpPr>
        <p:spPr>
          <a:xfrm>
            <a:off x="228600" y="685800"/>
            <a:ext cx="8763120" cy="59436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take at pasture differed (P&lt;0.05 g/d DM) across seasons due to variation in forage availability (Smith, 2010)</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ighest (679 g/d DM) DM inflow (P&lt;0.05) was recorded during early wet season and lowest (397 g/d DM) in main wet season due to confinement Awuma, (2012)</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itrogen inflow was higher (P&lt;0.05) among animals on CH than control group but N voiding was similar Powell et al. (199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ason affected (P&lt;0.05) N inflow and was highest during early wet season and lowest in late dry season Schlecht et al. (1995)</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imals on CH had higher (P&lt;0.05) ADG (34 g/d) than control group (18 g/d) ICT (2014). Season affected (P&lt;0.05) the ADG. The ADG was  highest in early wet season and lowest in main wet seas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EBB4-92B5-4624-ACAE-5589202885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lusion </a:t>
            </a:r>
            <a:endParaRPr b="0" lang="en-US" sz="4400" spc="-1" strike="noStrike">
              <a:solidFill>
                <a:srgbClr val="000000"/>
              </a:solidFill>
              <a:latin typeface="Calibri"/>
            </a:endParaRPr>
          </a:p>
        </p:txBody>
      </p:sp>
      <p:sp>
        <p:nvSpPr>
          <p:cNvPr id="67" name=""/>
          <p:cNvSpPr txBox="1"/>
          <p:nvPr/>
        </p:nvSpPr>
        <p:spPr>
          <a:xfrm>
            <a:off x="152280" y="1143000"/>
            <a:ext cx="8763120" cy="548640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centrate feed plus healthcare application increased dry matter and nitrogen inflow but voiding in faeces was not affected.</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flow of DM and N was highest in early wet season and lowest in main wet seasons. </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utput of DM was highest in early dry season and lowest in the main wet seaso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 voiding was highest during the early wet season and lowest in early dry seaso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centrate feed increased growth performanc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ecal quality as manure was highest in early dry season that could be collected to improve soil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28F2A-5907-4E5E-9D94-186031258E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0000"/>
                </a:solidFill>
                <a:latin typeface="Calibri"/>
              </a:rPr>
              <a:t>Thank you </a:t>
            </a:r>
            <a:endParaRPr b="0" lang="en-US" sz="138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1A2D-A102-4C6E-86BC-6BFB7DB6AF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0T16:54:40Z</dcterms:created>
  <dc:creator>Konlan</dc:creator>
  <dc:description/>
  <dc:language>en-US</dc:language>
  <cp:lastModifiedBy>Konlan</cp:lastModifiedBy>
  <dcterms:modified xsi:type="dcterms:W3CDTF">2016-12-12T11:58:10Z</dcterms:modified>
  <cp:revision>101</cp:revision>
  <dc:subject/>
  <dc:title>Effect of concentrate supplementation and season on nitrogen flow and growth performance of sheep in smallholder production system</dc:title>
</cp:coreProperties>
</file>