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664C2-F0F4-45F9-90C2-87FA5A081D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B1C85-5719-4784-84B9-005AB1BAA1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06A84B-E568-42F8-8005-26959B025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D6C7D-1D24-491F-A737-D28F15C51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4AA8D-6851-43FA-BFF5-A8D56B4FC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5365D-EA89-4D5A-BFD2-1BD572E55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1450F-ABD3-4EA4-AD2A-049301449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ADAD8-51A1-435B-BFE7-64E0E16C3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2ABB3-30B0-4E26-91EC-F9BA3AE59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20588-A5D0-4415-A4CC-0C38253EA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33011-CB74-454E-9002-71AC03F82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99E92-B969-40FF-8E0C-85768491B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BD7F7-1E37-4BD8-AA3B-CFEAD2051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02EC7-35CC-423A-ACB5-C70632C937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C288-CF0B-4500-B2CC-5D8EE626275C}"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90F64-7B0E-4477-B682-905033C186D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520"/>
            <a:ext cx="8686800" cy="304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000000"/>
                </a:solidFill>
                <a:latin typeface="Calibri"/>
              </a:rPr>
              <a:t>Effect of concentrate supplementation and season on nitrogen flow and growth performance of sheep in smallholder production system </a:t>
            </a:r>
            <a:br>
              <a:rPr sz="4000"/>
            </a:br>
            <a:r>
              <a:rPr b="1" i="1" lang="en-US" sz="4000" spc="-1" strike="noStrike">
                <a:solidFill>
                  <a:srgbClr val="000000"/>
                </a:solidFill>
                <a:latin typeface="Calibri"/>
              </a:rPr>
              <a:t> </a:t>
            </a:r>
            <a:br>
              <a:rPr sz="4000"/>
            </a:br>
            <a:br>
              <a:rPr sz="4000"/>
            </a:b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447560" y="4495320"/>
            <a:ext cx="6629400" cy="129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Konlan S. P., Ayantunde A., Addah W., Dei, H. K., Avornyo F. K. </a:t>
            </a:r>
            <a:r>
              <a:rPr b="1" lang="en-US" sz="3200" spc="-1" strike="noStrike" baseline="30000">
                <a:solidFill>
                  <a:srgbClr val="898989"/>
                </a:solidFill>
                <a:latin typeface="Calibri"/>
              </a:rPr>
              <a:t> </a:t>
            </a:r>
            <a:r>
              <a:rPr b="1" lang="en-US" sz="3200" spc="-1" strike="noStrike">
                <a:solidFill>
                  <a:srgbClr val="898989"/>
                </a:solidFill>
                <a:latin typeface="Calibri"/>
              </a:rPr>
              <a:t>and Karbo N.</a:t>
            </a:r>
            <a:endParaRPr b="0" lang="en-US" sz="32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8339D-B803-44BC-9B38-925BCABD100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and objective  </a:t>
            </a:r>
            <a:endParaRPr b="0" lang="en-US" sz="4000" spc="-1" strike="noStrike">
              <a:solidFill>
                <a:srgbClr val="000000"/>
              </a:solidFill>
              <a:latin typeface="Calibri"/>
            </a:endParaRPr>
          </a:p>
        </p:txBody>
      </p:sp>
      <p:sp>
        <p:nvSpPr>
          <p:cNvPr id="52"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imals’ productivity is constraint by variability in quality and quantity of feed resources (Oppong-Anane, 2013) with change in season in tropic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hana, there is decreased in protein content of l pasture from wet season to dry season FAO (2006) and negatively affect productiv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utrient content of feed especially N influences nutrient flows (Fernandez-Rivera, et al., 1995) and productivit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1" lang="en-US" sz="3000" spc="-1" strike="noStrike">
                <a:solidFill>
                  <a:srgbClr val="000000"/>
                </a:solidFill>
                <a:latin typeface="Calibri"/>
              </a:rPr>
              <a:t>objective</a:t>
            </a:r>
            <a:r>
              <a:rPr b="0" lang="en-US" sz="3000" spc="-1" strike="noStrike">
                <a:solidFill>
                  <a:srgbClr val="000000"/>
                </a:solidFill>
                <a:latin typeface="Calibri"/>
              </a:rPr>
              <a:t> was to estimate the effect of concentrate supplementation plus healthcare and season on DM and N flow and growth performance of sheep in smallholder production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32261-6573-401C-95C0-D49B99757B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terials and methods</a:t>
            </a:r>
            <a:endParaRPr b="0" lang="en-US" sz="4000" spc="-1" strike="noStrike">
              <a:solidFill>
                <a:srgbClr val="000000"/>
              </a:solidFill>
              <a:latin typeface="Calibri"/>
            </a:endParaRPr>
          </a:p>
        </p:txBody>
      </p:sp>
      <p:sp>
        <p:nvSpPr>
          <p:cNvPr id="55" name=""/>
          <p:cNvSpPr txBox="1"/>
          <p:nvPr/>
        </p:nvSpPr>
        <p:spPr>
          <a:xfrm>
            <a:off x="228600" y="837720"/>
            <a:ext cx="8763120" cy="57913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tudy was conducted in NR, UER and UWR of Northern Ghana.  Districts were classified into 3 strata based on the length of growing period and 2 communities were randomly chosen from each strata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 smallholder sheep farmers were selected in each village  based on their willingness to participate in the research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was conducted as a randomized complete block design with region as a block</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eed offer, grazing, and weight gain of all sheep in each pen of the farmers were studied across seasons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se  included early dry season (Nov. to Jan., 2013), late dry season (Feb. to Apr., 2014), early wet season (May to Jul., 2014), and main wet season (Aug. to Oct, 2014). </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FF40E-5AED-4F0F-B7B0-D1CE0145FA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s and methods</a:t>
            </a:r>
            <a:endParaRPr b="0" lang="en-US" sz="4400" spc="-1" strike="noStrike">
              <a:solidFill>
                <a:srgbClr val="000000"/>
              </a:solidFill>
              <a:latin typeface="Calibri"/>
            </a:endParaRPr>
          </a:p>
        </p:txBody>
      </p:sp>
      <p:sp>
        <p:nvSpPr>
          <p:cNvPr id="58" name=""/>
          <p:cNvSpPr txBox="1"/>
          <p:nvPr/>
        </p:nvSpPr>
        <p:spPr>
          <a:xfrm>
            <a:off x="228600" y="1599840"/>
            <a:ext cx="8610480" cy="48006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rams were sub-sampled from each pen for digestibility stud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management regimes ware applied as treatments, In the 1</a:t>
            </a:r>
            <a:r>
              <a:rPr b="0" lang="en-US" sz="2700" spc="-1" strike="noStrike" baseline="30000">
                <a:solidFill>
                  <a:srgbClr val="000000"/>
                </a:solidFill>
                <a:latin typeface="Calibri"/>
              </a:rPr>
              <a:t>st</a:t>
            </a:r>
            <a:r>
              <a:rPr b="0" lang="en-US" sz="2700" spc="-1" strike="noStrike">
                <a:solidFill>
                  <a:srgbClr val="000000"/>
                </a:solidFill>
                <a:latin typeface="Calibri"/>
              </a:rPr>
              <a:t> regime, (control) sheep were grazed daily at pasture and offered crop residues (75 g/d DM). In the 2</a:t>
            </a:r>
            <a:r>
              <a:rPr b="0" lang="en-US" sz="2700" spc="-1" strike="noStrike" baseline="30000">
                <a:solidFill>
                  <a:srgbClr val="000000"/>
                </a:solidFill>
                <a:latin typeface="Calibri"/>
              </a:rPr>
              <a:t>nd</a:t>
            </a:r>
            <a:r>
              <a:rPr b="0" lang="en-US" sz="2700" spc="-1" strike="noStrike">
                <a:solidFill>
                  <a:srgbClr val="000000"/>
                </a:solidFill>
                <a:latin typeface="Calibri"/>
              </a:rPr>
              <a:t>  regime (CH), sheep were offered concentrate  (180 g/d DM) plus healthcare in addition to the control.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tal DM inflow was determined from 24 h faecal collection and IVDMD of the feed consumed (Cottle, 2013) and use in estimating DM and N flow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ta  collected was analyzed with Genstat in 2 × 4 factorial arrangemen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15697-597F-437D-BE82-3A8F149831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nd discussion</a:t>
            </a:r>
            <a:endParaRPr b="0" lang="en-US" sz="4400" spc="-1" strike="noStrike">
              <a:solidFill>
                <a:srgbClr val="000000"/>
              </a:solidFill>
              <a:latin typeface="Calibri"/>
            </a:endParaRPr>
          </a:p>
        </p:txBody>
      </p:sp>
      <p:sp>
        <p:nvSpPr>
          <p:cNvPr id="61" name=""/>
          <p:cNvSpPr txBox="1"/>
          <p:nvPr/>
        </p:nvSpPr>
        <p:spPr>
          <a:xfrm>
            <a:off x="228600" y="1371600"/>
            <a:ext cx="876312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 did not affect (P&gt;0.05) the CP content and general quality  of the crop residues (Antwi et al., 2010)</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 however, affected (P&lt;0.05) IVOMD</a:t>
            </a:r>
            <a:r>
              <a:rPr b="0" i="1" lang="en-US" sz="2700" spc="-1" strike="noStrike">
                <a:solidFill>
                  <a:srgbClr val="000000"/>
                </a:solidFill>
                <a:latin typeface="Calibri"/>
              </a:rPr>
              <a:t> </a:t>
            </a:r>
            <a:r>
              <a:rPr b="0" lang="en-US" sz="2700" spc="-1" strike="noStrike">
                <a:solidFill>
                  <a:srgbClr val="000000"/>
                </a:solidFill>
                <a:latin typeface="Calibri"/>
              </a:rPr>
              <a:t>of the crop residues offered to sheep.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ality affected (P&lt;0.05) the nutrient content of common grazed forage at pastur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P content was highest (P&lt;0.05) (142 g/kg DM) during early wet season and lowest (61 g/kg DM) in the late dry season </a:t>
            </a:r>
            <a:r>
              <a:rPr b="0" lang="en-GB" sz="2700" spc="-1" strike="noStrike">
                <a:solidFill>
                  <a:srgbClr val="000000"/>
                </a:solidFill>
                <a:latin typeface="Calibri"/>
              </a:rPr>
              <a:t>Fernandez-Rivera, et al. (1995)</a:t>
            </a:r>
            <a:r>
              <a:rPr b="0" lang="en-US" sz="2700" spc="-1" strike="noStrike">
                <a:solidFill>
                  <a:srgbClr val="000000"/>
                </a:solidFill>
                <a:latin typeface="Calibri"/>
              </a:rPr>
              <a:t>.</a:t>
            </a:r>
            <a:r>
              <a:rPr b="0" i="1"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flow of DM was higher (P &lt;0.05) in animals on CH than control (608 versus 515 g/d DM) due to supplement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3B2BE-E98A-407C-8DDC-972337C520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nd discussion</a:t>
            </a:r>
            <a:endParaRPr b="0" lang="en-US" sz="4400" spc="-1" strike="noStrike">
              <a:solidFill>
                <a:srgbClr val="000000"/>
              </a:solidFill>
              <a:latin typeface="Calibri"/>
            </a:endParaRPr>
          </a:p>
        </p:txBody>
      </p:sp>
      <p:sp>
        <p:nvSpPr>
          <p:cNvPr id="64" name=""/>
          <p:cNvSpPr txBox="1"/>
          <p:nvPr/>
        </p:nvSpPr>
        <p:spPr>
          <a:xfrm>
            <a:off x="228600" y="685800"/>
            <a:ext cx="8763120" cy="5943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take at pasture differed (P&lt;0.05 g/d DM) across seasons due to variation in forage availability (Smith, 20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ighest (679 g/d DM) DM inflow (P&lt;0.05) was recorded during early wet season and lowest (397 g/d DM) in main wet season due to confinement Awuma, (201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itrogen inflow was higher (P&lt;0.05) among animals on CH than control group but N voiding was similar Powell et al. (199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ason affected (P&lt;0.05) N inflow and was highest during early wet season and lowest in late dry season Schlecht et al. (1995)</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imals on CH had higher (P&lt;0.05) ADG (34 g/d) than control group (18 g/d) ICT (2014). Season affected (P&lt;0.05) the ADG. The ADG was  highest in early wet season and lowest in main wet seas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9CB82-7D63-482A-A9FB-6F21C60CAA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lusion </a:t>
            </a:r>
            <a:endParaRPr b="0" lang="en-US" sz="4400" spc="-1" strike="noStrike">
              <a:solidFill>
                <a:srgbClr val="000000"/>
              </a:solidFill>
              <a:latin typeface="Calibri"/>
            </a:endParaRPr>
          </a:p>
        </p:txBody>
      </p:sp>
      <p:sp>
        <p:nvSpPr>
          <p:cNvPr id="67" name=""/>
          <p:cNvSpPr txBox="1"/>
          <p:nvPr/>
        </p:nvSpPr>
        <p:spPr>
          <a:xfrm>
            <a:off x="152280" y="1143000"/>
            <a:ext cx="8763120" cy="548640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entrate feed plus healthcare application increased dry matter and nitrogen inflow but voiding in faeces was not affected.</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flow of DM and N was highest in early wet season and lowest in main wet seasons. </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tput of DM was highest in early dry season and lowest in the main wet seas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 voiding was highest during the early wet season and lowest in early dry seas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entrate feed increased growth performanc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ecal quality as manure was highest in early dry season that could be collected to improve soil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6597-6BAF-4191-8F41-6A916D8FD9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Calibri"/>
              </a:rPr>
              <a:t>Thank you </a:t>
            </a:r>
            <a:endParaRPr b="0" lang="en-US" sz="13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CC80-E63F-4068-B45C-B2B274E5A2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0T16:54:40Z</dcterms:created>
  <dc:creator>Konlan</dc:creator>
  <dc:description/>
  <dc:language>en-US</dc:language>
  <cp:lastModifiedBy>Konlan</cp:lastModifiedBy>
  <dcterms:modified xsi:type="dcterms:W3CDTF">2016-12-12T11:58:10Z</dcterms:modified>
  <cp:revision>101</cp:revision>
  <dc:subject/>
  <dc:title>Effect of concentrate supplementation and season on nitrogen flow and growth performance of sheep in smallholder production system</dc:title>
</cp:coreProperties>
</file>