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54C6-2237-4A2B-9842-01CA50BBD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BF9C-3F82-4295-94C6-749DC8D307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0E88-AB41-4C77-84D6-A0E2FAB1A5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2FEB-B86A-482E-8FFF-90757646F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5C72-422B-464A-8AE9-4E1CF126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B49D-8485-47C9-AA0D-4507E00B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8896-A44C-487F-9BBC-188737CB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F691-BEFF-4F0E-8995-4EC367CB5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459A-7F25-45E5-BB6C-763BD074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1E6C-C73F-47FD-A057-ADC26884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2D88-0D95-401D-B7F7-49AE0C98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88DB-20E8-456E-8790-839B6F8A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C1AA-999A-4D92-B39D-F0EA4424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F3D6-43EA-4A88-B300-3148F261E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8ABD-C811-4CF6-A2D1-2465F364A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5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4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8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9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86BE-1F3D-485D-A9EB-8130DEB0AF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6.jpe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76201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072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nhancing partnership among Africa RISING, NAFAKA and TUBORESHE CHAKULA Programs for fast tracking delivery and scaling of agricultural technologies in Tanzan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133720" y="4114440"/>
            <a:ext cx="4574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Haroon Ssegu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Scaling Specialist, </a:t>
            </a:r>
            <a:r>
              <a:rPr b="0" lang="en-US" sz="2200" spc="-1" strike="noStrike">
                <a:solidFill>
                  <a:srgbClr val="ff6600"/>
                </a:solidFill>
                <a:latin typeface="Calibri"/>
              </a:rPr>
              <a:t>II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Emerging issue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57200" y="1417680"/>
            <a:ext cx="35812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Farmer engagement/capacity buil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bjective 5; not strong enoug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arn from successes and existing innovations (Innovation platforms in ‘mother’ Africa RIS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3" descr=""/>
          <p:cNvPicPr/>
          <p:nvPr/>
        </p:nvPicPr>
        <p:blipFill>
          <a:blip r:embed="rId1"/>
          <a:stretch/>
        </p:blipFill>
        <p:spPr>
          <a:xfrm>
            <a:off x="3809880" y="3048120"/>
            <a:ext cx="41990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Emerging issue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6840" y="1417680"/>
            <a:ext cx="43434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Partnership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ordination among sub-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e involvement of local institutions in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to work with private sector for best resul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5" descr=""/>
          <p:cNvPicPr/>
          <p:nvPr/>
        </p:nvPicPr>
        <p:blipFill>
          <a:blip r:embed="rId1"/>
          <a:stretch/>
        </p:blipFill>
        <p:spPr>
          <a:xfrm>
            <a:off x="4665600" y="1066680"/>
            <a:ext cx="4165560" cy="243864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6" descr=""/>
          <p:cNvPicPr/>
          <p:nvPr/>
        </p:nvPicPr>
        <p:blipFill>
          <a:blip r:embed="rId2"/>
          <a:stretch/>
        </p:blipFill>
        <p:spPr>
          <a:xfrm>
            <a:off x="4665600" y="3733920"/>
            <a:ext cx="416556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1447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Gill Sans"/>
              </a:rPr>
              <a:t>Acknowledg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pSp>
        <p:nvGrpSpPr>
          <p:cNvPr id="477" name="Group 1"/>
          <p:cNvGrpSpPr/>
          <p:nvPr/>
        </p:nvGrpSpPr>
        <p:grpSpPr>
          <a:xfrm>
            <a:off x="1066680" y="4444920"/>
            <a:ext cx="7012080" cy="2154240"/>
            <a:chOff x="1066680" y="4444920"/>
            <a:chExt cx="7012080" cy="2154240"/>
          </a:xfrm>
        </p:grpSpPr>
        <p:pic>
          <p:nvPicPr>
            <p:cNvPr id="478" name="Picture 2" descr=""/>
            <p:cNvPicPr/>
            <p:nvPr/>
          </p:nvPicPr>
          <p:blipFill>
            <a:blip r:embed="rId1"/>
            <a:stretch/>
          </p:blipFill>
          <p:spPr>
            <a:xfrm>
              <a:off x="1066680" y="5819760"/>
              <a:ext cx="685800" cy="7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Picture 11" descr="P:\logos\c\cimmyt\CIMMYT Logo.jpg"/>
            <p:cNvPicPr/>
            <p:nvPr/>
          </p:nvPicPr>
          <p:blipFill>
            <a:blip r:embed="rId2"/>
            <a:stretch/>
          </p:blipFill>
          <p:spPr>
            <a:xfrm>
              <a:off x="7117920" y="5057280"/>
              <a:ext cx="960840" cy="72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2" descr="P:\logos\i\ICRISAT\icrisat-logo.jpg"/>
            <p:cNvPicPr/>
            <p:nvPr/>
          </p:nvPicPr>
          <p:blipFill>
            <a:blip r:embed="rId3"/>
            <a:stretch/>
          </p:blipFill>
          <p:spPr>
            <a:xfrm>
              <a:off x="4509720" y="6036480"/>
              <a:ext cx="1507320" cy="56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6" descr="AVRDC – The World Vegetable Center — avrdc.org"/>
            <p:cNvPicPr/>
            <p:nvPr/>
          </p:nvPicPr>
          <p:blipFill>
            <a:blip r:embed="rId4"/>
            <a:srcRect l="0" t="0" r="63858" b="0"/>
            <a:stretch/>
          </p:blipFill>
          <p:spPr>
            <a:xfrm>
              <a:off x="1066680" y="5148360"/>
              <a:ext cx="1967040" cy="53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7" descr="P:\logos\i\iita\IITA_regular-sienna_with slogan (2).JPG"/>
            <p:cNvPicPr/>
            <p:nvPr/>
          </p:nvPicPr>
          <p:blipFill>
            <a:blip r:embed="rId5"/>
            <a:stretch/>
          </p:blipFill>
          <p:spPr>
            <a:xfrm>
              <a:off x="4190760" y="4444920"/>
              <a:ext cx="1123200" cy="56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Picture 14" descr=""/>
            <p:cNvPicPr/>
            <p:nvPr/>
          </p:nvPicPr>
          <p:blipFill>
            <a:blip r:embed="rId6"/>
            <a:stretch/>
          </p:blipFill>
          <p:spPr>
            <a:xfrm>
              <a:off x="4145400" y="5191200"/>
              <a:ext cx="1569240" cy="67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840" y="1294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Acknowledg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53352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stry of Agriculture, Food Security and Cooper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I Hombolo, ARI Ilonga; ARI Selian; KATRIN; HORTI-Tenge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FAKA partners (IFDC, RUDI, FIPS, MVIWATA), private sector actors (market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ilosa, Mvomero, Babati, Kongwa, Kiteto and Kilombero DA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inata Seeds, Meru Agro, Other input suppli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6" name="Picture 24" descr=""/>
          <p:cNvPicPr/>
          <p:nvPr/>
        </p:nvPicPr>
        <p:blipFill>
          <a:blip r:embed="rId1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Rectangle 1"/>
          <p:cNvSpPr/>
          <p:nvPr/>
        </p:nvSpPr>
        <p:spPr>
          <a:xfrm>
            <a:off x="609480" y="21337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Go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Accelerate the scaling and delivery of agricultural technologies to improve smallholder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maiz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and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ri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farming systems, household nutrition, and dietary practices in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Rectangle 2"/>
          <p:cNvSpPr/>
          <p:nvPr/>
        </p:nvSpPr>
        <p:spPr>
          <a:xfrm>
            <a:off x="590400" y="396252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Scaling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Expanding, adapting and sustaining successful policies, programs and projects in different places and over time to reach a greater number of peop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Rectangle 1"/>
          <p:cNvSpPr/>
          <p:nvPr/>
        </p:nvSpPr>
        <p:spPr>
          <a:xfrm>
            <a:off x="990720" y="533412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Partne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Africa RISING (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ITA Lea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NAFAKA, TUBOCHA, national institutions, private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19040" y="120780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Objective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1200600" y="3700440"/>
            <a:ext cx="6795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tter Crop Management Techno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TextBox 5"/>
          <p:cNvSpPr/>
          <p:nvPr/>
        </p:nvSpPr>
        <p:spPr>
          <a:xfrm>
            <a:off x="1187280" y="4559400"/>
            <a:ext cx="6837480" cy="520560"/>
          </a:xfrm>
          <a:prstGeom prst="rect">
            <a:avLst/>
          </a:prstGeom>
          <a:solidFill>
            <a:srgbClr val="b45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serving Natural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Box 6"/>
          <p:cNvSpPr/>
          <p:nvPr/>
        </p:nvSpPr>
        <p:spPr>
          <a:xfrm>
            <a:off x="1174680" y="5392800"/>
            <a:ext cx="686592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roving Household Nutr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Box 8"/>
          <p:cNvSpPr/>
          <p:nvPr/>
        </p:nvSpPr>
        <p:spPr>
          <a:xfrm>
            <a:off x="1184400" y="2881440"/>
            <a:ext cx="6840360" cy="520560"/>
          </a:xfrm>
          <a:prstGeom prst="rect">
            <a:avLst/>
          </a:prstGeom>
          <a:solidFill>
            <a:srgbClr val="d96b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tter Cro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Up-Down Arrow 4"/>
          <p:cNvSpPr/>
          <p:nvPr/>
        </p:nvSpPr>
        <p:spPr>
          <a:xfrm>
            <a:off x="7723080" y="1884240"/>
            <a:ext cx="1476360" cy="5051520"/>
          </a:xfrm>
          <a:prstGeom prst="upDownArrow">
            <a:avLst>
              <a:gd name="adj1" fmla="val 50000"/>
              <a:gd name="adj2" fmla="val 50009"/>
            </a:avLst>
          </a:prstGeom>
          <a:solidFill>
            <a:srgbClr val="9a743a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ing Food Wastage and Spoil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Up-Down Arrow 10"/>
          <p:cNvSpPr/>
          <p:nvPr/>
        </p:nvSpPr>
        <p:spPr>
          <a:xfrm>
            <a:off x="14400" y="1879560"/>
            <a:ext cx="1473120" cy="5049720"/>
          </a:xfrm>
          <a:prstGeom prst="upDownArrow">
            <a:avLst>
              <a:gd name="adj1" fmla="val 50000"/>
              <a:gd name="adj2" fmla="val 50006"/>
            </a:avLst>
          </a:prstGeom>
          <a:solidFill>
            <a:srgbClr val="4ea5d8"/>
          </a:solidFill>
          <a:ln w="25560">
            <a:solidFill>
              <a:srgbClr val="3b64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unity Empowerment and Sustain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Targe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ID FtF  investments in the Zone of Influ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ing at least 47,000 households with access to the technologies to diversify and increase their food supply and income sources, and improve the quality of degrading smallholder cropland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ing the area under improved rice production technologies by at least 58,000 h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ing yields of both maize and rice by 50% per unit area as a result of  these technologies being adop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2286000" y="6854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982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Locations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7" name="Picture 3" descr=""/>
          <p:cNvPicPr/>
          <p:nvPr/>
        </p:nvPicPr>
        <p:blipFill>
          <a:blip r:embed="rId1"/>
          <a:stretch/>
        </p:blipFill>
        <p:spPr>
          <a:xfrm>
            <a:off x="1023840" y="1541520"/>
            <a:ext cx="82155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Scaling and dissemination issue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59" name="Content Placeholder 3" descr=""/>
          <p:cNvPicPr/>
          <p:nvPr/>
        </p:nvPicPr>
        <p:blipFill>
          <a:blip r:embed="rId1"/>
          <a:stretch/>
        </p:blipFill>
        <p:spPr>
          <a:xfrm>
            <a:off x="820800" y="1600200"/>
            <a:ext cx="7502400" cy="452592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1523880" y="6324480"/>
            <a:ext cx="4724640" cy="38124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urce: Linn et al. (20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52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Scaling approach: Maize exampl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62" name="Content Placeholder 3" descr=""/>
          <p:cNvPicPr/>
          <p:nvPr/>
        </p:nvPicPr>
        <p:blipFill>
          <a:blip r:embed="rId1"/>
          <a:stretch/>
        </p:blipFill>
        <p:spPr>
          <a:xfrm>
            <a:off x="914400" y="1908000"/>
            <a:ext cx="6480000" cy="43167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4"/>
          <p:cNvSpPr/>
          <p:nvPr/>
        </p:nvSpPr>
        <p:spPr>
          <a:xfrm>
            <a:off x="2057400" y="6222960"/>
            <a:ext cx="4495680" cy="40644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urce: IITA (201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Scaling Framework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65" name="Content Placeholder 3" descr=""/>
          <p:cNvPicPr/>
          <p:nvPr/>
        </p:nvPicPr>
        <p:blipFill>
          <a:blip r:embed="rId1"/>
          <a:stretch/>
        </p:blipFill>
        <p:spPr>
          <a:xfrm>
            <a:off x="1069920" y="1600200"/>
            <a:ext cx="7004160" cy="452592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4"/>
          <p:cNvSpPr/>
          <p:nvPr/>
        </p:nvSpPr>
        <p:spPr>
          <a:xfrm>
            <a:off x="1069920" y="6172200"/>
            <a:ext cx="5483160" cy="4572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urce: World Health Organization (20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Experience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11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The innovatio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nk of activities to project objectives and indic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olve farmers in selection of the best for their agroeco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atibility with farmers’ intere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te selection very importan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Knowledge mana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 indicators from the begin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ized data collection procedures (use of </a:t>
            </a: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DCF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156834"/>
                </a:solidFill>
                <a:latin typeface="Calibri"/>
              </a:rPr>
              <a:t>database for farme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ccess sto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change and monitoring visi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7:37:57Z</dcterms:created>
  <dc:creator>Haroon Sseguya</dc:creator>
  <dc:description/>
  <dc:language>en-US</dc:language>
  <cp:lastModifiedBy>Haroon Sseguya</cp:lastModifiedBy>
  <cp:lastPrinted>2011-10-06T11:45:23Z</cp:lastPrinted>
  <dcterms:modified xsi:type="dcterms:W3CDTF">2015-07-12T15:36:39Z</dcterms:modified>
  <cp:revision>23</cp:revision>
  <dc:subject/>
  <dc:title>PowerPoint Presentation</dc:title>
</cp:coreProperties>
</file>