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564-81D2-41F5-98BB-CB503673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6806-1065-490D-93E9-51590BAC9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210-4216-4B68-A846-69B21E56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213-73E0-406F-A9CE-5E89EC3AD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E3BF-4CDF-4239-A991-FE510147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2A5-2938-430F-9D94-9883EB2F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5BC-D868-494E-AB40-277FAAA0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B4E-4A78-4F54-892E-5554D1C54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A3D7-A427-4C96-925B-F494CBD1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DEBB-9064-4BE3-B214-7C7EF62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3048-2F47-4AAA-9452-72EDFDC6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731C-55AE-4965-902D-964CF6E46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9DAF-BDCF-45B0-AF97-FEEF436D45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gration of Farming System components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igh potential, high market 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lastair’s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deoff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rop residue fed to animals is not available for fields. If not fed to animals, manure fertilizer is not available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dder versus grain production: single purpose and dual purpo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to cattle gives money to men, and may detract from household incom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ree grazing versus double-cropping in off seas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creased labor may fall to women, who already have a very full work da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sh flow to buy inpu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ers with small ruminants and catt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with quality stover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ers with only small rumin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d feed (farmers are more inclined to invest in for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age legumes (dual purpose food/fee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oundaries or steep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ees for fodder (goats) and water re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pier grass on bunds and erosion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54910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and Targ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hungry period by 2 months; % of population that is food sec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 varie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uce child undernutrition by x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k protein; water harvesting for vegetable pro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ntrol of household expenditures, % household worklo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gs and milk consumption and sales; Trees for firewood; Herbicides reduce women’s lab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 for water retention and fertility (N); manure for soil; erosion preven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erty redu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l milk, vegetables, legumes, meat, surplus cereals, by-products (leath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(hypothetical) s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soil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wo cropping seasons: small rains (barley has low disease incidence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ize, wheat, and teff are comm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ood market access, including herbicide and fertiliz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ore cattle than small ruminant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ere is an export market for small ruminants for meat (e.g., Dubai)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mestic meat market is reduced by fasting; Orthodox Christians fast 2 days/week and 2 months/year for L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egetables as a high-value cr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an plant chickpea after maize for double-cropp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roundnuts are not suit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ouble cropping is done on non-light soil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rley is followed by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fter wheat, plant fava bean or lenti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arts of site have problems with waterlogging during heavy ra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heat rust is pres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ed availability is a constraint for wheat, maize, and legumes (no private secto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gh migration rates to citi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traditional produc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rops that provide better feeds to produce more meat (fattening) and milk (need cold chai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etic methods to improve livestock quality (selection within sheep and goat breed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rtilizer and seed choice adapted to rain and soil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igher planting density  and new varieties increase productivity per unit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breeding of breeder seed, higher quality and viabil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-- nutr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gumes for home consum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PM for home consumption improves child nutrition and reduces stun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 harvesting on light soils for vegetable production in off-sea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uit trees can be grown on fa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post-harvest/value addi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metic metal silos and plastic b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stic bags to prevent pest lo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opportunities – soil 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due management to allow adequate cover and use field for appropriate levels of gra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cover crop during dry season to keep down weeds (oats, vetch) and then use for fod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ers to enable no-till conservation agriculture and lower labor ne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age trees for soil moisture retention, compost, nitrogen fix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opportunities – labor/non-farm incom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ools to reduce women’s labor include herbicide, mechanical planting, diversification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rbicide use reduces weed pressure over subsequent years of us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mall thresh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Village-based agro-industries and job cre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llective action for markets and inputs, sto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rees can provide on-farm firewood that obviate the need (for women) to walk for several hours to retrieve fu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ailable technolog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Rust-resistant bread and Durum wheat varieties are available. They require herbicides and fertilizer for high yield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en legume varieties are available (fava bean, chick pea, lentil, field pea) for this si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ive maize varieties (one OPV) for highlands are available, plus one varieiy quality protein maize (QPM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nother hybrid maize produces tillers for fe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armer typology associated with household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bor calenda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rage, fruit, and fertilizer tre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arly w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ed supply for legumes, wheat, maize varie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ed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bicide and fertilizer supp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rove agronomi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8:41:52Z</dcterms:created>
  <dc:creator>Windows User</dc:creator>
  <dc:description/>
  <dc:language>en-US</dc:language>
  <cp:lastModifiedBy>PBallantyne</cp:lastModifiedBy>
  <dcterms:modified xsi:type="dcterms:W3CDTF">2012-02-01T12:40:36Z</dcterms:modified>
  <cp:revision>15</cp:revision>
  <dc:subject/>
  <dc:title>Integration Group</dc:title>
</cp:coreProperties>
</file>