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3.png" ContentType="image/png"/>
  <Override PartName="/ppt/media/image6.png" ContentType="image/png"/>
  <Override PartName="/ppt/media/image29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9.png" ContentType="image/png"/>
  <Override PartName="/ppt/media/image3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31.png" ContentType="image/png"/>
  <Override PartName="/ppt/media/image1.png" ContentType="image/png"/>
  <Override PartName="/ppt/media/image15.jpeg" ContentType="image/jpeg"/>
  <Override PartName="/ppt/media/image16.png" ContentType="image/png"/>
  <Override PartName="/ppt/media/image32.jpeg" ContentType="image/jpeg"/>
  <Override PartName="/ppt/media/image17.png" ContentType="image/png"/>
  <Override PartName="/ppt/media/image19.png" ContentType="image/png"/>
  <Override PartName="/ppt/media/image2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58F88-766C-4247-8FC2-BC64727E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A7955-ED3C-44EB-B0F0-27F630DED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43FCC-528E-4693-AF0C-79AFC83D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49E11-27C9-431E-86DB-28A45A5F8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186ED-E35C-49F5-85DC-FA970A33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EB2EA-D308-4D34-A150-DA92B3D50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BF366-2192-4B49-BB08-2A840F71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0691F-7BF2-4D3C-9933-E26CB1DE8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9B34A-4C63-4EA0-9771-F74A8879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555DE-FFEE-4BF6-8594-9304864C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6229D-A0B8-48C3-BC4B-A4FE59BB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735980-2803-4934-AD4A-23C4E611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2B112-651F-4606-9A1A-AB5C68A0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1E061D-B744-4E3A-81DC-CEA6984C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85E42C-4E21-4F34-B6DD-436DEF2F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E9C77-12F6-4B7A-8FD1-DAD8C93D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6E208-A5F3-42C8-BF90-4FE52150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7FDE7-F248-4730-A931-9C1A8A12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57D7B8-7FF6-47E8-8C0A-84EC172E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A01A92-D776-497C-9339-1E3432F6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96EFD-671E-48BA-AD24-257CC3B64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87013-9295-4F82-9689-3CB1680B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8BA6C-5B76-45D2-9395-236C74B4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16899-F1ED-48E0-BE8A-4A859C3E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076BD-0C48-400A-A550-3E6D5EF4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2BE66-ADA6-44F4-953C-BE0D22C0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C0965F-290B-474C-A3C6-F1A4D193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5A907-0713-4743-8AA6-305B6A28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F7689-2533-4C33-A246-E575D16B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DEA8BE-237B-4765-B633-DC6BAC9A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5952-42BC-4E85-9539-F16433338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AC704-C2EB-4891-B1E0-678F8807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6D6C78-89FC-4F16-A76D-7B54537F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495739-F56D-47F5-8845-C2098B4F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610BB-FF51-428B-A51A-04E03F5B1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463911-CC02-4AD4-96B4-1DFA79BE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7C012-ABC9-4104-9E07-2426798D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7A143-AB44-4079-A228-1531BB453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1EEC13-035C-4137-A6F4-63B8AD6F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903133-FB27-4CF0-A36E-09071953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CC8B9D-EE24-41BF-B0AC-98DD633E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EC67-DCA6-4027-B7CE-8AC36538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AD16C-D243-4E96-8462-EF6BFAD0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C855E-32DB-40C5-91E2-1BBA4830C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8E9AAC-7BED-4E01-9DF1-F16D6F9F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D9016-1F56-4E19-BE73-BDCF8010D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B28C9-91F3-42C0-B3A8-41D4D5B8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B93-FD44-4E1E-B599-C5A4E1FA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1B5-BB86-4804-A6C1-51EC9DC2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B6CC-3096-4EFF-9699-8B0B4BDB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2AB7-0ED3-4F7A-910C-2149A88A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36D-263D-49E2-BCD0-C4B08F8D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51D1-F80F-4891-A17A-B993339F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CF5D-96E5-49EB-B31A-E10E9CE21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1DDC-C3C0-44FB-A2C1-D8BF6ECB8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F2F4-45EC-4CD9-BA18-80A2DF27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61B-4782-4A86-8287-AADCDB6F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1604-52B8-4001-BF09-4151A7C7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096B-44E3-4BFA-9F4F-E81622BB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78AC-CD04-496E-99AE-A55590E7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2C3E-B3BA-4F3A-BE5B-D91A28DC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B287-501D-4AE6-87D7-80BB66D6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2DDA-A178-4FB2-A057-01E0FA050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BD00-15CE-4909-B247-26D80C9F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0D37-B00A-4E86-B2CA-8D96A999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153A4-6F8D-46CE-979A-DADB046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524B-4256-49AA-9EDF-463A41B4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59996-9171-4868-B255-F959B2D5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EBD2-0A78-4F4B-B368-1DB8E7F2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FE817-1848-49BF-8AFB-30DD668C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34213-A79E-4A21-B2E4-6FAC5E9B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D3AB-FB10-4943-ABA5-8222995E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5CD7B-F009-4881-AA1A-F3E9CC85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2C0E-C9E8-4CF5-AA68-DD79F6DF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2700A-B2C1-4E29-A2DA-9447FDCB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60BCC-B42E-475F-821E-F8E4F69D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72962-3C41-40D5-998A-6B6C735F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A31C0-8F0C-4BE1-BF59-1827F533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11A9E-E35D-482C-9BFB-52B45D51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8674B-35F4-443F-ABF1-947D8B25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39CD-38DF-4832-BED8-CCEF1E273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148B3-8308-461D-B80B-B4CFDF6C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7F052-4DA9-4BF8-9A54-24FB2491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EAD67-3211-4F1C-99EC-CF1EA5F5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50012-518E-4671-BD48-3BB077E9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54944-2F82-4697-8670-E68117E5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A12BD-B693-4AEF-845D-79D54C87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ADEE5-85D2-4761-BAED-FE3A62D6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E4688-8647-49DD-9BEE-52427557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6EB4F-B8E8-480A-A28E-D528EC70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4D69A-8D27-4320-995A-D4C40490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465B1-19A9-4284-951B-356226F57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7295-F960-405A-BC5B-BC043D1BD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30074-4440-44A3-AB83-4BE47739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DFA5D-50DB-4509-B908-09FD5799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857D4-57D6-4FB8-BF8B-53E5E09F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3B3C0-938A-488A-A46E-58CD176D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D9260-780F-4B80-9453-F113CA20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40D1D-CC1D-4EAC-B947-B9A385A3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B4B8C-80BA-492A-B9FD-64F174BF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2E118-8CB7-4486-B3C7-0453BEA81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AFAA9-7412-40AD-9295-7EE4292E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C9C14-164F-488C-88DB-9DF7ACFA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629B-633C-472E-B601-CF20B93A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E3CF1A-BDAC-4D74-85C2-6650C907E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74086-0149-4950-854E-E7C7B2E80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C320B-6689-4BA2-9C76-886C52D6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B30E14-F45B-4E30-9FC8-C4570647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04B6A-391D-452F-BB3D-385AD754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BAF5E-BC0F-41E2-ABBF-61C9BBDB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8EB84-D9B5-44BF-B02F-22C1E300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4F442-366F-4F2E-AF4E-2FEB3414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D07DA-7A05-43B8-A8E6-E8F766923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DB17A-A9E8-4496-B1DC-3975FD61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7555A-36AE-4004-B28C-6EC9B638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01FE3-D162-403C-91A6-C3A0416D4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9E964-000D-4F73-B060-02980E971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F9802-BE2A-4620-B878-DE4E6D77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F4645-6EC1-467D-9756-14ABE6571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C3D17-572D-481F-9B05-C01DFEE9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93264-AF63-4C06-9AE7-3C77D4C2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E7EBE-82C2-4C68-88D6-CED2B00A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1692000" y="274320"/>
            <a:ext cx="6994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C2E2F-6F7C-47CB-849D-A3FB1805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0724F-7023-455E-BF76-13306A78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0A17E-C5A6-4B5D-8A75-BF0731C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5EBB-C969-47B5-9B9C-4A420609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1763280" y="3964320"/>
            <a:ext cx="6923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4187A-24A0-4EB3-B117-8537402F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310720" y="160020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176328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310720" y="3964320"/>
            <a:ext cx="33782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6929E-638B-418D-9E54-BBC183DC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10436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445080" y="160020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17632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10436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445080" y="3964320"/>
            <a:ext cx="222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50E70-CCBD-4B14-B214-0C2F293B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27F3A8-BE7E-4720-A5AD-A06FF0F8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C6BA5-540A-4116-806F-150A90B2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E14E7-2EE6-48C2-B231-EC5626A8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85FE-318B-4A8E-9577-E56E281CD2B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C4D8-E212-4D79-BB1F-93B36E1C0F9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88D15-A96A-48C3-A22E-14057C93ADB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B68C-DB25-4CC4-BFF0-548CAF50C7E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1F77-3C64-4E8F-AD4F-2B77CCDA358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806E-A351-4562-8411-D7C6E8CCC1B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FE3D-72CF-4A87-A435-9E9E5534D24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5E44-EBE7-42A2-8F81-6BD47E2441D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6ECD8-03A5-494C-8216-77453AB9C52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A060-3277-47D3-8853-C5CD695226B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2" descr="E:\Vengal Backup\D\Jobs\IC Logos\For Intranet\5 Basic.png"/>
          <p:cNvPicPr/>
          <p:nvPr/>
        </p:nvPicPr>
        <p:blipFill>
          <a:blip r:embed="rId2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763280" y="1600200"/>
            <a:ext cx="692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793A-9522-459D-83DB-87E205E2D72C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Box 4"/>
          <p:cNvSpPr/>
          <p:nvPr/>
        </p:nvSpPr>
        <p:spPr>
          <a:xfrm>
            <a:off x="2050920" y="2276640"/>
            <a:ext cx="6985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  <a:ea typeface="Arial"/>
              </a:rPr>
              <a:t>Intensification of maize-legume based systems in the semi-arid areas of Tanzania to increase farm productivity and improve farming natural resource ba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25c29"/>
                </a:solidFill>
                <a:latin typeface="Calibri"/>
                <a:ea typeface="Calibri"/>
              </a:rPr>
              <a:t>Kimaro, A, Swai, E., Ganga Rao, NVRP and </a:t>
            </a:r>
            <a:r>
              <a:rPr b="1" lang="en-US" sz="2000" spc="-1" strike="noStrike" u="sng">
                <a:solidFill>
                  <a:srgbClr val="225c29"/>
                </a:solidFill>
                <a:uFillTx/>
                <a:latin typeface="Calibri"/>
                <a:ea typeface="Calibri"/>
              </a:rPr>
              <a:t>Okori, 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Straight Connector 5"/>
          <p:cNvSpPr/>
          <p:nvPr/>
        </p:nvSpPr>
        <p:spPr>
          <a:xfrm>
            <a:off x="1979640" y="2205000"/>
            <a:ext cx="4680" cy="228132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Rectangle 19"/>
          <p:cNvSpPr/>
          <p:nvPr/>
        </p:nvSpPr>
        <p:spPr>
          <a:xfrm>
            <a:off x="-12600" y="0"/>
            <a:ext cx="1635120" cy="68850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9" name="Group 2"/>
          <p:cNvGrpSpPr/>
          <p:nvPr/>
        </p:nvGrpSpPr>
        <p:grpSpPr>
          <a:xfrm>
            <a:off x="230040" y="6076800"/>
            <a:ext cx="4918320" cy="667080"/>
            <a:chOff x="230040" y="6076800"/>
            <a:chExt cx="4918320" cy="667080"/>
          </a:xfrm>
        </p:grpSpPr>
        <p:sp>
          <p:nvSpPr>
            <p:cNvPr id="530" name="Rectangle 1"/>
            <p:cNvSpPr/>
            <p:nvPr/>
          </p:nvSpPr>
          <p:spPr>
            <a:xfrm>
              <a:off x="230040" y="6076800"/>
              <a:ext cx="4918320" cy="66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1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341280" y="6144480"/>
              <a:ext cx="4695480" cy="52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2" name="Picture 8" descr="D:\Jobs 2013\ID and Visiting cards\Covers\G2.png"/>
          <p:cNvPicPr/>
          <p:nvPr/>
        </p:nvPicPr>
        <p:blipFill>
          <a:blip r:embed="rId2"/>
          <a:stretch/>
        </p:blipFill>
        <p:spPr>
          <a:xfrm>
            <a:off x="1258920" y="4724280"/>
            <a:ext cx="811080" cy="1332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H:\100MSDCF\DSC04291.JPG"/>
          <p:cNvPicPr/>
          <p:nvPr/>
        </p:nvPicPr>
        <p:blipFill>
          <a:blip r:embed="rId3"/>
          <a:stretch/>
        </p:blipFill>
        <p:spPr>
          <a:xfrm>
            <a:off x="324000" y="333360"/>
            <a:ext cx="25779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8"/>
          <p:cNvSpPr/>
          <p:nvPr/>
        </p:nvSpPr>
        <p:spPr>
          <a:xfrm>
            <a:off x="7020000" y="1916280"/>
            <a:ext cx="936720" cy="3168360"/>
          </a:xfrm>
          <a:prstGeom prst="rect">
            <a:avLst/>
          </a:prstGeom>
          <a:solidFill>
            <a:srgbClr val="bfbfb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Rectangle 29"/>
          <p:cNvSpPr/>
          <p:nvPr/>
        </p:nvSpPr>
        <p:spPr>
          <a:xfrm>
            <a:off x="7956720" y="1484280"/>
            <a:ext cx="1187280" cy="3600360"/>
          </a:xfrm>
          <a:prstGeom prst="rect">
            <a:avLst/>
          </a:prstGeom>
          <a:solidFill>
            <a:srgbClr val="c4bd9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Rectangle 30"/>
          <p:cNvSpPr/>
          <p:nvPr/>
        </p:nvSpPr>
        <p:spPr>
          <a:xfrm>
            <a:off x="5651640" y="1844640"/>
            <a:ext cx="1368360" cy="3240000"/>
          </a:xfrm>
          <a:prstGeom prst="rect">
            <a:avLst/>
          </a:prstGeom>
          <a:solidFill>
            <a:srgbClr val="b9cde5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Rectangle 27"/>
          <p:cNvSpPr/>
          <p:nvPr/>
        </p:nvSpPr>
        <p:spPr>
          <a:xfrm>
            <a:off x="4284720" y="1844640"/>
            <a:ext cx="1366920" cy="3240000"/>
          </a:xfrm>
          <a:prstGeom prst="rect">
            <a:avLst/>
          </a:prstGeom>
          <a:solidFill>
            <a:srgbClr val="fdead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692000" y="115920"/>
            <a:ext cx="6994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Experimental approach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619280" y="1052280"/>
            <a:ext cx="2160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O1 to inform investment options (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t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Experiment with options to underpin scaling up and out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d productivity (new varieties- at scale), land use for livestock and poult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rease land productivity (nutrient use, decrease degradatio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ddress house nutrition and food secur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6" name="Group 3"/>
          <p:cNvGrpSpPr/>
          <p:nvPr/>
        </p:nvGrpSpPr>
        <p:grpSpPr>
          <a:xfrm>
            <a:off x="3708360" y="1389240"/>
            <a:ext cx="5526000" cy="3744720"/>
            <a:chOff x="3708360" y="1389240"/>
            <a:chExt cx="5526000" cy="3744720"/>
          </a:xfrm>
        </p:grpSpPr>
        <p:sp>
          <p:nvSpPr>
            <p:cNvPr id="667" name="TextBox 4"/>
            <p:cNvSpPr/>
            <p:nvPr/>
          </p:nvSpPr>
          <p:spPr>
            <a:xfrm>
              <a:off x="7948800" y="1389240"/>
              <a:ext cx="1285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caling up and ou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8" name="Group 5"/>
            <p:cNvGrpSpPr/>
            <p:nvPr/>
          </p:nvGrpSpPr>
          <p:grpSpPr>
            <a:xfrm>
              <a:off x="3708360" y="1685880"/>
              <a:ext cx="5166720" cy="3448080"/>
              <a:chOff x="3708360" y="1685880"/>
              <a:chExt cx="5166720" cy="3448080"/>
            </a:xfrm>
          </p:grpSpPr>
          <p:grpSp>
            <p:nvGrpSpPr>
              <p:cNvPr id="669" name="Group 7"/>
              <p:cNvGrpSpPr/>
              <p:nvPr/>
            </p:nvGrpSpPr>
            <p:grpSpPr>
              <a:xfrm>
                <a:off x="4293360" y="1685880"/>
                <a:ext cx="4581720" cy="2956680"/>
                <a:chOff x="4293360" y="1685880"/>
                <a:chExt cx="4581720" cy="2956680"/>
              </a:xfrm>
            </p:grpSpPr>
            <p:sp>
              <p:nvSpPr>
                <p:cNvPr id="670" name="Straight Connector 18"/>
                <p:cNvSpPr/>
                <p:nvPr/>
              </p:nvSpPr>
              <p:spPr>
                <a:xfrm>
                  <a:off x="4293360" y="4596840"/>
                  <a:ext cx="4581720" cy="45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1" name="Straight Connector 19"/>
                <p:cNvSpPr/>
                <p:nvPr/>
              </p:nvSpPr>
              <p:spPr>
                <a:xfrm flipV="1">
                  <a:off x="4293360" y="1685880"/>
                  <a:ext cx="0" cy="29059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2" name="Straight Connector 20"/>
                <p:cNvSpPr/>
                <p:nvPr/>
              </p:nvSpPr>
              <p:spPr>
                <a:xfrm>
                  <a:off x="4293360" y="3713760"/>
                  <a:ext cx="13827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3" name="Straight Connector 21"/>
                <p:cNvSpPr/>
                <p:nvPr/>
              </p:nvSpPr>
              <p:spPr>
                <a:xfrm>
                  <a:off x="5676120" y="3356280"/>
                  <a:ext cx="134604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4" name="Straight Connector 22"/>
                <p:cNvSpPr/>
                <p:nvPr/>
              </p:nvSpPr>
              <p:spPr>
                <a:xfrm>
                  <a:off x="7022520" y="2910240"/>
                  <a:ext cx="92556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5" name="Straight Connector 23"/>
                <p:cNvSpPr/>
                <p:nvPr/>
              </p:nvSpPr>
              <p:spPr>
                <a:xfrm>
                  <a:off x="7948080" y="1974600"/>
                  <a:ext cx="927000" cy="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6" name="Straight Connector 24"/>
                <p:cNvSpPr/>
                <p:nvPr/>
              </p:nvSpPr>
              <p:spPr>
                <a:xfrm>
                  <a:off x="5676120" y="3356280"/>
                  <a:ext cx="0" cy="3571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7" name="Straight Connector 25"/>
                <p:cNvSpPr/>
                <p:nvPr/>
              </p:nvSpPr>
              <p:spPr>
                <a:xfrm>
                  <a:off x="7022520" y="2910240"/>
                  <a:ext cx="9360" cy="44604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78" name="Straight Connector 26"/>
                <p:cNvSpPr/>
                <p:nvPr/>
              </p:nvSpPr>
              <p:spPr>
                <a:xfrm>
                  <a:off x="7948080" y="1974600"/>
                  <a:ext cx="0" cy="990720"/>
                </a:xfrm>
                <a:prstGeom prst="line">
                  <a:avLst/>
                </a:prstGeom>
                <a:ln w="2556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79" name="TextBox 8"/>
              <p:cNvSpPr/>
              <p:nvPr/>
            </p:nvSpPr>
            <p:spPr>
              <a:xfrm>
                <a:off x="4293360" y="3179160"/>
                <a:ext cx="1362960" cy="61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Calibri"/>
                  </a:rPr>
                  <a:t>Experimentation</a:t>
                </a:r>
                <a:endParaRPr b="0" lang="en-US" sz="17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TextBox 9"/>
              <p:cNvSpPr/>
              <p:nvPr/>
            </p:nvSpPr>
            <p:spPr>
              <a:xfrm>
                <a:off x="6993000" y="254124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caling-up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TextBox 10"/>
              <p:cNvSpPr/>
              <p:nvPr/>
            </p:nvSpPr>
            <p:spPr>
              <a:xfrm>
                <a:off x="5736600" y="2891880"/>
                <a:ext cx="128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Validation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Straight Connector 11"/>
              <p:cNvSpPr/>
              <p:nvPr/>
            </p:nvSpPr>
            <p:spPr>
              <a:xfrm>
                <a:off x="564840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Straight Connector 12"/>
              <p:cNvSpPr/>
              <p:nvPr/>
            </p:nvSpPr>
            <p:spPr>
              <a:xfrm>
                <a:off x="7031160" y="196380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Straight Connector 13"/>
              <p:cNvSpPr/>
              <p:nvPr/>
            </p:nvSpPr>
            <p:spPr>
              <a:xfrm>
                <a:off x="7979040" y="1965240"/>
                <a:ext cx="0" cy="3102120"/>
              </a:xfrm>
              <a:prstGeom prst="line">
                <a:avLst/>
              </a:prstGeom>
              <a:ln w="2556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5" name="TextBox 14"/>
              <p:cNvSpPr/>
              <p:nvPr/>
            </p:nvSpPr>
            <p:spPr>
              <a:xfrm rot="16200000">
                <a:off x="2932560" y="2872080"/>
                <a:ext cx="2194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ncreasing resilience and productivity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6" name="TextBox 15"/>
              <p:cNvSpPr/>
              <p:nvPr/>
            </p:nvSpPr>
            <p:spPr>
              <a:xfrm>
                <a:off x="4473000" y="467280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7" name="TextBox 16"/>
              <p:cNvSpPr/>
              <p:nvPr/>
            </p:nvSpPr>
            <p:spPr>
              <a:xfrm>
                <a:off x="5736600" y="471024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8" name="TextBox 17"/>
              <p:cNvSpPr/>
              <p:nvPr/>
            </p:nvSpPr>
            <p:spPr>
              <a:xfrm>
                <a:off x="6939360" y="4765680"/>
                <a:ext cx="100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Year 3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89" name="TextBox 6"/>
            <p:cNvSpPr/>
            <p:nvPr/>
          </p:nvSpPr>
          <p:spPr>
            <a:xfrm>
              <a:off x="8142120" y="4765680"/>
              <a:ext cx="100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Year 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45228"/>
                </a:solidFill>
                <a:latin typeface="Calibri"/>
              </a:rPr>
              <a:t>Summary of Progr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Benchmarking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dentifying options for piloting and up-scaling into our intensification model are being don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New varieties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eed systems for up-and out-sca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vestigations into production environmen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Strategic partnership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ll direct implementers (contracted partners), and associate partners (critical partners non contractual partners) as well as community leadership are on boar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72738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1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On-farm evaluation of improved legume &amp; cereals variet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3" name=""/>
          <p:cNvGraphicFramePr/>
          <p:nvPr/>
        </p:nvGraphicFramePr>
        <p:xfrm>
          <a:off x="1763640" y="907920"/>
          <a:ext cx="4680000" cy="5629320"/>
        </p:xfrm>
        <a:graphic>
          <a:graphicData uri="http://schemas.openxmlformats.org/drawingml/2006/table">
            <a:tbl>
              <a:tblPr/>
              <a:tblGrid>
                <a:gridCol w="1152720"/>
                <a:gridCol w="3527280"/>
              </a:tblGrid>
              <a:tr h="874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755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aptability of new materi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Yield performance &amp; PV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chnology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ommunity based seed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Groundnuts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igeon Pea Q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Maize –especially QPM (OPV &amp; Hybrid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Knowledge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Testing and using most appropriate m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grating cereals and legumes in production syst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8002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Evaluating suitability for intercrop, cover cro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4" name="Picture 7" descr="H:\photo_kongwa digital\Picture fr\P1010439.JPG"/>
          <p:cNvPicPr/>
          <p:nvPr/>
        </p:nvPicPr>
        <p:blipFill>
          <a:blip r:embed="rId1"/>
          <a:stretch/>
        </p:blipFill>
        <p:spPr>
          <a:xfrm>
            <a:off x="6443640" y="3429000"/>
            <a:ext cx="2521080" cy="2160720"/>
          </a:xfrm>
          <a:prstGeom prst="rect">
            <a:avLst/>
          </a:prstGeom>
          <a:ln w="0">
            <a:noFill/>
          </a:ln>
        </p:spPr>
      </p:pic>
      <p:sp>
        <p:nvSpPr>
          <p:cNvPr id="695" name="TextBox 2"/>
          <p:cNvSpPr/>
          <p:nvPr/>
        </p:nvSpPr>
        <p:spPr>
          <a:xfrm>
            <a:off x="6516720" y="558972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crop Kogwa &amp; PVS at Moleti Kite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8" descr="H:\photo moleti ELIA\100OLYMP\P1010462.JPG"/>
          <p:cNvPicPr/>
          <p:nvPr/>
        </p:nvPicPr>
        <p:blipFill>
          <a:blip r:embed="rId2"/>
          <a:stretch/>
        </p:blipFill>
        <p:spPr>
          <a:xfrm>
            <a:off x="6443640" y="1557360"/>
            <a:ext cx="2449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0675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2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Integrated soil fertility manag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8" name=""/>
          <p:cNvGraphicFramePr/>
          <p:nvPr/>
        </p:nvGraphicFramePr>
        <p:xfrm>
          <a:off x="1692360" y="836640"/>
          <a:ext cx="4354560" cy="5548320"/>
        </p:xfrm>
        <a:graphic>
          <a:graphicData uri="http://schemas.openxmlformats.org/drawingml/2006/table">
            <a:tbl>
              <a:tblPr/>
              <a:tblGrid>
                <a:gridCol w="1393920"/>
                <a:gridCol w="296064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90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limiting soil nutrients for crop production identifi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in-organic fertilizer usage by farme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for use of intercropping to improve soils fertility and yield of introduced varieties develop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analysis for various soil nutrient replenish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99" name="Picture 4" descr="H:\100MSDCF\DSC04291.JPG"/>
          <p:cNvPicPr/>
          <p:nvPr/>
        </p:nvPicPr>
        <p:blipFill>
          <a:blip r:embed="rId1"/>
          <a:stretch/>
        </p:blipFill>
        <p:spPr>
          <a:xfrm>
            <a:off x="6084720" y="2205000"/>
            <a:ext cx="293688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619280" y="43920"/>
            <a:ext cx="70675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3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Land and water management (soil and water conservation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1" name=""/>
          <p:cNvGraphicFramePr/>
          <p:nvPr/>
        </p:nvGraphicFramePr>
        <p:xfrm>
          <a:off x="1692360" y="1268280"/>
          <a:ext cx="4103640" cy="5167440"/>
        </p:xfrm>
        <a:graphic>
          <a:graphicData uri="http://schemas.openxmlformats.org/drawingml/2006/table">
            <a:tbl>
              <a:tblPr/>
              <a:tblGrid>
                <a:gridCol w="1314360"/>
                <a:gridCol w="278928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27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 bet soil water conservation and erosion control  technologies validated for up-scaling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es to improve soils and water management develop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t benefits for soils and water management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2" name="Picture 4" descr="H:\photo_kongwa digital\Picture fr\P1010448.JPG"/>
          <p:cNvPicPr/>
          <p:nvPr/>
        </p:nvPicPr>
        <p:blipFill>
          <a:blip r:embed="rId1"/>
          <a:stretch/>
        </p:blipFill>
        <p:spPr>
          <a:xfrm>
            <a:off x="6084720" y="1197000"/>
            <a:ext cx="2495880" cy="22939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5" descr="H:\photo_kongwa digital\Picture fr\P1010446.JPG"/>
          <p:cNvPicPr/>
          <p:nvPr/>
        </p:nvPicPr>
        <p:blipFill>
          <a:blip r:embed="rId2"/>
          <a:stretch/>
        </p:blipFill>
        <p:spPr>
          <a:xfrm>
            <a:off x="6084720" y="3500280"/>
            <a:ext cx="2519640" cy="2089440"/>
          </a:xfrm>
          <a:prstGeom prst="rect">
            <a:avLst/>
          </a:prstGeom>
          <a:ln w="0">
            <a:noFill/>
          </a:ln>
        </p:spPr>
      </p:pic>
      <p:sp>
        <p:nvSpPr>
          <p:cNvPr id="704" name="TextBox 6"/>
          <p:cNvSpPr/>
          <p:nvPr/>
        </p:nvSpPr>
        <p:spPr>
          <a:xfrm>
            <a:off x="5940360" y="58053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rmers examine a maize crop produced under improved manag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1619280" y="6480"/>
            <a:ext cx="752472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6" name=""/>
          <p:cNvGraphicFramePr/>
          <p:nvPr/>
        </p:nvGraphicFramePr>
        <p:xfrm>
          <a:off x="1763640" y="907920"/>
          <a:ext cx="3960720" cy="5367600"/>
        </p:xfrm>
        <a:graphic>
          <a:graphicData uri="http://schemas.openxmlformats.org/drawingml/2006/table">
            <a:tbl>
              <a:tblPr/>
              <a:tblGrid>
                <a:gridCol w="917640"/>
                <a:gridCol w="3043080"/>
              </a:tblGrid>
              <a:tr h="91692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liver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45068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etitiveness of Pigeon pea as alternative protein crop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toxin on maize Groundnuts, Pigeon pea, Bean bambara nuts &amp; sorghum studied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wareness raising among partner on aflatox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le value chain for contamination poin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07" name="Chart 5" descr=""/>
          <p:cNvPicPr/>
          <p:nvPr/>
        </p:nvPicPr>
        <p:blipFill>
          <a:blip r:embed="rId1"/>
          <a:stretch/>
        </p:blipFill>
        <p:spPr>
          <a:xfrm>
            <a:off x="5718240" y="974880"/>
            <a:ext cx="3627360" cy="3116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6" descr=""/>
          <p:cNvPicPr/>
          <p:nvPr/>
        </p:nvPicPr>
        <p:blipFill>
          <a:blip r:embed="rId2"/>
          <a:stretch/>
        </p:blipFill>
        <p:spPr>
          <a:xfrm>
            <a:off x="6516720" y="4365720"/>
            <a:ext cx="17222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9944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WP 4: </a:t>
            </a:r>
            <a:r>
              <a:rPr b="1" lang="en-GB" sz="3600" spc="-1" strike="noStrike">
                <a:solidFill>
                  <a:srgbClr val="224e25"/>
                </a:solidFill>
                <a:latin typeface="Calibri"/>
              </a:rPr>
              <a:t>Post harvest processing, utilization and nutrition and safety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0" name=""/>
          <p:cNvGraphicFramePr/>
          <p:nvPr/>
        </p:nvGraphicFramePr>
        <p:xfrm>
          <a:off x="1908000" y="1197000"/>
          <a:ext cx="6409080" cy="5184720"/>
        </p:xfrm>
        <a:graphic>
          <a:graphicData uri="http://schemas.openxmlformats.org/drawingml/2006/table">
            <a:tbl>
              <a:tblPr/>
              <a:tblGrid>
                <a:gridCol w="2065680"/>
                <a:gridCol w="4343400"/>
              </a:tblGrid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10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velop diagnostic platform at ARI Hombolo for the target area. (working with Selian 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uild capacity of ARI Hombolo and Selian to ID aflatoxi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al activities for diagnostic platform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efficiency of techniques together with TF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712764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2" name=""/>
          <p:cNvGraphicFramePr/>
          <p:nvPr/>
        </p:nvGraphicFramePr>
        <p:xfrm>
          <a:off x="1619280" y="1484280"/>
          <a:ext cx="7056360" cy="4697280"/>
        </p:xfrm>
        <a:graphic>
          <a:graphicData uri="http://schemas.openxmlformats.org/drawingml/2006/table">
            <a:tbl>
              <a:tblPr/>
              <a:tblGrid>
                <a:gridCol w="2274840"/>
                <a:gridCol w="478152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3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adequate supply of quality f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existing species (Year 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Propagation studies for best bet species (Year 2&amp;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Studies on management option for semi arid areas (Year 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3" name=""/>
          <p:cNvGraphicFramePr/>
          <p:nvPr/>
        </p:nvGraphicFramePr>
        <p:xfrm>
          <a:off x="1692360" y="148428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R&amp;D to support improvement in management of stock and minimize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haracterize current management systems &amp; links to degradation &amp; feeds supp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1" marL="7430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Determine suitable livestock management systems for land degrad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Links to WP 2 and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Carrying capacity of 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Build capacity to manage best bet tech for poul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lvl="2" marL="12002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MS PGothic"/>
                        </a:rPr>
                        <a:t>Recycling poultry to fert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5: 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Crop-livestock &amp; poultry integration for productivity enhance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5" name=""/>
          <p:cNvGraphicFramePr/>
          <p:nvPr/>
        </p:nvGraphicFramePr>
        <p:xfrm>
          <a:off x="1692360" y="907920"/>
          <a:ext cx="6983280" cy="4608720"/>
        </p:xfrm>
        <a:graphic>
          <a:graphicData uri="http://schemas.openxmlformats.org/drawingml/2006/table">
            <a:tbl>
              <a:tblPr/>
              <a:tblGrid>
                <a:gridCol w="1998720"/>
                <a:gridCol w="4984560"/>
              </a:tblGrid>
              <a:tr h="4557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ork Pack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s for impro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15296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P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ies year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eline report highlight soil conditions and major constraints to SI in targeted ar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itial site condition of field sites targeted for on-farm trials evaluated and documented for M&amp;E and impacts assessments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115560"/>
            <a:ext cx="69944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WP 6: Characterization of sites</a:t>
            </a:r>
            <a:r>
              <a:rPr b="1" lang="en-GB" sz="3200" spc="-1" strike="noStrike">
                <a:solidFill>
                  <a:srgbClr val="224e25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5760" y="2332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24e25"/>
                </a:solidFill>
                <a:latin typeface="Calibri"/>
              </a:rPr>
              <a:t>Project Si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Box 4"/>
          <p:cNvSpPr/>
          <p:nvPr/>
        </p:nvSpPr>
        <p:spPr>
          <a:xfrm>
            <a:off x="4979880" y="3433680"/>
            <a:ext cx="384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Kiteto district is found in the Manyara reg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with an estimated population of 152,75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4892760" y="4905360"/>
            <a:ext cx="416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Kongwa District</a:t>
            </a:r>
            <a:r>
              <a:rPr b="0" lang="pl-PL" sz="1800" spc="-1" strike="noStrike">
                <a:solidFill>
                  <a:srgbClr val="000000"/>
                </a:solidFill>
                <a:latin typeface="Calibri"/>
              </a:rPr>
              <a:t> is found in Dodoma Region. We are working in Mlali ward with a population of about 28,000 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7" name="Picture 9" descr=""/>
          <p:cNvPicPr/>
          <p:nvPr/>
        </p:nvPicPr>
        <p:blipFill>
          <a:blip r:embed="rId1"/>
          <a:stretch/>
        </p:blipFill>
        <p:spPr>
          <a:xfrm>
            <a:off x="158760" y="995400"/>
            <a:ext cx="3733920" cy="38098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0" descr=""/>
          <p:cNvPicPr/>
          <p:nvPr/>
        </p:nvPicPr>
        <p:blipFill>
          <a:blip r:embed="rId2"/>
          <a:stretch/>
        </p:blipFill>
        <p:spPr>
          <a:xfrm>
            <a:off x="5311800" y="1152360"/>
            <a:ext cx="2838600" cy="22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539" name="Straight Arrow Connector 12"/>
          <p:cNvCxnSpPr/>
          <p:nvPr/>
        </p:nvCxnSpPr>
        <p:spPr>
          <a:xfrm flipH="1">
            <a:off x="2804400" y="2253960"/>
            <a:ext cx="2507400" cy="230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0" name="Straight Arrow Connector 14"/>
          <p:cNvCxnSpPr>
            <a:stCxn id="536" idx="1"/>
          </p:cNvCxnSpPr>
          <p:nvPr/>
        </p:nvCxnSpPr>
        <p:spPr>
          <a:xfrm flipH="1" flipV="1">
            <a:off x="2340720" y="2726640"/>
            <a:ext cx="2552040" cy="2640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69962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4e25"/>
                </a:solidFill>
                <a:latin typeface="Calibri"/>
              </a:rPr>
              <a:t>Lessons lear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1763280" y="1125000"/>
            <a:ext cx="6923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R4D innovation platform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onvergence &amp; complementarity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omplement of partners is fluid. Convergence of thrusts takes time and largely influence by extraneous facto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Benchmanks are critical: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&amp;D investment typologies are needed to implementation. (Helps to isolate Research from development issue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Partnerships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. Intensification involves complex institutional and operational relationships. Limited understanding of what works and does not is critical for scaling up and design of appropriate interven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alibri"/>
              </a:rPr>
              <a:t>Champions for chang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: Champions at community level are essential. This may compound design of evaluations because such people are usually targeted by oth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6270480" y="0"/>
            <a:ext cx="2886120" cy="68706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Rectangle 5"/>
          <p:cNvSpPr/>
          <p:nvPr/>
        </p:nvSpPr>
        <p:spPr>
          <a:xfrm>
            <a:off x="0" y="0"/>
            <a:ext cx="179280" cy="402912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traight Connector 8"/>
          <p:cNvSpPr/>
          <p:nvPr/>
        </p:nvSpPr>
        <p:spPr>
          <a:xfrm>
            <a:off x="2340000" y="3789360"/>
            <a:ext cx="0" cy="979560"/>
          </a:xfrm>
          <a:prstGeom prst="line">
            <a:avLst/>
          </a:prstGeom>
          <a:ln w="25560">
            <a:solidFill>
              <a:srgbClr val="f68b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3"/>
          <p:cNvSpPr/>
          <p:nvPr/>
        </p:nvSpPr>
        <p:spPr>
          <a:xfrm>
            <a:off x="2340000" y="393372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IN" sz="3200" spc="-1" strike="noStrike">
                <a:solidFill>
                  <a:srgbClr val="225c29"/>
                </a:solidFill>
                <a:latin typeface="Calibri"/>
                <a:ea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Group 16"/>
          <p:cNvGrpSpPr/>
          <p:nvPr/>
        </p:nvGrpSpPr>
        <p:grpSpPr>
          <a:xfrm>
            <a:off x="108000" y="6105600"/>
            <a:ext cx="4757760" cy="598320"/>
            <a:chOff x="108000" y="6105600"/>
            <a:chExt cx="4757760" cy="598320"/>
          </a:xfrm>
        </p:grpSpPr>
        <p:sp>
          <p:nvSpPr>
            <p:cNvPr id="724" name="Rectangle 17"/>
            <p:cNvSpPr/>
            <p:nvPr/>
          </p:nvSpPr>
          <p:spPr>
            <a:xfrm>
              <a:off x="108000" y="6105600"/>
              <a:ext cx="4757760" cy="59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5" name="Picture 3" descr="D:\Jobs 2013\ID and Visiting cards\ICRISAT-Logo-Extended Green.png"/>
            <p:cNvPicPr/>
            <p:nvPr/>
          </p:nvPicPr>
          <p:blipFill>
            <a:blip r:embed="rId1"/>
            <a:stretch/>
          </p:blipFill>
          <p:spPr>
            <a:xfrm>
              <a:off x="215640" y="6166440"/>
              <a:ext cx="4542120" cy="469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6" name="Picture 7" descr="D:\Jobs 2013\ID and Visiting cards\Covers\G1.png"/>
          <p:cNvPicPr/>
          <p:nvPr/>
        </p:nvPicPr>
        <p:blipFill>
          <a:blip r:embed="rId2"/>
          <a:stretch/>
        </p:blipFill>
        <p:spPr>
          <a:xfrm>
            <a:off x="5886360" y="4559400"/>
            <a:ext cx="939960" cy="160632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12" descr=""/>
          <p:cNvPicPr/>
          <p:nvPr/>
        </p:nvPicPr>
        <p:blipFill>
          <a:blip r:embed="rId3"/>
          <a:srcRect l="0" t="0" r="0" b="-115"/>
          <a:stretch/>
        </p:blipFill>
        <p:spPr>
          <a:xfrm>
            <a:off x="2185920" y="5048280"/>
            <a:ext cx="2260800" cy="892080"/>
          </a:xfrm>
          <a:prstGeom prst="rect">
            <a:avLst/>
          </a:prstGeom>
          <a:ln w="0">
            <a:noFill/>
          </a:ln>
        </p:spPr>
      </p:pic>
      <p:sp>
        <p:nvSpPr>
          <p:cNvPr id="728" name="TextBox 14"/>
          <p:cNvSpPr/>
          <p:nvPr/>
        </p:nvSpPr>
        <p:spPr>
          <a:xfrm>
            <a:off x="1740240" y="5892840"/>
            <a:ext cx="317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225c29"/>
                </a:solidFill>
                <a:latin typeface="Arial"/>
              </a:rPr>
              <a:t>ICRISAT is a member of the CGIAR Consortiu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1" descr=""/>
          <p:cNvPicPr/>
          <p:nvPr/>
        </p:nvPicPr>
        <p:blipFill>
          <a:blip r:embed="rId4"/>
          <a:srcRect l="0" t="0" r="17" b="34"/>
          <a:stretch/>
        </p:blipFill>
        <p:spPr>
          <a:xfrm>
            <a:off x="235080" y="4680"/>
            <a:ext cx="1990440" cy="402444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1" descr=""/>
          <p:cNvPicPr/>
          <p:nvPr/>
        </p:nvPicPr>
        <p:blipFill>
          <a:blip r:embed="rId5"/>
          <a:stretch/>
        </p:blipFill>
        <p:spPr>
          <a:xfrm>
            <a:off x="4284720" y="1052640"/>
            <a:ext cx="39528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45228"/>
                </a:solidFill>
                <a:latin typeface="Calibri"/>
              </a:rPr>
              <a:t>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2" name="Content Placeholder 3" descr=""/>
          <p:cNvPicPr/>
          <p:nvPr/>
        </p:nvPicPr>
        <p:blipFill>
          <a:blip r:embed="rId1"/>
          <a:stretch/>
        </p:blipFill>
        <p:spPr>
          <a:xfrm>
            <a:off x="1755720" y="974880"/>
            <a:ext cx="6997680" cy="51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TextBox 5"/>
          <p:cNvSpPr/>
          <p:nvPr/>
        </p:nvSpPr>
        <p:spPr>
          <a:xfrm>
            <a:off x="1835280" y="836640"/>
            <a:ext cx="4465440" cy="53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Challenges to increased production/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1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Fragile farming environm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Erosion prone far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Degraded land sca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120024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soils fertili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2. Degradative farming (crop/livestock) prac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Overgraz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1436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mited integ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3.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ow production potential varieties grow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4. Local demand for legumes (consumption) is lo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47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8" name="Picture 1" descr=""/>
          <p:cNvPicPr/>
          <p:nvPr/>
        </p:nvPicPr>
        <p:blipFill>
          <a:blip r:embed="rId3"/>
          <a:srcRect l="0" t="0" r="0" b="6178"/>
          <a:stretch/>
        </p:blipFill>
        <p:spPr>
          <a:xfrm>
            <a:off x="6300720" y="907920"/>
            <a:ext cx="2730600" cy="161928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2" descr="poor maize field.jpg"/>
          <p:cNvPicPr/>
          <p:nvPr/>
        </p:nvPicPr>
        <p:blipFill>
          <a:blip r:embed="rId4"/>
          <a:srcRect l="0" t="14540" r="57622" b="0"/>
          <a:stretch/>
        </p:blipFill>
        <p:spPr>
          <a:xfrm>
            <a:off x="6300720" y="2565360"/>
            <a:ext cx="1295640" cy="19605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2" descr="C:\Users\user\Pictures\RESEARCH PICS GOATS\DSC00847.JPG"/>
          <p:cNvPicPr/>
          <p:nvPr/>
        </p:nvPicPr>
        <p:blipFill>
          <a:blip r:embed="rId5"/>
          <a:stretch/>
        </p:blipFill>
        <p:spPr>
          <a:xfrm>
            <a:off x="7667640" y="263700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6"/>
          <a:srcRect l="0" t="21045" r="0" b="-9374"/>
          <a:stretch/>
        </p:blipFill>
        <p:spPr>
          <a:xfrm>
            <a:off x="6227640" y="4581360"/>
            <a:ext cx="1368720" cy="122400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7"/>
          <a:stretch/>
        </p:blipFill>
        <p:spPr>
          <a:xfrm>
            <a:off x="7667640" y="4508640"/>
            <a:ext cx="12841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6"/>
          <p:cNvSpPr/>
          <p:nvPr/>
        </p:nvSpPr>
        <p:spPr>
          <a:xfrm>
            <a:off x="8820000" y="6146640"/>
            <a:ext cx="324000" cy="711360"/>
          </a:xfrm>
          <a:prstGeom prst="rect">
            <a:avLst/>
          </a:prstGeom>
          <a:solidFill>
            <a:srgbClr val="f68b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5"/>
          <p:cNvSpPr/>
          <p:nvPr/>
        </p:nvSpPr>
        <p:spPr>
          <a:xfrm>
            <a:off x="1835280" y="836640"/>
            <a:ext cx="43923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400" spc="-1" strike="noStrike">
                <a:solidFill>
                  <a:srgbClr val="000000"/>
                </a:solidFill>
                <a:latin typeface="Calibri"/>
                <a:ea typeface="Arial"/>
              </a:rPr>
              <a:t>The Opportuniti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Access to markets (Kibaigwa) local and outside of the reg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Under good management potential for high produc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Livestock is available (poultry, livestock) for food and manu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Contribute to nutrition and crop productivity outcomes (leaverage other FTF programes TUBoreshe Chakula, NaFak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800"/>
              </a:spcAft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  <a:ea typeface="Arial"/>
              </a:rPr>
              <a:t>Management and yield enhancing technlogies ex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Rectangle 13"/>
          <p:cNvSpPr/>
          <p:nvPr/>
        </p:nvSpPr>
        <p:spPr>
          <a:xfrm>
            <a:off x="-14400" y="0"/>
            <a:ext cx="1635120" cy="6251400"/>
          </a:xfrm>
          <a:prstGeom prst="rect">
            <a:avLst/>
          </a:prstGeom>
          <a:solidFill>
            <a:srgbClr val="225c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E:\Vengal Backup\D\Jobs\IC Logos\For Intranet\5 Basic.png"/>
          <p:cNvPicPr/>
          <p:nvPr/>
        </p:nvPicPr>
        <p:blipFill>
          <a:blip r:embed="rId1"/>
          <a:stretch/>
        </p:blipFill>
        <p:spPr>
          <a:xfrm>
            <a:off x="0" y="6251400"/>
            <a:ext cx="1606680" cy="60660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1387440" y="5164200"/>
            <a:ext cx="579600" cy="947520"/>
          </a:xfrm>
          <a:prstGeom prst="rect">
            <a:avLst/>
          </a:prstGeom>
          <a:ln w="0">
            <a:noFill/>
          </a:ln>
        </p:spPr>
      </p:pic>
      <p:sp>
        <p:nvSpPr>
          <p:cNvPr id="558" name="TextBox 10"/>
          <p:cNvSpPr/>
          <p:nvPr/>
        </p:nvSpPr>
        <p:spPr>
          <a:xfrm>
            <a:off x="1835280" y="189000"/>
            <a:ext cx="648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225c29"/>
                </a:solidFill>
                <a:latin typeface="Calibri"/>
              </a:rPr>
              <a:t>Context of the Interven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9" name="Group 3"/>
          <p:cNvGrpSpPr/>
          <p:nvPr/>
        </p:nvGrpSpPr>
        <p:grpSpPr>
          <a:xfrm>
            <a:off x="6443640" y="765000"/>
            <a:ext cx="2293920" cy="5740200"/>
            <a:chOff x="6443640" y="765000"/>
            <a:chExt cx="2293920" cy="5740200"/>
          </a:xfrm>
        </p:grpSpPr>
        <p:pic>
          <p:nvPicPr>
            <p:cNvPr id="560" name="Picture 3" descr="picture GN girl.jpg"/>
            <p:cNvPicPr/>
            <p:nvPr/>
          </p:nvPicPr>
          <p:blipFill>
            <a:blip r:embed="rId3"/>
            <a:stretch/>
          </p:blipFill>
          <p:spPr>
            <a:xfrm>
              <a:off x="6761160" y="765000"/>
              <a:ext cx="1500120" cy="119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11" descr="Ppea crop in the field.JPG"/>
            <p:cNvPicPr/>
            <p:nvPr/>
          </p:nvPicPr>
          <p:blipFill>
            <a:blip r:embed="rId4"/>
            <a:stretch/>
          </p:blipFill>
          <p:spPr>
            <a:xfrm>
              <a:off x="6761160" y="2000880"/>
              <a:ext cx="1485720" cy="102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2" name="Picture 4" descr=""/>
            <p:cNvPicPr/>
            <p:nvPr/>
          </p:nvPicPr>
          <p:blipFill>
            <a:blip r:embed="rId5"/>
            <a:stretch/>
          </p:blipFill>
          <p:spPr>
            <a:xfrm>
              <a:off x="6761160" y="3031200"/>
              <a:ext cx="1485720" cy="1070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3" name="Picture 6" descr=""/>
            <p:cNvPicPr/>
            <p:nvPr/>
          </p:nvPicPr>
          <p:blipFill>
            <a:blip r:embed="rId6"/>
            <a:stretch/>
          </p:blipFill>
          <p:spPr>
            <a:xfrm>
              <a:off x="6761160" y="4129920"/>
              <a:ext cx="1485720" cy="9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4" name="Picture 1" descr=""/>
            <p:cNvPicPr/>
            <p:nvPr/>
          </p:nvPicPr>
          <p:blipFill>
            <a:blip r:embed="rId7"/>
            <a:stretch/>
          </p:blipFill>
          <p:spPr>
            <a:xfrm>
              <a:off x="6761160" y="5077440"/>
              <a:ext cx="1528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5" name="Rectangle 2"/>
            <p:cNvSpPr/>
            <p:nvPr/>
          </p:nvSpPr>
          <p:spPr>
            <a:xfrm>
              <a:off x="6443640" y="6136920"/>
              <a:ext cx="229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M Mizengo Pinda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692000" y="109440"/>
            <a:ext cx="698796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Africa RISING Princip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692360" y="1155240"/>
            <a:ext cx="68356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search designed to test hypotheses that are linked to outputs and developmental outcomes identified by the Africa RISING programm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98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roblem-focused and demand driven 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search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ctivities influenced by market demand, evolving policy environments, and changing social structures the needs of farm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nsuring that research outputs are targeted effectively to development needs and are feasible for target farm households to impl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mplemented at several levels wit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research outputs that are likely to be common across the programme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iverse research activities as guided by the individual projects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25892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exible methods and tools to fit individual research activities and the contex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caling will be at a pilot level  and beyond through the development of investment plans with development agenci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43040" indent="-743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Content Placeholder 3" descr=""/>
          <p:cNvPicPr/>
          <p:nvPr/>
        </p:nvPicPr>
        <p:blipFill>
          <a:blip r:embed="rId1"/>
          <a:stretch/>
        </p:blipFill>
        <p:spPr>
          <a:xfrm>
            <a:off x="1792440" y="3925800"/>
            <a:ext cx="7149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692000" y="31320"/>
            <a:ext cx="699444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Project Theory of Chan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0" name="Group 54"/>
          <p:cNvGrpSpPr/>
          <p:nvPr/>
        </p:nvGrpSpPr>
        <p:grpSpPr>
          <a:xfrm>
            <a:off x="1743120" y="836640"/>
            <a:ext cx="7146720" cy="5693760"/>
            <a:chOff x="1743120" y="836640"/>
            <a:chExt cx="7146720" cy="5693760"/>
          </a:xfrm>
        </p:grpSpPr>
        <p:grpSp>
          <p:nvGrpSpPr>
            <p:cNvPr id="571" name="Group 4"/>
            <p:cNvGrpSpPr/>
            <p:nvPr/>
          </p:nvGrpSpPr>
          <p:grpSpPr>
            <a:xfrm>
              <a:off x="1743120" y="836640"/>
              <a:ext cx="7146720" cy="5693760"/>
              <a:chOff x="1743120" y="836640"/>
              <a:chExt cx="7146720" cy="5693760"/>
            </a:xfrm>
          </p:grpSpPr>
          <p:sp>
            <p:nvSpPr>
              <p:cNvPr id="572" name="Straight Connector 7"/>
              <p:cNvSpPr/>
              <p:nvPr/>
            </p:nvSpPr>
            <p:spPr>
              <a:xfrm>
                <a:off x="2216880" y="4380120"/>
                <a:ext cx="5542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Straight Connector 8"/>
              <p:cNvSpPr/>
              <p:nvPr/>
            </p:nvSpPr>
            <p:spPr>
              <a:xfrm>
                <a:off x="2196720" y="2090160"/>
                <a:ext cx="5563080" cy="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4" name="Group 9"/>
              <p:cNvGrpSpPr/>
              <p:nvPr/>
            </p:nvGrpSpPr>
            <p:grpSpPr>
              <a:xfrm>
                <a:off x="7964640" y="918720"/>
                <a:ext cx="925200" cy="3525480"/>
                <a:chOff x="7964640" y="918720"/>
                <a:chExt cx="925200" cy="3525480"/>
              </a:xfrm>
            </p:grpSpPr>
            <p:sp>
              <p:nvSpPr>
                <p:cNvPr id="575" name="Rectangle 49"/>
                <p:cNvSpPr/>
                <p:nvPr/>
              </p:nvSpPr>
              <p:spPr>
                <a:xfrm>
                  <a:off x="8128080" y="1498680"/>
                  <a:ext cx="641880" cy="985320"/>
                </a:xfrm>
                <a:prstGeom prst="rect">
                  <a:avLst/>
                </a:prstGeom>
                <a:solidFill>
                  <a:srgbClr val="c0504d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6" name="Rectangle 50"/>
                <p:cNvSpPr/>
                <p:nvPr/>
              </p:nvSpPr>
              <p:spPr>
                <a:xfrm rot="16200000">
                  <a:off x="7447680" y="3143880"/>
                  <a:ext cx="1959840" cy="640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77933c">
                        <a:alpha val="80000"/>
                      </a:srgbClr>
                    </a:gs>
                    <a:gs pos="100000">
                      <a:srgbClr val="ffffff">
                        <a:alpha val="80000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7" name="Isosceles Triangle 51"/>
                <p:cNvSpPr/>
                <p:nvPr/>
              </p:nvSpPr>
              <p:spPr>
                <a:xfrm>
                  <a:off x="7964640" y="918720"/>
                  <a:ext cx="925200" cy="589680"/>
                </a:xfrm>
                <a:prstGeom prst="triangle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ffe5e5"/>
                    </a:gs>
                    <a:gs pos="100000">
                      <a:srgbClr val="ffa2a1"/>
                    </a:gs>
                  </a:gsLst>
                  <a:lin ang="5400000"/>
                </a:gradFill>
                <a:ln w="9360">
                  <a:solidFill>
                    <a:srgbClr val="be4b48"/>
                  </a:solidFill>
                  <a:miter/>
                </a:ln>
                <a:effectLst>
                  <a:outerShdw dist="20160" dir="5400000" blurRad="0" rotWithShape="0">
                    <a:srgbClr val="80808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8" name="TextBox 52"/>
                <p:cNvSpPr/>
                <p:nvPr/>
              </p:nvSpPr>
              <p:spPr>
                <a:xfrm rot="16200000">
                  <a:off x="7515720" y="3279960"/>
                  <a:ext cx="1775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fluence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TextBox 53"/>
                <p:cNvSpPr/>
                <p:nvPr/>
              </p:nvSpPr>
              <p:spPr>
                <a:xfrm rot="16200000">
                  <a:off x="7649640" y="1623960"/>
                  <a:ext cx="15318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Sphere of interest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0" name="Group 10"/>
              <p:cNvGrpSpPr/>
              <p:nvPr/>
            </p:nvGrpSpPr>
            <p:grpSpPr>
              <a:xfrm>
                <a:off x="2265840" y="887400"/>
                <a:ext cx="5698440" cy="5643000"/>
                <a:chOff x="2265840" y="887400"/>
                <a:chExt cx="5698440" cy="5643000"/>
              </a:xfrm>
            </p:grpSpPr>
            <p:grpSp>
              <p:nvGrpSpPr>
                <p:cNvPr id="581" name="Group 14"/>
                <p:cNvGrpSpPr/>
                <p:nvPr/>
              </p:nvGrpSpPr>
              <p:grpSpPr>
                <a:xfrm>
                  <a:off x="2295360" y="5730480"/>
                  <a:ext cx="5668920" cy="799920"/>
                  <a:chOff x="2295360" y="5730480"/>
                  <a:chExt cx="5668920" cy="799920"/>
                </a:xfrm>
              </p:grpSpPr>
              <p:grpSp>
                <p:nvGrpSpPr>
                  <p:cNvPr id="582" name="Group 42"/>
                  <p:cNvGrpSpPr/>
                  <p:nvPr/>
                </p:nvGrpSpPr>
                <p:grpSpPr>
                  <a:xfrm>
                    <a:off x="2309400" y="5730840"/>
                    <a:ext cx="5654880" cy="799560"/>
                    <a:chOff x="2309400" y="5730840"/>
                    <a:chExt cx="5654880" cy="799560"/>
                  </a:xfrm>
                </p:grpSpPr>
                <p:sp>
                  <p:nvSpPr>
                    <p:cNvPr id="583" name="TextBox 44"/>
                    <p:cNvSpPr/>
                    <p:nvPr/>
                  </p:nvSpPr>
                  <p:spPr>
                    <a:xfrm>
                      <a:off x="2400480" y="5995080"/>
                      <a:ext cx="16354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l &amp; multidisciplinary approaches used to improve agricultural inno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4" name="TextBox 45"/>
                    <p:cNvSpPr/>
                    <p:nvPr/>
                  </p:nvSpPr>
                  <p:spPr>
                    <a:xfrm>
                      <a:off x="4179600" y="602496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ed M&amp;E and learning in place for te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5" name="TextBox 46"/>
                    <p:cNvSpPr/>
                    <p:nvPr/>
                  </p:nvSpPr>
                  <p:spPr>
                    <a:xfrm>
                      <a:off x="6894000" y="6020280"/>
                      <a:ext cx="107028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am operations is at optimum and well support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6" name="TextBox 47"/>
                    <p:cNvSpPr/>
                    <p:nvPr/>
                  </p:nvSpPr>
                  <p:spPr>
                    <a:xfrm>
                      <a:off x="5536800" y="6020280"/>
                      <a:ext cx="1213560" cy="505440"/>
                    </a:xfrm>
                    <a:prstGeom prst="rect">
                      <a:avLst/>
                    </a:prstGeom>
                    <a:solidFill>
                      <a:srgbClr val="8064a2"/>
                    </a:solidFill>
                    <a:ln w="25560">
                      <a:solidFill>
                        <a:srgbClr val="5c477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 quality staff motivated to work for project  succes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87" name="TextBox 48"/>
                    <p:cNvSpPr/>
                    <p:nvPr/>
                  </p:nvSpPr>
                  <p:spPr>
                    <a:xfrm>
                      <a:off x="2309400" y="5730840"/>
                      <a:ext cx="276192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onditions among project partner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88" name="Rectangle 43"/>
                  <p:cNvSpPr/>
                  <p:nvPr/>
                </p:nvSpPr>
                <p:spPr>
                  <a:xfrm>
                    <a:off x="2295360" y="5730480"/>
                    <a:ext cx="5668920" cy="795960"/>
                  </a:xfrm>
                  <a:prstGeom prst="rect">
                    <a:avLst/>
                  </a:prstGeom>
                  <a:noFill/>
                  <a:ln w="9360">
                    <a:solidFill>
                      <a:srgbClr val="7d60a0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89" name="Group 15"/>
                <p:cNvGrpSpPr/>
                <p:nvPr/>
              </p:nvGrpSpPr>
              <p:grpSpPr>
                <a:xfrm>
                  <a:off x="2295720" y="4521960"/>
                  <a:ext cx="5668560" cy="1083240"/>
                  <a:chOff x="2295720" y="4521960"/>
                  <a:chExt cx="5668560" cy="1083240"/>
                </a:xfrm>
              </p:grpSpPr>
              <p:grpSp>
                <p:nvGrpSpPr>
                  <p:cNvPr id="590" name="Group 35"/>
                  <p:cNvGrpSpPr/>
                  <p:nvPr/>
                </p:nvGrpSpPr>
                <p:grpSpPr>
                  <a:xfrm>
                    <a:off x="2297160" y="4522680"/>
                    <a:ext cx="5667120" cy="1073880"/>
                    <a:chOff x="2297160" y="4522680"/>
                    <a:chExt cx="5667120" cy="1073880"/>
                  </a:xfrm>
                </p:grpSpPr>
                <p:sp>
                  <p:nvSpPr>
                    <p:cNvPr id="591" name="TextBox 37"/>
                    <p:cNvSpPr/>
                    <p:nvPr/>
                  </p:nvSpPr>
                  <p:spPr>
                    <a:xfrm>
                      <a:off x="2380320" y="4808880"/>
                      <a:ext cx="122796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e, &amp; evaluate improved varieties of maize and grain legumes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2" name="TextBox 38"/>
                    <p:cNvSpPr/>
                    <p:nvPr/>
                  </p:nvSpPr>
                  <p:spPr>
                    <a:xfrm>
                      <a:off x="3750120" y="480888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ploy ISFT to improve plant nutrition, yields and agro-ecosystem resilien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3" name="TextBox 39"/>
                    <p:cNvSpPr/>
                    <p:nvPr/>
                  </p:nvSpPr>
                  <p:spPr>
                    <a:xfrm>
                      <a:off x="5250240" y="4816800"/>
                      <a:ext cx="128592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idate &amp; promote land management options for sustainable intensifi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4" name="TextBox 40"/>
                    <p:cNvSpPr/>
                    <p:nvPr/>
                  </p:nvSpPr>
                  <p:spPr>
                    <a:xfrm>
                      <a:off x="6607440" y="4807440"/>
                      <a:ext cx="1356840" cy="7797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f0eaf9"/>
                        </a:gs>
                        <a:gs pos="100000">
                          <a:srgbClr val="c9b5e8"/>
                        </a:gs>
                      </a:gsLst>
                      <a:lin ang="5400000"/>
                    </a:gradFill>
                    <a:ln w="9360">
                      <a:solidFill>
                        <a:srgbClr val="7d60a0"/>
                      </a:solidFill>
                      <a:miter/>
                    </a:ln>
                    <a:effectLst>
                      <a:outerShdw dist="20160" dir="5400000" blurRad="0" rotWithShape="0">
                        <a:srgbClr val="80808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-harvest processing utilization</a:t>
                      </a: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nd food safety improved nutrition outcom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  <p:sp>
                  <p:nvSpPr>
                    <p:cNvPr id="595" name="TextBox 41"/>
                    <p:cNvSpPr/>
                    <p:nvPr/>
                  </p:nvSpPr>
                  <p:spPr>
                    <a:xfrm>
                      <a:off x="2297160" y="4522680"/>
                      <a:ext cx="2646360" cy="27648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ject outpu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sp>
                <p:nvSpPr>
                  <p:cNvPr id="596" name="Rectangle 36"/>
                  <p:cNvSpPr/>
                  <p:nvPr/>
                </p:nvSpPr>
                <p:spPr>
                  <a:xfrm>
                    <a:off x="2295720" y="4521960"/>
                    <a:ext cx="5668560" cy="1083240"/>
                  </a:xfrm>
                  <a:prstGeom prst="rect">
                    <a:avLst/>
                  </a:prstGeom>
                  <a:noFill/>
                  <a:ln w="9360">
                    <a:solidFill>
                      <a:srgbClr val="b3a2c7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597" name="Group 16"/>
                <p:cNvGrpSpPr/>
                <p:nvPr/>
              </p:nvGrpSpPr>
              <p:grpSpPr>
                <a:xfrm>
                  <a:off x="2265840" y="887400"/>
                  <a:ext cx="5698440" cy="997560"/>
                  <a:chOff x="2265840" y="887400"/>
                  <a:chExt cx="5698440" cy="997560"/>
                </a:xfrm>
              </p:grpSpPr>
              <p:sp>
                <p:nvSpPr>
                  <p:cNvPr id="598" name="Rectangle 32"/>
                  <p:cNvSpPr/>
                  <p:nvPr/>
                </p:nvSpPr>
                <p:spPr>
                  <a:xfrm>
                    <a:off x="2291040" y="1243440"/>
                    <a:ext cx="5673240" cy="641520"/>
                  </a:xfrm>
                  <a:prstGeom prst="rect">
                    <a:avLst/>
                  </a:prstGeom>
                  <a:solidFill>
                    <a:srgbClr val="c0504d"/>
                  </a:solidFill>
                  <a:ln w="25560">
                    <a:solidFill>
                      <a:srgbClr val="8c383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S</a:t>
                    </a: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Calibri"/>
                      </a:rPr>
                      <a:t>mallholder farm households especially women and children move out of poverty, food and nutritional insecurity while maintaining and/or improving ecosystem stabilit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599" name="TextBox 33"/>
                  <p:cNvSpPr/>
                  <p:nvPr/>
                </p:nvSpPr>
                <p:spPr>
                  <a:xfrm>
                    <a:off x="2265840" y="909720"/>
                    <a:ext cx="26780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Calibri"/>
                      </a:rPr>
                      <a:t>ICRISAT Impac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00" name="Rectangle 34"/>
                  <p:cNvSpPr/>
                  <p:nvPr/>
                </p:nvSpPr>
                <p:spPr>
                  <a:xfrm>
                    <a:off x="2265840" y="887400"/>
                    <a:ext cx="5698440" cy="988200"/>
                  </a:xfrm>
                  <a:prstGeom prst="rect">
                    <a:avLst/>
                  </a:prstGeom>
                  <a:noFill/>
                  <a:ln w="9360">
                    <a:solidFill>
                      <a:srgbClr val="e6b9b8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01" name="Group 17"/>
                <p:cNvGrpSpPr/>
                <p:nvPr/>
              </p:nvGrpSpPr>
              <p:grpSpPr>
                <a:xfrm>
                  <a:off x="2297160" y="2161800"/>
                  <a:ext cx="5667120" cy="2085120"/>
                  <a:chOff x="2297160" y="2161800"/>
                  <a:chExt cx="5667120" cy="2085120"/>
                </a:xfrm>
              </p:grpSpPr>
              <p:grpSp>
                <p:nvGrpSpPr>
                  <p:cNvPr id="602" name="Group 18"/>
                  <p:cNvGrpSpPr/>
                  <p:nvPr/>
                </p:nvGrpSpPr>
                <p:grpSpPr>
                  <a:xfrm>
                    <a:off x="2305440" y="3234960"/>
                    <a:ext cx="5658840" cy="1011960"/>
                    <a:chOff x="2305440" y="3234960"/>
                    <a:chExt cx="5658840" cy="1011960"/>
                  </a:xfrm>
                </p:grpSpPr>
                <p:grpSp>
                  <p:nvGrpSpPr>
                    <p:cNvPr id="603" name="Group 25"/>
                    <p:cNvGrpSpPr/>
                    <p:nvPr/>
                  </p:nvGrpSpPr>
                  <p:grpSpPr>
                    <a:xfrm>
                      <a:off x="2305440" y="3234960"/>
                      <a:ext cx="5587560" cy="1002240"/>
                      <a:chOff x="2305440" y="3234960"/>
                      <a:chExt cx="5587560" cy="1002240"/>
                    </a:xfrm>
                  </p:grpSpPr>
                  <p:sp>
                    <p:nvSpPr>
                      <p:cNvPr id="604" name="TextBox 27"/>
                      <p:cNvSpPr/>
                      <p:nvPr/>
                    </p:nvSpPr>
                    <p:spPr>
                      <a:xfrm>
                        <a:off x="6723360" y="3592800"/>
                        <a:ext cx="11696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Government policy is supportive of investments in agricultur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5" name="TextBox 28"/>
                      <p:cNvSpPr/>
                      <p:nvPr/>
                    </p:nvSpPr>
                    <p:spPr>
                      <a:xfrm>
                        <a:off x="2356560" y="3594600"/>
                        <a:ext cx="139284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pportunities for improved access to seed and innovations support intensification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6" name="TextBox 29"/>
                      <p:cNvSpPr/>
                      <p:nvPr/>
                    </p:nvSpPr>
                    <p:spPr>
                      <a:xfrm>
                        <a:off x="5339880" y="3592800"/>
                        <a:ext cx="126720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Existing land tenure systems allows for farm to landscape level interventions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7" name="TextBox 30"/>
                      <p:cNvSpPr/>
                      <p:nvPr/>
                    </p:nvSpPr>
                    <p:spPr>
                      <a:xfrm>
                        <a:off x="3874320" y="3592800"/>
                        <a:ext cx="1232280" cy="642600"/>
                      </a:xfrm>
                      <a:prstGeom prst="rect">
                        <a:avLst/>
                      </a:prstGeom>
                      <a:solidFill>
                        <a:srgbClr val="9bbb59"/>
                      </a:solidFill>
                      <a:ln w="25560">
                        <a:solidFill>
                          <a:srgbClr val="71893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Farmer organisations are functional &amp; supportive of the project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08" name="TextBox 31"/>
                      <p:cNvSpPr/>
                      <p:nvPr/>
                    </p:nvSpPr>
                    <p:spPr>
                      <a:xfrm>
                        <a:off x="2305440" y="323496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Preconditions amongst in action site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09" name="Rectangle 26"/>
                    <p:cNvSpPr/>
                    <p:nvPr/>
                  </p:nvSpPr>
                  <p:spPr>
                    <a:xfrm>
                      <a:off x="2318760" y="3234960"/>
                      <a:ext cx="5645520" cy="1011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9bbb59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  <p:grpSp>
                <p:nvGrpSpPr>
                  <p:cNvPr id="610" name="Group 19"/>
                  <p:cNvGrpSpPr/>
                  <p:nvPr/>
                </p:nvGrpSpPr>
                <p:grpSpPr>
                  <a:xfrm>
                    <a:off x="2297160" y="2161800"/>
                    <a:ext cx="5667120" cy="999720"/>
                    <a:chOff x="2297160" y="2161800"/>
                    <a:chExt cx="5667120" cy="999720"/>
                  </a:xfrm>
                </p:grpSpPr>
                <p:grpSp>
                  <p:nvGrpSpPr>
                    <p:cNvPr id="611" name="Group 20"/>
                    <p:cNvGrpSpPr/>
                    <p:nvPr/>
                  </p:nvGrpSpPr>
                  <p:grpSpPr>
                    <a:xfrm>
                      <a:off x="2324880" y="2235240"/>
                      <a:ext cx="5639400" cy="926280"/>
                      <a:chOff x="2324880" y="2235240"/>
                      <a:chExt cx="5639400" cy="926280"/>
                    </a:xfrm>
                  </p:grpSpPr>
                  <p:sp>
                    <p:nvSpPr>
                      <p:cNvPr id="612" name="TextBox 22"/>
                      <p:cNvSpPr/>
                      <p:nvPr/>
                    </p:nvSpPr>
                    <p:spPr>
                      <a:xfrm>
                        <a:off x="2325240" y="2518920"/>
                        <a:ext cx="2783160" cy="64260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1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ncreased crop yields in maize-legume farming systems by up to 100% for cereals and 80% for legumes.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3" name="TextBox 23"/>
                      <p:cNvSpPr/>
                      <p:nvPr/>
                    </p:nvSpPr>
                    <p:spPr>
                      <a:xfrm>
                        <a:off x="5179320" y="2518920"/>
                        <a:ext cx="2784960" cy="505440"/>
                      </a:xfrm>
                      <a:prstGeom prst="rect">
                        <a:avLst/>
                      </a:prstGeom>
                      <a:gradFill rotWithShape="0">
                        <a:gsLst>
                          <a:gs pos="0">
                            <a:srgbClr val="f5ffe6"/>
                          </a:gs>
                          <a:gs pos="100000">
                            <a:srgbClr val="dafda7"/>
                          </a:gs>
                        </a:gsLst>
                        <a:lin ang="5400000"/>
                      </a:gradFill>
                      <a:ln w="9360">
                        <a:solidFill>
                          <a:srgbClr val="98b954"/>
                        </a:solidFill>
                        <a:miter/>
                      </a:ln>
                      <a:effectLst>
                        <a:outerShdw dist="20160" dir="5400000" blurRad="0" rotWithShape="0">
                          <a:srgbClr val="808080">
                            <a:alpha val="38000"/>
                          </a:srgbClr>
                        </a:outerShdw>
                      </a:effectLst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Outcome 2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Improved land productivity in robust agro-ecologies and productive farming and crop systems</a:t>
                        </a:r>
                        <a:r>
                          <a:rPr b="1" lang="en-GB" sz="9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 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  <p:sp>
                    <p:nvSpPr>
                      <p:cNvPr id="614" name="TextBox 24"/>
                      <p:cNvSpPr/>
                      <p:nvPr/>
                    </p:nvSpPr>
                    <p:spPr>
                      <a:xfrm>
                        <a:off x="2324880" y="2235240"/>
                        <a:ext cx="2563560" cy="27648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000000"/>
                            </a:solidFill>
                            <a:latin typeface="Calibri"/>
                          </a:rPr>
                          <a:t>Africa Rising outcomes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endParaRPr>
                      </a:p>
                    </p:txBody>
                  </p:sp>
                </p:grpSp>
                <p:sp>
                  <p:nvSpPr>
                    <p:cNvPr id="615" name="Rectangle 21"/>
                    <p:cNvSpPr/>
                    <p:nvPr/>
                  </p:nvSpPr>
                  <p:spPr>
                    <a:xfrm>
                      <a:off x="2297160" y="2161800"/>
                      <a:ext cx="5667120" cy="9849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d7e4bd"/>
                      </a:solidFill>
                      <a:miter/>
                    </a:ln>
                    <a:effectLst>
                      <a:outerShdw dist="23040" dir="5400000" blurRad="0" rotWithShape="0">
                        <a:srgbClr val="808080">
                          <a:alpha val="35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p:txBody>
                </p:sp>
              </p:grpSp>
            </p:grpSp>
          </p:grpSp>
          <p:grpSp>
            <p:nvGrpSpPr>
              <p:cNvPr id="616" name="TextBox 11"/>
              <p:cNvGrpSpPr/>
              <p:nvPr/>
            </p:nvGrpSpPr>
            <p:grpSpPr>
              <a:xfrm>
                <a:off x="1743120" y="4488120"/>
                <a:ext cx="513720" cy="1889280"/>
                <a:chOff x="1743120" y="4488120"/>
                <a:chExt cx="513720" cy="1889280"/>
              </a:xfrm>
            </p:grpSpPr>
            <p:pic>
              <p:nvPicPr>
                <p:cNvPr id="617" name="TextBox 11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3120" y="4488120"/>
                  <a:ext cx="513720" cy="188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8" name=""/>
                <p:cNvSpPr/>
                <p:nvPr/>
              </p:nvSpPr>
              <p:spPr>
                <a:xfrm rot="10800000">
                  <a:off x="1802880" y="4522680"/>
                  <a:ext cx="393480" cy="178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puts and activiti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19" name="TextBox 12"/>
              <p:cNvGrpSpPr/>
              <p:nvPr/>
            </p:nvGrpSpPr>
            <p:grpSpPr>
              <a:xfrm>
                <a:off x="1797480" y="2640960"/>
                <a:ext cx="455040" cy="1374480"/>
                <a:chOff x="1797480" y="2640960"/>
                <a:chExt cx="455040" cy="1374480"/>
              </a:xfrm>
            </p:grpSpPr>
            <p:pic>
              <p:nvPicPr>
                <p:cNvPr id="620" name="TextBox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797480" y="2640960"/>
                  <a:ext cx="441000" cy="1374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1" name=""/>
                <p:cNvSpPr/>
                <p:nvPr/>
              </p:nvSpPr>
              <p:spPr>
                <a:xfrm rot="10800000">
                  <a:off x="1859040" y="2677680"/>
                  <a:ext cx="393480" cy="126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Outcome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2" name="TextBox 13"/>
              <p:cNvGrpSpPr/>
              <p:nvPr/>
            </p:nvGrpSpPr>
            <p:grpSpPr>
              <a:xfrm>
                <a:off x="1797480" y="836640"/>
                <a:ext cx="455760" cy="1259280"/>
                <a:chOff x="1797480" y="836640"/>
                <a:chExt cx="455760" cy="1259280"/>
              </a:xfrm>
            </p:grpSpPr>
            <p:pic>
              <p:nvPicPr>
                <p:cNvPr id="623" name="TextBox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797480" y="836640"/>
                  <a:ext cx="441000" cy="1259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4" name=""/>
                <p:cNvSpPr/>
                <p:nvPr/>
              </p:nvSpPr>
              <p:spPr>
                <a:xfrm rot="10800000">
                  <a:off x="1859760" y="874080"/>
                  <a:ext cx="393480" cy="114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alibri"/>
                    </a:rPr>
                    <a:t>Impacts</a:t>
                  </a:r>
                  <a:endParaRPr b="0" lang="en-US" sz="14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625" name="Rectangle 5"/>
            <p:cNvSpPr/>
            <p:nvPr/>
          </p:nvSpPr>
          <p:spPr>
            <a:xfrm rot="16200000">
              <a:off x="7400520" y="5119200"/>
              <a:ext cx="2065320" cy="645840"/>
            </a:xfrm>
            <a:prstGeom prst="rect">
              <a:avLst/>
            </a:prstGeom>
            <a:gradFill rotWithShape="0">
              <a:gsLst>
                <a:gs pos="0">
                  <a:srgbClr val="660066">
                    <a:alpha val="48235"/>
                  </a:srgbClr>
                </a:gs>
                <a:gs pos="100000">
                  <a:srgbClr val="ffffff">
                    <a:alpha val="48235"/>
                  </a:srgbClr>
                </a:gs>
              </a:gsLst>
              <a:lin ang="5400000"/>
            </a:gradFill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TextBox 6"/>
            <p:cNvSpPr/>
            <p:nvPr/>
          </p:nvSpPr>
          <p:spPr>
            <a:xfrm rot="16200000">
              <a:off x="7516440" y="5374800"/>
              <a:ext cx="178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phere of influence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4e25"/>
                </a:solidFill>
                <a:latin typeface="Calibri"/>
              </a:rPr>
              <a:t>The Partn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8" name="Group 4"/>
          <p:cNvGrpSpPr/>
          <p:nvPr/>
        </p:nvGrpSpPr>
        <p:grpSpPr>
          <a:xfrm>
            <a:off x="1908000" y="1557360"/>
            <a:ext cx="6610680" cy="4514760"/>
            <a:chOff x="1908000" y="1557360"/>
            <a:chExt cx="6610680" cy="4514760"/>
          </a:xfrm>
        </p:grpSpPr>
        <p:grpSp>
          <p:nvGrpSpPr>
            <p:cNvPr id="629" name="Group 5"/>
            <p:cNvGrpSpPr/>
            <p:nvPr/>
          </p:nvGrpSpPr>
          <p:grpSpPr>
            <a:xfrm>
              <a:off x="3742560" y="2099520"/>
              <a:ext cx="2922480" cy="3972600"/>
              <a:chOff x="3742560" y="2099520"/>
              <a:chExt cx="2922480" cy="3972600"/>
            </a:xfrm>
          </p:grpSpPr>
          <p:grpSp>
            <p:nvGrpSpPr>
              <p:cNvPr id="630" name="Group 18"/>
              <p:cNvGrpSpPr/>
              <p:nvPr/>
            </p:nvGrpSpPr>
            <p:grpSpPr>
              <a:xfrm>
                <a:off x="3742560" y="2099520"/>
                <a:ext cx="2922480" cy="3972600"/>
                <a:chOff x="3742560" y="2099520"/>
                <a:chExt cx="2922480" cy="3972600"/>
              </a:xfrm>
            </p:grpSpPr>
            <p:sp>
              <p:nvSpPr>
                <p:cNvPr id="631" name="Oval 26"/>
                <p:cNvSpPr/>
                <p:nvPr/>
              </p:nvSpPr>
              <p:spPr>
                <a:xfrm>
                  <a:off x="3742560" y="2099520"/>
                  <a:ext cx="2922480" cy="3972600"/>
                </a:xfrm>
                <a:prstGeom prst="ellipse">
                  <a:avLst/>
                </a:prstGeom>
                <a:solidFill>
                  <a:srgbClr val="e6b9b8"/>
                </a:solidFill>
                <a:ln w="9360">
                  <a:solidFill>
                    <a:srgbClr val="4a7ebb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TextBox 27"/>
                <p:cNvSpPr/>
                <p:nvPr/>
              </p:nvSpPr>
              <p:spPr>
                <a:xfrm>
                  <a:off x="4177800" y="2204640"/>
                  <a:ext cx="196740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alibri"/>
                    </a:rPr>
                    <a:t>Agriculture development environ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" name="Group 19"/>
              <p:cNvGrpSpPr/>
              <p:nvPr/>
            </p:nvGrpSpPr>
            <p:grpSpPr>
              <a:xfrm>
                <a:off x="4052160" y="3081600"/>
                <a:ext cx="2092680" cy="2990520"/>
                <a:chOff x="4052160" y="3081600"/>
                <a:chExt cx="2092680" cy="2990520"/>
              </a:xfrm>
            </p:grpSpPr>
            <p:grpSp>
              <p:nvGrpSpPr>
                <p:cNvPr id="634" name="Group 20"/>
                <p:cNvGrpSpPr/>
                <p:nvPr/>
              </p:nvGrpSpPr>
              <p:grpSpPr>
                <a:xfrm>
                  <a:off x="4052160" y="3081600"/>
                  <a:ext cx="2092680" cy="2990520"/>
                  <a:chOff x="4052160" y="3081600"/>
                  <a:chExt cx="2092680" cy="2990520"/>
                </a:xfrm>
              </p:grpSpPr>
              <p:sp>
                <p:nvSpPr>
                  <p:cNvPr id="635" name="Oval 24"/>
                  <p:cNvSpPr/>
                  <p:nvPr/>
                </p:nvSpPr>
                <p:spPr>
                  <a:xfrm>
                    <a:off x="4052160" y="3081600"/>
                    <a:ext cx="2092680" cy="2990520"/>
                  </a:xfrm>
                  <a:prstGeom prst="ellipse">
                    <a:avLst/>
                  </a:prstGeom>
                  <a:solidFill>
                    <a:srgbClr val="9bbb59"/>
                  </a:soli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6" name="TextBox 25"/>
                  <p:cNvSpPr/>
                  <p:nvPr/>
                </p:nvSpPr>
                <p:spPr>
                  <a:xfrm>
                    <a:off x="4492800" y="3138480"/>
                    <a:ext cx="121248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Calibri"/>
                      </a:rPr>
                      <a:t>NARES, IARCs and institu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637" name="Group 21"/>
                <p:cNvGrpSpPr/>
                <p:nvPr/>
              </p:nvGrpSpPr>
              <p:grpSpPr>
                <a:xfrm>
                  <a:off x="4315680" y="4005000"/>
                  <a:ext cx="1536480" cy="2067120"/>
                  <a:chOff x="4315680" y="4005000"/>
                  <a:chExt cx="1536480" cy="2067120"/>
                </a:xfrm>
              </p:grpSpPr>
              <p:sp>
                <p:nvSpPr>
                  <p:cNvPr id="638" name="Oval 22"/>
                  <p:cNvSpPr/>
                  <p:nvPr/>
                </p:nvSpPr>
                <p:spPr>
                  <a:xfrm>
                    <a:off x="4315680" y="4005000"/>
                    <a:ext cx="1536480" cy="2067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a7ccb"/>
                      </a:gs>
                      <a:gs pos="100000">
                        <a:srgbClr val="2c5d98"/>
                      </a:gs>
                    </a:gsLst>
                    <a:lin ang="5400000"/>
                  </a:gradFill>
                  <a:ln w="9360">
                    <a:solidFill>
                      <a:srgbClr val="ffffff"/>
                    </a:solidFill>
                    <a:miter/>
                  </a:ln>
                  <a:effectLst>
                    <a:outerShdw dist="23040" dir="5400000" blurRad="0" rotWithShape="0">
                      <a:srgbClr val="808080">
                        <a:alpha val="35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9" name="TextBox 23"/>
                  <p:cNvSpPr/>
                  <p:nvPr/>
                </p:nvSpPr>
                <p:spPr>
                  <a:xfrm>
                    <a:off x="4427640" y="4434840"/>
                    <a:ext cx="1381320" cy="824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ffffff"/>
                        </a:solidFill>
                        <a:latin typeface="Calibri"/>
                      </a:rPr>
                      <a:t>Farmers and their organizatio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</p:grpSp>
        <p:grpSp>
          <p:nvGrpSpPr>
            <p:cNvPr id="640" name="Group 6"/>
            <p:cNvGrpSpPr/>
            <p:nvPr/>
          </p:nvGrpSpPr>
          <p:grpSpPr>
            <a:xfrm>
              <a:off x="1908000" y="1557360"/>
              <a:ext cx="1834560" cy="1275120"/>
              <a:chOff x="1908000" y="1557360"/>
              <a:chExt cx="1834560" cy="1275120"/>
            </a:xfrm>
          </p:grpSpPr>
          <p:sp>
            <p:nvSpPr>
              <p:cNvPr id="641" name="Rounded Rectangle 16"/>
              <p:cNvSpPr/>
              <p:nvPr/>
            </p:nvSpPr>
            <p:spPr>
              <a:xfrm>
                <a:off x="1908000" y="1557360"/>
                <a:ext cx="183456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TextBox 17"/>
              <p:cNvSpPr/>
              <p:nvPr/>
            </p:nvSpPr>
            <p:spPr>
              <a:xfrm>
                <a:off x="1999440" y="1557360"/>
                <a:ext cx="165060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Including policy institutions, infrastructure, human and natural resources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3" name="Group 7"/>
            <p:cNvGrpSpPr/>
            <p:nvPr/>
          </p:nvGrpSpPr>
          <p:grpSpPr>
            <a:xfrm>
              <a:off x="6665040" y="3622680"/>
              <a:ext cx="1853640" cy="1275120"/>
              <a:chOff x="6665040" y="3622680"/>
              <a:chExt cx="1853640" cy="1275120"/>
            </a:xfrm>
          </p:grpSpPr>
          <p:sp>
            <p:nvSpPr>
              <p:cNvPr id="644" name="Rounded Rectangle 14"/>
              <p:cNvSpPr/>
              <p:nvPr/>
            </p:nvSpPr>
            <p:spPr>
              <a:xfrm>
                <a:off x="6683400" y="3622680"/>
                <a:ext cx="1835280" cy="127512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TextBox 15"/>
              <p:cNvSpPr/>
              <p:nvPr/>
            </p:nvSpPr>
            <p:spPr>
              <a:xfrm>
                <a:off x="6665040" y="3729240"/>
                <a:ext cx="179604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R&amp;D stakeholders, and their communities including NGO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8"/>
            <p:cNvGrpSpPr/>
            <p:nvPr/>
          </p:nvGrpSpPr>
          <p:grpSpPr>
            <a:xfrm>
              <a:off x="1908000" y="4910760"/>
              <a:ext cx="1742760" cy="851760"/>
              <a:chOff x="1908000" y="4910760"/>
              <a:chExt cx="1742760" cy="851760"/>
            </a:xfrm>
          </p:grpSpPr>
          <p:sp>
            <p:nvSpPr>
              <p:cNvPr id="647" name="Rounded Rectangle 12"/>
              <p:cNvSpPr/>
              <p:nvPr/>
            </p:nvSpPr>
            <p:spPr>
              <a:xfrm>
                <a:off x="1908000" y="4910760"/>
                <a:ext cx="1742760" cy="851760"/>
              </a:xfrm>
              <a:prstGeom prst="roundRect">
                <a:avLst>
                  <a:gd name="adj" fmla="val 16667"/>
                </a:avLst>
              </a:prstGeom>
              <a:solidFill>
                <a:srgbClr val="fcd5b5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TextBox 13"/>
              <p:cNvSpPr/>
              <p:nvPr/>
            </p:nvSpPr>
            <p:spPr>
              <a:xfrm>
                <a:off x="1995120" y="4911120"/>
                <a:ext cx="1568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Ultimate beneficiaries, the farmers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cxnSp>
          <p:nvCxnSpPr>
            <p:cNvPr id="649" name="Straight Arrow Connector 9"/>
            <p:cNvCxnSpPr>
              <a:endCxn id="632" idx="1"/>
            </p:cNvCxnSpPr>
            <p:nvPr/>
          </p:nvCxnSpPr>
          <p:spPr>
            <a:xfrm>
              <a:off x="3743280" y="1976040"/>
              <a:ext cx="435600" cy="5036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0" name="Straight Arrow Connector 10"/>
            <p:cNvCxnSpPr>
              <a:stCxn id="644" idx="1"/>
            </p:cNvCxnSpPr>
            <p:nvPr/>
          </p:nvCxnSpPr>
          <p:spPr>
            <a:xfrm flipH="1" flipV="1">
              <a:off x="5962320" y="4179600"/>
              <a:ext cx="721440" cy="81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51" name="Straight Arrow Connector 11"/>
            <p:cNvCxnSpPr>
              <a:stCxn id="647" idx="3"/>
            </p:cNvCxnSpPr>
            <p:nvPr/>
          </p:nvCxnSpPr>
          <p:spPr>
            <a:xfrm flipV="1">
              <a:off x="3650760" y="5038200"/>
              <a:ext cx="842040" cy="299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896840" y="-27000"/>
            <a:ext cx="69958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25c29"/>
                </a:solidFill>
                <a:latin typeface="Calibri"/>
              </a:rPr>
              <a:t>Intensification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3" name="Content Placeholder 5" descr=""/>
          <p:cNvPicPr/>
          <p:nvPr/>
        </p:nvPicPr>
        <p:blipFill>
          <a:blip r:embed="rId1"/>
          <a:stretch/>
        </p:blipFill>
        <p:spPr>
          <a:xfrm>
            <a:off x="2620800" y="798480"/>
            <a:ext cx="5846760" cy="4359240"/>
          </a:xfrm>
          <a:prstGeom prst="rect">
            <a:avLst/>
          </a:prstGeom>
          <a:ln w="0">
            <a:noFill/>
          </a:ln>
        </p:spPr>
      </p:pic>
      <p:sp>
        <p:nvSpPr>
          <p:cNvPr id="654" name="Diagonal Stripe 7"/>
          <p:cNvSpPr/>
          <p:nvPr/>
        </p:nvSpPr>
        <p:spPr>
          <a:xfrm rot="13387200">
            <a:off x="3759120" y="3857760"/>
            <a:ext cx="3570480" cy="3246480"/>
          </a:xfrm>
          <a:custGeom>
            <a:avLst/>
            <a:gdLst>
              <a:gd name="textAreaLeft" fmla="*/ 0 w 3570480"/>
              <a:gd name="textAreaRight" fmla="*/ 3570840 w 3570480"/>
              <a:gd name="textAreaTop" fmla="*/ 0 h 3246480"/>
              <a:gd name="textAreaBottom" fmla="*/ 3246840 h 3246480"/>
            </a:gdLst>
            <a:ahLst/>
            <a:rect l="textAreaLeft" t="textAreaTop" r="textAreaRight" b="textAreaBottom"/>
            <a:pathLst>
              <a:path w="3570288" h="3246438">
                <a:moveTo>
                  <a:pt x="0" y="1623219"/>
                </a:moveTo>
                <a:lnTo>
                  <a:pt x="1785144" y="0"/>
                </a:lnTo>
                <a:lnTo>
                  <a:pt x="3570288" y="0"/>
                </a:lnTo>
                <a:lnTo>
                  <a:pt x="0" y="3246438"/>
                </a:lnTo>
                <a:lnTo>
                  <a:pt x="0" y="1623219"/>
                </a:lnTo>
                <a:close/>
              </a:path>
            </a:pathLst>
          </a:cu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13614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TextBox 8"/>
          <p:cNvSpPr/>
          <p:nvPr/>
        </p:nvSpPr>
        <p:spPr>
          <a:xfrm>
            <a:off x="4067280" y="558972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roved agricultural productivity and nutrition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Up-Down Arrow 9"/>
          <p:cNvSpPr/>
          <p:nvPr/>
        </p:nvSpPr>
        <p:spPr>
          <a:xfrm>
            <a:off x="5435640" y="5084640"/>
            <a:ext cx="216000" cy="360360"/>
          </a:xfrm>
          <a:prstGeom prst="upDownArrow">
            <a:avLst>
              <a:gd name="adj1" fmla="val 50000"/>
              <a:gd name="adj2" fmla="val 49972"/>
            </a:avLst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7" name="Straight Arrow Connector 2"/>
          <p:cNvCxnSpPr/>
          <p:nvPr/>
        </p:nvCxnSpPr>
        <p:spPr>
          <a:xfrm flipV="1">
            <a:off x="4643280" y="3859920"/>
            <a:ext cx="43416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8" name="Straight Arrow Connector 8"/>
          <p:cNvCxnSpPr/>
          <p:nvPr/>
        </p:nvCxnSpPr>
        <p:spPr>
          <a:xfrm flipH="1" flipV="1">
            <a:off x="5866920" y="3933360"/>
            <a:ext cx="434160" cy="21672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  <p:cxnSp>
        <p:nvCxnSpPr>
          <p:cNvPr id="659" name="Straight Arrow Connector 10"/>
          <p:cNvCxnSpPr/>
          <p:nvPr/>
        </p:nvCxnSpPr>
        <p:spPr>
          <a:xfrm>
            <a:off x="5435280" y="2852280"/>
            <a:ext cx="1080" cy="361080"/>
          </a:xfrm>
          <a:prstGeom prst="straightConnector1">
            <a:avLst/>
          </a:prstGeom>
          <a:ln w="38160">
            <a:solidFill>
              <a:srgbClr val="f7964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4T10:22:54Z</dcterms:created>
  <dc:creator>Vengala Reddy, Ch (ICRISAT-IN)</dc:creator>
  <dc:description/>
  <dc:language>en-US</dc:language>
  <cp:lastModifiedBy>IZeledon</cp:lastModifiedBy>
  <dcterms:modified xsi:type="dcterms:W3CDTF">2013-05-29T06:41:17Z</dcterms:modified>
  <cp:revision>26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9000000000001023620</vt:lpwstr>
  </property>
</Properties>
</file>