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595B-A8A7-43C6-97A3-65F561A622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8C23-5029-47C8-98A2-D1FB97F06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5E5B-56B6-48B9-B5F5-F5AD3A2DFF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E063-F65A-40DF-986C-B6EE6F31DD5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5582-314D-4D28-A46E-3231E50AC6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D9FF-10D3-4C7D-9D80-2EA63CF41DF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6FB9-825D-4661-B833-F998AFFCDE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FEF4-8FA5-46FC-AFB1-B9BC4C7FE6F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5953-57B8-4DCE-BD4C-16EDA90639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EE4E-5193-4DA7-95A6-2BFA4D6C009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E09E-CCDA-4359-AD44-0ADE4F707D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0D87-BA59-4686-AEF9-16A2281623E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CCB02-DD66-4C2A-A1CE-742AD660AA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5017-0FCB-4CCB-8A22-BE8F504215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3D8E-7F69-4D18-B057-F5CFD4077E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AD9B-6E3E-423E-BDF6-31D195D10E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C0B5-91BA-461B-B2FF-8A61475F52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0C2E-C8A3-4CF6-A5FD-A226BD1E90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DEB81-15FC-45FC-BE0C-55C7260C8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FB974-7F25-4867-9B80-7598B5D8C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5FFB7-6CD0-44A5-8DC9-DD850B5E6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5BEA3-E7DB-4AD2-9F47-B90D95340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62CBC-8BBF-44F6-93F0-78989AAA4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DAD85-0EAB-4BB9-897D-AFB558213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54212-8790-499A-978B-BD2CEB1AD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E82CF-DF8B-41CE-B342-01E124A4D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966A5-F3B9-4B79-846E-77293DFB2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DF70E-843B-4C93-8A1E-3034AB08B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E7EDB-87FC-4763-AA24-C7702078E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772EC-801B-48ED-AE99-83773A56A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15EB-4A3D-463E-B9E2-3C4D8DB3F59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760 h 909720"/>
              <a:gd name="textAreaBottom" fmla="*/ 593640 h 909720"/>
            </a:gdLst>
            <a:ahLst/>
            <a:rect l="textAreaLeft" t="textAreaTop" r="textAreaRight" b="textAreaBottom"/>
            <a:pathLst>
              <a:path w="21600" h="21600">
                <a:moveTo>
                  <a:pt x="21600" y="0"/>
                </a:moveTo>
                <a:arcTo wR="21600" hR="7545" stAng="-5400000" swAng="-5400000"/>
                <a:lnTo>
                  <a:pt x="0" y="10324"/>
                </a:lnTo>
                <a:arcTo wR="21600" hR="7545" stAng="10800000" swAng="-2072284"/>
                <a:lnTo>
                  <a:pt x="11825" y="20783"/>
                </a:lnTo>
                <a:lnTo>
                  <a:pt x="21600" y="16479"/>
                </a:lnTo>
                <a:lnTo>
                  <a:pt x="11825" y="10540"/>
                </a:lnTo>
                <a:lnTo>
                  <a:pt x="11825" y="14272"/>
                </a:lnTo>
                <a:arcTo wR="21600" hR="7545" stAng="8727716" swAng="1847610"/>
                <a:lnTo>
                  <a:pt x="369" y="8934"/>
                </a:lnTo>
                <a:arcTo wR="21600" hR="7545" stAng="-10575326" swAng="5175326"/>
                <a:close/>
              </a:path>
              <a:path fill="darkenLess" w="21600" h="21600">
                <a:moveTo>
                  <a:pt x="21600" y="0"/>
                </a:moveTo>
                <a:arcTo wR="21600" hR="7545" stAng="-5400000" swAng="-5400000"/>
                <a:lnTo>
                  <a:pt x="0" y="7545"/>
                </a:lnTo>
                <a:arcTo wR="21600" hR="7545" stAng="10800000" swAng="-224674"/>
                <a:lnTo>
                  <a:pt x="369" y="8934"/>
                </a:lnTo>
                <a:arcTo wR="21600" hR="7545" stAng="-10575326" swAng="517532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62" hR="21600" stAng="10800000" swAng="5400000"/>
                <a:lnTo>
                  <a:pt x="12047" y="0"/>
                </a:lnTo>
                <a:arcTo wR="7062" hR="21600" stAng="-5400000" swAng="3101922"/>
                <a:lnTo>
                  <a:pt x="21376" y="16200"/>
                </a:lnTo>
                <a:lnTo>
                  <a:pt x="16616" y="21600"/>
                </a:lnTo>
                <a:lnTo>
                  <a:pt x="11407" y="16200"/>
                </a:lnTo>
                <a:lnTo>
                  <a:pt x="13899" y="16200"/>
                </a:lnTo>
                <a:arcTo wR="7062" hR="21600" stAng="-2298078" swAng="-2680069"/>
                <a:lnTo>
                  <a:pt x="9554" y="1390"/>
                </a:lnTo>
                <a:arcTo wR="7062" hR="21600" stAng="-5821853" swAng="-4978147"/>
                <a:close/>
              </a:path>
              <a:path fill="darkenLess" w="21600" h="21600">
                <a:moveTo>
                  <a:pt x="0" y="21600"/>
                </a:moveTo>
                <a:arcTo wR="7062" hR="21600" stAng="10800000" swAng="5400000"/>
                <a:lnTo>
                  <a:pt x="7062" y="0"/>
                </a:lnTo>
                <a:arcTo wR="7062" hR="21600" stAng="-5400000" swAng="421853"/>
                <a:lnTo>
                  <a:pt x="9554" y="1390"/>
                </a:lnTo>
                <a:arcTo wR="7062" hR="21600" stAng="-5821853" swAng="-497814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CAZZARRI</cp:lastModifiedBy>
  <dcterms:modified xsi:type="dcterms:W3CDTF">2012-09-05T21:14:21Z</dcterms:modified>
  <cp:revision>112</cp:revision>
  <dc:subject/>
  <dc:title>Slide 1</dc:title>
</cp:coreProperties>
</file>