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CBAD-6FCC-45D7-870E-01C60373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F7EF-EF5D-443B-94B8-0D89DC0D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3FDB5-E834-427E-89A4-9E97AF85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DB034-AAED-4B30-9900-D72E2342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76F8B-951A-43FC-8AC9-1303C6457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3531B-099B-4DC1-B325-75EA537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C11E39-6A86-401E-9A33-F8CC23F1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E5214-E30A-4D63-8E61-2B1D39E6D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744FE3-3194-4DCE-8886-C6D8EEC5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217BE-721D-4F51-B014-D008242CC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8274D-EA09-4F01-B952-08481EB7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11D08-BBB3-4EBA-AEE3-8D4ED711B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AD6D-FD8B-4B0A-BE2F-8DEA13933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2328E0-DA54-403C-BFDD-15A19EC7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F8DDD-0D9C-4DDF-A16C-9D8626DB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C16F5-1EA1-482D-99F9-1253A9CAB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19561-8429-49D3-8712-4035E4C1C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E9ED83-8EBC-406F-9270-5F50DE6E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EA5D7-E82A-4182-8FA5-1D6C9947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A0A96-9FF2-4AF5-A830-28F33295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612FC-038E-4E49-9B94-ED83F6DE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DCE01-CD16-499F-ABE7-315A215D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793E0-E443-445C-AF98-9C5ADAFC5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64AB-DCEA-4FB4-B815-C3FA4821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DCFA6-A339-458D-933B-5B1D146DE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007CF8-5018-4349-85FF-320C29928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1C11D-949F-4852-80C3-684E743D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8F9F4-A787-485E-BC4D-3B5049B4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6EF5A-8C0C-4F20-BF29-95CC0CD04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E1794-58E8-43A7-8201-85AEBA95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E6F62-8629-4678-8019-1D2AE611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6808B-92DD-46FA-A4C1-4504F036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CA0238-5688-41C9-B956-FD39CD3C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21DAF-12C8-4059-91B0-9224938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D52B-09D3-4EF0-8AC0-9F417219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E760D2-DA59-4445-B2A5-E951A7C2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20D0D-9EE7-49D8-929B-80501304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99C8C-C41E-4426-A1A6-DB3379D9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CF909B-904A-40CB-BA17-55C45B52F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4E1C6-BF78-40E7-82A0-C345B53C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4078AA-9CDE-413D-875A-3A5EDB4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76950-F004-4B6B-9411-8B4410AD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60AF9-D4F1-4F16-8CFA-3AC1AA4C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506207-92FA-4B2D-8CFB-BBFD35E01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325338-7AB0-46E7-80A4-3329061B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462D9-FFF2-4A34-8D69-7C242B87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806BE-04FB-4706-A137-7EA39E0D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EBE4F9-9068-4A46-96AA-EFE259EB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A891C1-92CC-4C9A-9E47-B065126D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46763-6532-4A2C-9314-B8F925184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AC4E8D-DA1D-425A-B760-E9408AF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0B2F83-E15C-472D-BBA4-AA15F503D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91BEA1-35E0-4E80-8EB6-EBE155553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0E2D6-D6B0-4517-86F7-417767459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D511AC-DD44-4AE5-8296-7B7E033A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7962B-F19B-4BB8-8894-62E2130AF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CDC5-DA9E-407D-AA76-EC6BB687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6DE07F-C21D-454E-AE48-CDCDB65C3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D49BC-9270-415C-969E-D9C89EB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9A4CA-D808-4C65-A69F-9D6A3AB9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BDEC22-0112-45A1-A115-7888F38C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C9D33-E8AB-4DCD-AFC2-2812C326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771362-2F18-4A70-BCBF-CF94032A6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6FE859-8578-4C55-B9BD-5AA251A2F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BC59E0-9CB0-435A-92A4-5D168BE1A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78982A-AF2F-4AE0-A85C-D4562400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3315CD-68E3-447D-B07A-B78831A4B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B70F-FE68-44C9-B0BE-2C7D67EC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9514C-06F3-4CF9-8E55-8B461266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AACBAA-60D6-493C-8A12-B9407A28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BF8EDE-C40F-4953-B02B-1FBABE03F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DCB916-2988-477C-BC59-9556C027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1F7F19-B9BD-414A-A8D7-0DE4602A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8509C2-7473-425D-9FE9-D23740C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6D7725-E505-4836-B9FD-102D0724A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6EBBC-E611-45AB-8362-51CDADEB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D3D55E-6DD0-40F2-947A-4B62A6A6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96710-18E7-44A5-A5C1-78B8893D7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0F82-749B-4D5F-9D73-E556174A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6DC6C-448E-4220-A2AD-C2B700BE7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53DEEE-A117-496C-813E-4789EE40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F2819-BA37-4AA6-9CF4-1837CC75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9D774-343F-4FAA-9A79-DFB1D75B0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97F26-2B23-44E6-A4BC-F953B247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AD356F-DC0E-467D-B4C2-90E6BD94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10F0DB-E21F-4E16-8B1A-BCC4F2075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F37FA-DA49-433F-AD1A-99924AA83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701860-EB1C-43B1-8F0A-9C0465B1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619165-DB49-4616-BF7D-502D5D25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AB5B-3BCE-4CE5-A8E1-998B3B98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8FA140-B0EE-4D3E-BB81-E5A8C224C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91D50-CB6C-4F3B-8F71-0FCEF983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13C87-C9AA-4DE7-9E97-04AAC24F1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79E14A-0CEF-4C79-BB4F-B8B18B38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CFAC57-58B4-42E7-8C08-F5B51EC9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05C6C7-1D4B-4291-B7E4-11146EBA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404283-BE67-416A-B844-FFDEE92F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BBAFA-1F4D-4DD0-98EB-5CE08574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7B6AC9-B379-4FD8-917D-9839B293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5FAF58-101D-4F4D-A03E-6245D8EE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5BC-08DF-4D65-B223-ACFA5213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B3445D-6F22-418D-B9A2-43EC67C0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FF5A95-99C8-40F6-893B-B6A102A8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39CE8F-8CB2-4200-82AE-6FC06D609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2EC973-1648-460C-BD50-D7520BAE5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5216A3-A852-4324-82F3-DFBB415F0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8DF652-1230-4ADC-80C8-034D2104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AE475F-9BE2-4195-8CFE-97D92AAD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86C7E2-C76D-4F5D-B21B-91856312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16868F-01BC-4EFD-8CF7-308C3ADD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466F29-B44A-43CD-9D18-C748067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1E34-2369-40EA-B4C3-E26BF00D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80C2D-85BA-4FC1-8182-F097D5F9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B34322-DBC7-4FA7-B6F8-18315D2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0BF2565-BABB-4C8A-8D81-8B14A513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6C5E26-0BA4-4321-8124-F42C755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414604-3AEE-408A-8989-A2FDE6541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F96343-2027-4AD2-A2A2-F4B778B1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4058-1F31-4C11-A1E2-3DF5504B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E444-069E-4B04-A870-69C359D87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97FC-4160-4039-A778-8AF5707E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930-3949-4F01-A0AC-DB2603D5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F6645-2A0E-4EC6-A997-F90084A0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372A6-457F-425A-97DF-8AFD149E7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4E80B-4D82-43D3-A89C-F792D3E8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E4C32-9C70-4600-BAD3-E00622B53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F8120-BA8E-425F-A266-E9C0760F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5ABE-5747-4751-A9DA-A68A92050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17716-4CEB-4A51-AC04-8FF232EC0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1D42F-DA27-49D3-8B9C-0298B6C7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960C7-45F9-43BD-950E-129742C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90DD8D-3E74-454A-8D03-75D78E91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3BAF7-D137-4D63-8172-ED1599EF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B0DF0-70A6-43E0-8D91-314DF7F57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8830E-9E5E-480E-9596-DF9FF644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24E87-E1D7-4149-A325-7BC3B030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69D3A-574E-4D34-A6CB-B4B73498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1F1A4-3EA5-41D2-9113-B5BD9DAC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C1B9-E723-464D-A523-668C3983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37B5B-F90C-44CC-96EB-6012F2907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FB06-9DC5-4596-9F0B-A04E098D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E65A3-F80D-46BA-9E0F-D0D48F6A1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FC1A5-B300-4BB0-B93A-F77470B5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C595F-AE6B-4798-9192-727AFBD1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BF52C-E38D-47A5-A65D-A3C0CD0A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57451-584F-4C97-8E23-A63A8FEB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49D9C-E46B-4C38-A079-60E876AB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9870-B1C6-4748-AFF4-F6A549C9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9552-08DC-4537-B02A-D7E4E7AD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823C-9E70-4517-A583-6FFC5EC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1853B-0BA3-458F-8B02-51262A05F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09D04-8C5F-435F-AC6B-871C54BD8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E31CF-D6B5-4C8A-8312-ACED2CAA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DAA6B-1BE4-4F7A-B03D-2B70E8DF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904E9-5F5C-4484-A88E-EDD610FD8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15AA-40C0-421D-A4BF-D67BC337B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CEAB7-9734-491D-B3A0-6002FCD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0A2A6-72BC-49D1-9A67-B16BF17C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D617A-8FF3-4AF6-9615-2DB2858E9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70F5-5517-4E15-87BE-1621486CA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DDCF-0BD8-4DEC-B903-9960DAD2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9B86-19DB-4C38-B628-B1F0AE996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3F707-066E-4B05-93E1-E8D3070A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3FA18-132B-4B22-8DEA-AA5AD93A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51A2BB-E52A-45DC-85D2-C50DC7BD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8C1FE-3D61-4F0B-BE0A-E21FBAC4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6150A-AE57-4DE2-BFEE-C1447D60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2BBA89-19C9-4CFD-918D-77372C837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6A168-9828-40D2-9D38-0438781B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869A8-9748-4CF7-90AB-A5B7894C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9941F-57A4-4F7A-BD6B-73EFFBDD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BD21-6005-47E2-A7A6-6BEA7C7F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B30D1C-3A0E-4F62-88EE-F7DB2B6C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F6A6-BC34-4E86-BC8F-7C743A807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14D4-EDEB-43EA-93CD-356AEF42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F1F65-7C3D-4259-B4DF-1109693D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F61F5-1470-4315-B9BE-E5700087A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DA836B-BD10-4CB2-A0C1-9993CEF7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C7CB86-7C24-4569-879F-C1ACA81A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50357-FD61-4DCC-B1C2-A0657735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1C894-3925-4508-BB7B-B664ACC4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E9E05-61A2-48DF-A259-569EAB35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C4D4-C2DE-40BF-B387-00C38390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F28F-D5E0-4056-9399-9328BF5D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38FF3-9C47-4074-84A5-2EEE7DC2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E8BB0D-5281-4331-BD1B-8F5578B4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7F947-1E25-48C4-A6B5-EEFAA12F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2B15F-2AAB-4FDE-91CC-D1F7A1214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31F87-6680-41B7-B37E-3E95983D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397F5-2F54-454E-A847-17DC0FC1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DEAF-5202-4770-A6B9-F91852D7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1207ED-CD29-4685-9F8F-CD77441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A33C3-6B22-49B6-9F53-30A8E42F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ADF4-9C51-4B08-BD70-AE1FD3DD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F6A0-FF4D-40E6-B434-AAFADC7E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175E8-3A17-42BD-826F-7D06332F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3D18-878B-45D6-8A02-DFA339CA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5797A-F24F-4940-BC0F-D35DA2D7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C9AB6-C7F4-4DD0-ACB5-FB3CE98F6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F052C-2606-45AD-B749-440E56A18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76606C-5D60-48A3-9999-53A9EC0D0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FBF186-3632-4699-96F0-C8B61D5FE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CE536-D9E1-4DF2-972F-62D6922BA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579FCC-D6ED-4180-A069-0ED0BBED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2FC9-B058-40D7-B7EA-02D289595BF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277F-72FA-40AB-97D3-88AEC73F10D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35EB-220E-4878-9FB6-FFFDFE3A840A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542E-3CAF-4EB9-8836-95414753CF7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3319-7DCA-4C9B-A60C-4C8C54B8DCE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D279A-E2A8-4A6A-859D-D996BEE587A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3ECD-95B8-44C3-91B9-43E71E35EE1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138D-FD6D-470F-8D23-E785DED81B7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CF30-DA84-40C3-9ED9-2C70ECF58B9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29A0-21A4-472B-AB8F-16B2C510227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BF33F-BA4D-4AAB-9274-27D370A9CC6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AA10-8ECB-41DB-A702-7DABA0DB036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FB98-1851-4D68-A544-15D3F3DA3B8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F5DC-E5CB-4DB6-9CC6-95ADE5F7BDA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00F3C-D51B-4B0E-B5BE-D211F779BB9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8964-094B-4C47-9DCF-06F03548612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C568-5896-40B0-9984-09065D3A7E7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Promote product aggregation and collective marketing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Formulation of aggregations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Pre-aggregation activities-facilitate the logistical arrangement for the aggregation to take plac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400" spc="-1" strike="noStrike">
                <a:solidFill>
                  <a:srgbClr val="404040"/>
                </a:solidFill>
                <a:latin typeface="Century Gothic"/>
              </a:rPr>
              <a:t>Facilitate access to market information and marketing opportuniti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Raising awareness about markets and marketing optio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Strengthen and promote access to market information 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400" spc="-1" strike="noStrike">
                <a:solidFill>
                  <a:srgbClr val="404040"/>
                </a:solidFill>
                <a:latin typeface="Century Gothic"/>
              </a:rPr>
              <a:t>Expand market opportunities and facilitate trad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entury Gothic"/>
              </a:rPr>
              <a:t>Proposed Plans for 2017/2018 season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4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apacity building of FG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stablishments of governance structur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Business management support serv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Establish well managed seed system (with a managing entity in place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entury Gothic"/>
              </a:rPr>
              <a:t>Collaboration with Ag Diversification???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35880" indent="-3358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 txBox="1"/>
          <p:nvPr/>
        </p:nvSpPr>
        <p:spPr>
          <a:xfrm>
            <a:off x="255240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entury Gothic"/>
              </a:rPr>
              <a:t>Thanks you for your attention</a:t>
            </a:r>
            <a:endParaRPr b="0" lang="en-US" sz="4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8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79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30T07:12:10Z</dcterms:modified>
  <cp:revision>109</cp:revision>
  <dc:subject/>
  <dc:title>Slide 1</dc:title>
</cp:coreProperties>
</file>