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302F-44B3-472E-AA45-AFE3BE00D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268D-5EF0-4ED9-B03E-23F3EEE6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23A-5BD3-44C3-9EB7-5739F5298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56BB-AB52-4B5F-9ACA-DF1C66AA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8C8-65BF-4971-ABA7-0B88E899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E037-610B-4F77-9268-96ECA65F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28A-4510-47E1-9B7F-AC0F8585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5159-C6E2-402B-91B5-B4F84F04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F71-13F6-4EFE-A493-FBEA094E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2226-E0CB-42D4-A068-0C4B98BE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060-B440-4551-BC1A-9306C28B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C40-7711-48A1-AADA-FF8A376A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7ED6-546C-4804-A4DF-0C0C4210D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the Tamale, Addis Ababa and Dar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1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3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4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7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0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3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6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7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0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3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6" name="Left Brace 49"/>
            <p:cNvSpPr/>
            <p:nvPr/>
          </p:nvSpPr>
          <p:spPr>
            <a:xfrm rot="5400000">
              <a:off x="4571640" y="-53028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69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eft Bracket 58"/>
            <p:cNvSpPr/>
            <p:nvPr/>
          </p:nvSpPr>
          <p:spPr>
            <a:xfrm rot="16200000">
              <a:off x="3358800" y="4516200"/>
              <a:ext cx="409680" cy="2159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280"/>
                <a:gd name="textAreaBottom" fmla="*/ 214236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9"/>
            <p:cNvSpPr/>
            <p:nvPr/>
          </p:nvSpPr>
          <p:spPr>
            <a:xfrm rot="16200000">
              <a:off x="3646080" y="4786200"/>
              <a:ext cx="409680" cy="158436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4360"/>
                <a:gd name="textAreaBottom" fmla="*/ 156744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5"/>
                  </a:cubicBezTo>
                  <a:lnTo>
                    <a:pt x="0" y="21135"/>
                  </a:lnTo>
                  <a:cubicBezTo>
                    <a:pt x="0" y="21368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3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eft Bracket 63"/>
            <p:cNvSpPr/>
            <p:nvPr/>
          </p:nvSpPr>
          <p:spPr>
            <a:xfrm flipH="1" rot="5400000">
              <a:off x="5802120" y="4231080"/>
              <a:ext cx="409680" cy="27291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2729160"/>
                <a:gd name="textAreaBottom" fmla="*/ 2707560 h 27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042920" y="33660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bjectives (version 3.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mand-driven sustainable intensification options that are socially acceptable, economically feasible, and environmentally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nd ada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se options to address constraints and exploit opport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e their effectiveness at multiple sc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alyze ongoing sustainable farm inten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042920" y="326880"/>
            <a:ext cx="7921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utcomes (vers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n- and off-farm natural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oved connectivity to and utilization of off-farm systems (e.g., markets, inputs suppliers) that support sustainable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Up Arrow 3"/>
          <p:cNvSpPr/>
          <p:nvPr/>
        </p:nvSpPr>
        <p:spPr>
          <a:xfrm>
            <a:off x="1066680" y="2209680"/>
            <a:ext cx="2514600" cy="33530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Up Arrow 4"/>
          <p:cNvSpPr/>
          <p:nvPr/>
        </p:nvSpPr>
        <p:spPr>
          <a:xfrm>
            <a:off x="34290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Up Arrow 5"/>
          <p:cNvSpPr/>
          <p:nvPr/>
        </p:nvSpPr>
        <p:spPr>
          <a:xfrm>
            <a:off x="43434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Up Arrow 7"/>
          <p:cNvSpPr/>
          <p:nvPr/>
        </p:nvSpPr>
        <p:spPr>
          <a:xfrm>
            <a:off x="61722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752480" y="5715000"/>
            <a:ext cx="114300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657600" y="5715000"/>
            <a:ext cx="3124080" cy="60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w and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6"/>
          <p:cNvSpPr/>
          <p:nvPr/>
        </p:nvSpPr>
        <p:spPr>
          <a:xfrm>
            <a:off x="52578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9880" y="3124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com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Left Arrow 11"/>
          <p:cNvSpPr/>
          <p:nvPr/>
        </p:nvSpPr>
        <p:spPr>
          <a:xfrm flipV="1">
            <a:off x="7238880" y="1447200"/>
            <a:ext cx="1067040" cy="419076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924840 h 4190760"/>
              <a:gd name="textAreaBottom" fmla="*/ 322164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3581049"/>
                <a:lnTo>
                  <a:pt x="5400" y="21297"/>
                </a:lnTo>
                <a:lnTo>
                  <a:pt x="0" y="20226"/>
                </a:lnTo>
                <a:lnTo>
                  <a:pt x="5400" y="18548"/>
                </a:lnTo>
                <a:lnTo>
                  <a:pt x="5400" y="18773"/>
                </a:lnTo>
                <a:arcTo wR="21600" hR="9538" stAng="3581049" swAng="-3396934"/>
                <a:lnTo>
                  <a:pt x="21443" y="10688"/>
                </a:lnTo>
                <a:arcTo wR="21600" hR="9538" stAng="-184116" swAng="-5215884"/>
                <a:close/>
              </a:path>
              <a:path fill="darkenLess"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-184116"/>
                <a:lnTo>
                  <a:pt x="21443" y="10688"/>
                </a:lnTo>
                <a:arcTo wR="21600" hR="9538" stAng="-184116" swAng="-5215884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238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2057400" y="76320"/>
            <a:ext cx="4800600" cy="1218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arly’ Wins (cri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 Plans and Actions [budge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 and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80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rved Left Arrow 20"/>
          <p:cNvSpPr/>
          <p:nvPr/>
        </p:nvSpPr>
        <p:spPr>
          <a:xfrm rot="10800000">
            <a:off x="380520" y="1523520"/>
            <a:ext cx="1101960" cy="400860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878400 h 4008600"/>
              <a:gd name="textAreaBottom" fmla="*/ 3073320 h 400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3570154"/>
                <a:lnTo>
                  <a:pt x="5400" y="21299"/>
                </a:lnTo>
                <a:lnTo>
                  <a:pt x="0" y="20116"/>
                </a:lnTo>
                <a:lnTo>
                  <a:pt x="5400" y="18331"/>
                </a:lnTo>
                <a:lnTo>
                  <a:pt x="5400" y="18637"/>
                </a:lnTo>
                <a:arcTo wR="21600" hR="9469" stAng="3570154" swAng="-3381391"/>
                <a:lnTo>
                  <a:pt x="21432" y="10647"/>
                </a:lnTo>
                <a:arcTo wR="21600" hR="9469" stAng="-188762" swAng="-5211238"/>
                <a:close/>
              </a:path>
              <a:path fill="darkenLess"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-188762"/>
                <a:lnTo>
                  <a:pt x="21432" y="10647"/>
                </a:lnTo>
                <a:arcTo wR="21600" hR="9469" stAng="-188762" swAng="-5211238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Up Arrow Callout 25"/>
          <p:cNvSpPr/>
          <p:nvPr/>
        </p:nvSpPr>
        <p:spPr>
          <a:xfrm>
            <a:off x="1676520" y="1219320"/>
            <a:ext cx="5410080" cy="990360"/>
          </a:xfrm>
          <a:prstGeom prst="upArrowCallout">
            <a:avLst>
              <a:gd name="adj1" fmla="val 24989"/>
              <a:gd name="adj2" fmla="val 25012"/>
              <a:gd name="adj3" fmla="val 25000"/>
              <a:gd name="adj4" fmla="val 70041"/>
            </a:avLst>
          </a:prstGeom>
          <a:solidFill>
            <a:srgbClr val="c00000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15"/>
          <p:cNvSpPr/>
          <p:nvPr/>
        </p:nvSpPr>
        <p:spPr>
          <a:xfrm>
            <a:off x="7086600" y="0"/>
            <a:ext cx="2057400" cy="17524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teer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raf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9"/>
          <p:cNvSpPr/>
          <p:nvPr/>
        </p:nvSpPr>
        <p:spPr>
          <a:xfrm>
            <a:off x="152280" y="76320"/>
            <a:ext cx="1752840" cy="1371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6172200" y="2209680"/>
            <a:ext cx="281952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&amp;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032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5032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8"/>
          <p:cNvSpPr/>
          <p:nvPr/>
        </p:nvSpPr>
        <p:spPr>
          <a:xfrm>
            <a:off x="9907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905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905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4"/>
          <p:cNvSpPr/>
          <p:nvPr/>
        </p:nvSpPr>
        <p:spPr>
          <a:xfrm>
            <a:off x="2392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34290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34290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7"/>
          <p:cNvSpPr/>
          <p:nvPr/>
        </p:nvSpPr>
        <p:spPr>
          <a:xfrm>
            <a:off x="39164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48006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8006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30"/>
          <p:cNvSpPr/>
          <p:nvPr/>
        </p:nvSpPr>
        <p:spPr>
          <a:xfrm>
            <a:off x="52880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4648320" y="57913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3526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7"/>
          <p:cNvSpPr/>
          <p:nvPr/>
        </p:nvSpPr>
        <p:spPr>
          <a:xfrm>
            <a:off x="18288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8"/>
          <p:cNvSpPr/>
          <p:nvPr/>
        </p:nvSpPr>
        <p:spPr>
          <a:xfrm>
            <a:off x="4572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6477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7"/>
          <p:cNvSpPr/>
          <p:nvPr/>
        </p:nvSpPr>
        <p:spPr>
          <a:xfrm>
            <a:off x="6477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8"/>
          <p:cNvSpPr/>
          <p:nvPr/>
        </p:nvSpPr>
        <p:spPr>
          <a:xfrm>
            <a:off x="6964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9"/>
          <p:cNvSpPr/>
          <p:nvPr/>
        </p:nvSpPr>
        <p:spPr>
          <a:xfrm>
            <a:off x="63244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79246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4"/>
          <p:cNvSpPr/>
          <p:nvPr/>
        </p:nvSpPr>
        <p:spPr>
          <a:xfrm>
            <a:off x="79246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45"/>
          <p:cNvSpPr/>
          <p:nvPr/>
        </p:nvSpPr>
        <p:spPr>
          <a:xfrm>
            <a:off x="84121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0"/>
          <p:cNvSpPr/>
          <p:nvPr/>
        </p:nvSpPr>
        <p:spPr>
          <a:xfrm>
            <a:off x="77724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200400" y="763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200400" y="7621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on bas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14"/>
          <p:cNvSpPr/>
          <p:nvPr/>
        </p:nvSpPr>
        <p:spPr>
          <a:xfrm rot="5400000">
            <a:off x="2933280" y="1066680"/>
            <a:ext cx="342720" cy="4686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5032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5032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8"/>
          <p:cNvSpPr/>
          <p:nvPr/>
        </p:nvSpPr>
        <p:spPr>
          <a:xfrm flipH="1">
            <a:off x="998280" y="4038480"/>
            <a:ext cx="1439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1905120" y="51055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1905120" y="57150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4"/>
          <p:cNvSpPr/>
          <p:nvPr/>
        </p:nvSpPr>
        <p:spPr>
          <a:xfrm flipH="1">
            <a:off x="2400120" y="4038480"/>
            <a:ext cx="647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4290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34290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7"/>
          <p:cNvSpPr/>
          <p:nvPr/>
        </p:nvSpPr>
        <p:spPr>
          <a:xfrm>
            <a:off x="2590920" y="4038480"/>
            <a:ext cx="13334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8"/>
          <p:cNvSpPr/>
          <p:nvPr/>
        </p:nvSpPr>
        <p:spPr>
          <a:xfrm>
            <a:off x="48006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8006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3886200" y="4038480"/>
            <a:ext cx="14097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46483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2"/>
          <p:cNvSpPr/>
          <p:nvPr/>
        </p:nvSpPr>
        <p:spPr>
          <a:xfrm>
            <a:off x="33526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3"/>
          <p:cNvSpPr/>
          <p:nvPr/>
        </p:nvSpPr>
        <p:spPr>
          <a:xfrm>
            <a:off x="4572000" y="1295280"/>
            <a:ext cx="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18288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3808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6"/>
          <p:cNvSpPr/>
          <p:nvPr/>
        </p:nvSpPr>
        <p:spPr>
          <a:xfrm>
            <a:off x="64008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7"/>
          <p:cNvSpPr/>
          <p:nvPr/>
        </p:nvSpPr>
        <p:spPr>
          <a:xfrm>
            <a:off x="64008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48"/>
          <p:cNvSpPr/>
          <p:nvPr/>
        </p:nvSpPr>
        <p:spPr>
          <a:xfrm>
            <a:off x="6896160" y="4038480"/>
            <a:ext cx="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9"/>
          <p:cNvSpPr/>
          <p:nvPr/>
        </p:nvSpPr>
        <p:spPr>
          <a:xfrm>
            <a:off x="62485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79246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79246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45"/>
          <p:cNvSpPr/>
          <p:nvPr/>
        </p:nvSpPr>
        <p:spPr>
          <a:xfrm>
            <a:off x="8381880" y="4038480"/>
            <a:ext cx="381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77724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loud 55"/>
          <p:cNvSpPr/>
          <p:nvPr/>
        </p:nvSpPr>
        <p:spPr>
          <a:xfrm>
            <a:off x="380880" y="3809880"/>
            <a:ext cx="5715000" cy="762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9"/>
          <p:cNvSpPr/>
          <p:nvPr/>
        </p:nvSpPr>
        <p:spPr>
          <a:xfrm>
            <a:off x="3200400" y="14479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362320" y="152280"/>
            <a:ext cx="35812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8600" y="1295280"/>
            <a:ext cx="556272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bjectives 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04920" y="5357880"/>
            <a:ext cx="167616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09680" y="5357880"/>
            <a:ext cx="16765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114800" y="5357880"/>
            <a:ext cx="16002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st &amp; 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eft Brace 14"/>
          <p:cNvSpPr/>
          <p:nvPr/>
        </p:nvSpPr>
        <p:spPr>
          <a:xfrm rot="5400000">
            <a:off x="2933280" y="28573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6172200" y="2286000"/>
            <a:ext cx="274320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17220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28600" y="2286000"/>
            <a:ext cx="556272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utcomes 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6172200" y="12952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Management,  Coordination, M&amp;E, Co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37"/>
          <p:cNvSpPr/>
          <p:nvPr/>
        </p:nvSpPr>
        <p:spPr>
          <a:xfrm>
            <a:off x="304920" y="3352680"/>
            <a:ext cx="5410080" cy="152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-wide Research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earch design - scale – scope – boundaries – R4D – assumptions – hypotheses – intensification gradient –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9"/>
          <p:cNvSpPr/>
          <p:nvPr/>
        </p:nvSpPr>
        <p:spPr>
          <a:xfrm>
            <a:off x="2362320" y="685800"/>
            <a:ext cx="3581280" cy="4572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762012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1" descr="ftflogo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0.00833 -0.81036 E">
                                      <p:cBhvr>
                                        <p:cTn id="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224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560" y="4151880"/>
              <a:ext cx="4495680" cy="53820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8000"/>
            <a:chOff x="250920" y="981000"/>
            <a:chExt cx="8713800" cy="568800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60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400" y="3559680"/>
              <a:ext cx="567864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520" y="3141720"/>
              <a:ext cx="630720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440"/>
              <a:ext cx="352728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0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7800" y="4276800"/>
              <a:ext cx="4248000" cy="5364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2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8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440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480" y="55166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8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333360"/>
            <a:ext cx="777708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purpose (vers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Nutrition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Explicit links to drivers? – markets; population? Need a strong hypothesis; policies, land tenure im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Where the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4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8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4" y="0"/>
                </a:lnTo>
                <a:lnTo>
                  <a:pt x="21600" y="10800"/>
                </a:lnTo>
                <a:lnTo>
                  <a:pt x="18824" y="21600"/>
                </a:lnTo>
                <a:lnTo>
                  <a:pt x="0" y="21600"/>
                </a:lnTo>
                <a:lnTo>
                  <a:pt x="2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1" y="0"/>
                </a:lnTo>
                <a:lnTo>
                  <a:pt x="21600" y="10800"/>
                </a:lnTo>
                <a:lnTo>
                  <a:pt x="17051" y="21600"/>
                </a:lnTo>
                <a:lnTo>
                  <a:pt x="0" y="21600"/>
                </a:lnTo>
                <a:lnTo>
                  <a:pt x="4549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0" y="0"/>
                </a:lnTo>
                <a:lnTo>
                  <a:pt x="21600" y="10800"/>
                </a:lnTo>
                <a:lnTo>
                  <a:pt x="16850" y="21600"/>
                </a:lnTo>
                <a:lnTo>
                  <a:pt x="0" y="21600"/>
                </a:lnTo>
                <a:lnTo>
                  <a:pt x="475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8" y="0"/>
                </a:lnTo>
                <a:lnTo>
                  <a:pt x="21600" y="10800"/>
                </a:lnTo>
                <a:lnTo>
                  <a:pt x="18828" y="21600"/>
                </a:lnTo>
                <a:lnTo>
                  <a:pt x="0" y="21600"/>
                </a:lnTo>
                <a:lnTo>
                  <a:pt x="2772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5" y="0"/>
                </a:lnTo>
                <a:lnTo>
                  <a:pt x="21600" y="10800"/>
                </a:lnTo>
                <a:lnTo>
                  <a:pt x="16855" y="21600"/>
                </a:lnTo>
                <a:lnTo>
                  <a:pt x="0" y="21600"/>
                </a:lnTo>
                <a:lnTo>
                  <a:pt x="47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0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3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entagon 4"/>
            <p:cNvSpPr/>
            <p:nvPr/>
          </p:nvSpPr>
          <p:spPr>
            <a:xfrm>
              <a:off x="1619280" y="1486080"/>
              <a:ext cx="165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6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entagon 4"/>
            <p:cNvSpPr/>
            <p:nvPr/>
          </p:nvSpPr>
          <p:spPr>
            <a:xfrm>
              <a:off x="1628640" y="2392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59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entagon 4"/>
            <p:cNvSpPr/>
            <p:nvPr/>
          </p:nvSpPr>
          <p:spPr>
            <a:xfrm>
              <a:off x="1619280" y="330516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2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entagon 4"/>
            <p:cNvSpPr/>
            <p:nvPr/>
          </p:nvSpPr>
          <p:spPr>
            <a:xfrm>
              <a:off x="1619280" y="4264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5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7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8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1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4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7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0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1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4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7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1" name="Chevron 3"/>
            <p:cNvSpPr/>
            <p:nvPr/>
          </p:nvSpPr>
          <p:spPr>
            <a:xfrm>
              <a:off x="321480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hevron 5"/>
            <p:cNvSpPr/>
            <p:nvPr/>
          </p:nvSpPr>
          <p:spPr>
            <a:xfrm>
              <a:off x="5915160" y="149040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7453440" y="148896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entagon 9"/>
            <p:cNvSpPr/>
            <p:nvPr/>
          </p:nvSpPr>
          <p:spPr>
            <a:xfrm>
              <a:off x="1619280" y="149040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4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5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6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Box 10"/>
                <p:cNvSpPr/>
                <p:nvPr/>
              </p:nvSpPr>
              <p:spPr>
                <a:xfrm rot="16200000">
                  <a:off x="415188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19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8"/>
                <p:cNvSpPr/>
                <p:nvPr/>
              </p:nvSpPr>
              <p:spPr>
                <a:xfrm rot="16200000">
                  <a:off x="341064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2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Box 6"/>
                <p:cNvSpPr/>
                <p:nvPr/>
              </p:nvSpPr>
              <p:spPr>
                <a:xfrm rot="16200000">
                  <a:off x="272016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5" name="Can 35"/>
              <p:cNvSpPr/>
              <p:nvPr/>
            </p:nvSpPr>
            <p:spPr>
              <a:xfrm rot="16200000">
                <a:off x="1753920" y="2847240"/>
                <a:ext cx="417708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8" name="Left Brace 59"/>
            <p:cNvSpPr/>
            <p:nvPr/>
          </p:nvSpPr>
          <p:spPr>
            <a:xfrm rot="5400000">
              <a:off x="4571640" y="-52524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3-27T03:58:47Z</dcterms:modified>
  <cp:revision>76</cp:revision>
  <dc:subject/>
  <dc:title>Sustainable intensification of crop-livestock systems to improve food security and farm income diversification in the Ethiopian highlands</dc:title>
</cp:coreProperties>
</file>