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5575-E9B5-4E26-A20A-5EAFB5860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AFC0-1610-4626-8555-F26C5361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4FD9-5C3C-4712-A005-D14CC22C4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A5FE-809B-4271-B396-BC02B65E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8DC3-3187-492C-BD34-6E7133CF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8782-77C7-4373-B629-34698035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B5CA-3F58-4573-97DC-8F5FC10C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6AA9-F0CC-43C5-8855-07D881D0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D3A8-ABAF-4609-96CC-C74F0749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C42F-7C40-4D04-A27B-A49A573E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9FEF-7D22-478F-A6FD-3FE777E2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0292-5142-4E3B-BF06-1386E132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8D74-1A3E-4143-8DD1-C652605D1E2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ject bounda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5264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Sca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Sustainable intensificati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GB" sz="3600" spc="-1" strike="noStrike">
                <a:solidFill>
                  <a:srgbClr val="898989"/>
                </a:solidFill>
                <a:latin typeface="Calibri"/>
              </a:rPr>
              <a:t>Research –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c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99640" y="3716280"/>
            <a:ext cx="7272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Focused scale: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household/fa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Down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: household members/plot/anim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Up: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ommunity/landscape/watersh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itle 2"/>
          <p:cNvSpPr/>
          <p:nvPr/>
        </p:nvSpPr>
        <p:spPr>
          <a:xfrm>
            <a:off x="900000" y="1844640"/>
            <a:ext cx="672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Decision unit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household/far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ommunal resources/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ustainable intens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ubtitle 2"/>
          <p:cNvSpPr/>
          <p:nvPr/>
        </p:nvSpPr>
        <p:spPr>
          <a:xfrm>
            <a:off x="755640" y="1989000"/>
            <a:ext cx="77770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plot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but farm 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Biophysical &amp; socio-economic </a:t>
            </a: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drivers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included but </a:t>
            </a: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research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Diversity of households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= typ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the poorest of the poor 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(no means to test technologi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 -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2"/>
          <p:cNvSpPr/>
          <p:nvPr/>
        </p:nvSpPr>
        <p:spPr>
          <a:xfrm>
            <a:off x="755640" y="1989000"/>
            <a:ext cx="741672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research on development compon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Improve/combine current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Link: development, research &amp; poli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t a value chain project, </a:t>
            </a:r>
            <a:r>
              <a:rPr b="0" lang="en-GB" sz="3200" spc="-1" strike="noStrike">
                <a:solidFill>
                  <a:srgbClr val="7f7f7f"/>
                </a:solidFill>
                <a:latin typeface="Calibri"/>
              </a:rPr>
              <a:t>but aware of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More integration with National &amp; Regional part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 -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ubtitle 2"/>
          <p:cNvSpPr/>
          <p:nvPr/>
        </p:nvSpPr>
        <p:spPr>
          <a:xfrm>
            <a:off x="468360" y="1989000"/>
            <a:ext cx="8136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Participatory selection of basket of opportun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Farmers/communities decide which one(s) to implement (</a:t>
            </a:r>
            <a:r>
              <a:rPr b="0" i="1" lang="en-GB" sz="3000" spc="-1" strike="noStrike">
                <a:solidFill>
                  <a:srgbClr val="898989"/>
                </a:solidFill>
                <a:latin typeface="Calibri"/>
              </a:rPr>
              <a:t>understanding decision-making, co-learning</a:t>
            </a: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89898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Assessment at farm, but also down/up scales. Qualitative &amp; quantitative (difficult) analyses = process &amp; social research (M&amp;E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898989"/>
                </a:solidFill>
                <a:latin typeface="Calibri"/>
              </a:rPr>
              <a:t>Note: Time demanding proc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 -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ubtitle 2"/>
          <p:cNvSpPr/>
          <p:nvPr/>
        </p:nvSpPr>
        <p:spPr>
          <a:xfrm>
            <a:off x="463680" y="1962000"/>
            <a:ext cx="828036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pilot studies/pro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53735"/>
                </a:solidFill>
                <a:latin typeface="Calibri"/>
              </a:rPr>
              <a:t>No link with on-going projects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, but design phas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o-designing &amp; co-learning with part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Funding Institutions role on leverage this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eview of coming initiatives/project (site selec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isk of quick wins – no sustainable unless linked to strong current process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4:43:47Z</dcterms:created>
  <dc:creator>dvalbuena</dc:creator>
  <dc:description/>
  <dc:language>en-US</dc:language>
  <cp:lastModifiedBy>PBallantyne</cp:lastModifiedBy>
  <dcterms:modified xsi:type="dcterms:W3CDTF">2012-02-02T06:04:42Z</dcterms:modified>
  <cp:revision>10</cp:revision>
  <dc:subject/>
  <dc:title>Project boundaries</dc:title>
</cp:coreProperties>
</file>