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310-9646-420E-9603-1403B870B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0F0B-1245-4B42-A8A7-D3DD5751D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BD695-8E52-456D-B734-3575CBF2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CC9F-B4F3-47B7-933E-0C586EC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6A7D0-EA58-428E-93F6-B1FBDCF3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D4E3-50EC-4A28-9EF4-1D764876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4E6D-4D05-4071-B79A-24979B2D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118B-C590-41B6-B038-172D4708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BA67-64DF-415F-98E1-366830E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2DBF0-896C-4F27-83EB-3C8D499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8A7F-2595-4A66-846B-7D56BA5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79F3E-C6FA-48DC-B69E-CED5F84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1091-3542-4418-81C3-8D026D7A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FF7D-E413-4076-AAD9-8CCCCC46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99A-5D43-4FD7-8EA8-950C7BAF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795-49A4-453A-876A-0EC5A7D3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362-3BF6-4B82-AD65-DBC305E4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22B-772D-4039-B919-FB23A959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C75-145A-4740-B0BD-16060479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223-AD5D-4D6E-9710-8BE705A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050-E07C-4431-B605-EF8FD3A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DD7-6514-4E6E-A41B-933077D1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E4E-AD5B-4ACC-A11A-EF7BA57A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2C3-5667-4C00-B221-2C7C3CD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8DD-FC7B-4AB3-86E2-2B42CF3B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E5A-0C7D-4BB4-B2F5-73EA45CF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D0C3-B26F-42FF-ABC2-C3FFB0AD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6E37-F567-48BB-A458-0D5F80FC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62F9-F37E-4AAC-A8BB-7E1E4A64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53BD-1B17-494A-8544-816FDAB6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6408-7C44-4247-9E1E-00B5AEF9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223C-6333-414A-BFF6-3D8FB16B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27E3-C6CE-4D14-9A82-47D162B1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E96C-660F-499A-A785-2E0E7F3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B624-F3E2-4971-9CBC-8F4F878D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3E07-017D-4448-9264-3466616A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ECD0-10ED-475B-A466-F76E443E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1629-555C-49AE-9A07-D659437D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1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2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66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0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1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4EED-CACF-4483-9FF4-2CD5584534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0BD6-59C4-47E3-8B82-F6ACA6D77F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9673-EA49-4DC6-B2F7-3C2A59FC2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Proposal Development: 2014/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4575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M. Bekun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f2936"/>
                </a:solidFill>
                <a:latin typeface="Calibri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638680" y="220968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Calibri"/>
              </a:rPr>
              <a:t>2012 Planning meeting outputs: Integrated Research as AR’s operation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64771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23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24"/>
          <p:cNvSpPr/>
          <p:nvPr/>
        </p:nvSpPr>
        <p:spPr>
          <a:xfrm>
            <a:off x="65530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5"/>
          <p:cNvSpPr/>
          <p:nvPr/>
        </p:nvSpPr>
        <p:spPr>
          <a:xfrm>
            <a:off x="7315200" y="4572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ight Brace 27"/>
          <p:cNvSpPr/>
          <p:nvPr/>
        </p:nvSpPr>
        <p:spPr>
          <a:xfrm>
            <a:off x="8763120" y="3124080"/>
            <a:ext cx="380880" cy="15242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4240"/>
              <a:gd name="textAreaBottom" fmla="*/ 15145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Oval 29" descr=""/>
          <p:cNvPicPr/>
          <p:nvPr/>
        </p:nvPicPr>
        <p:blipFill>
          <a:blip r:embed="rId1"/>
          <a:stretch/>
        </p:blipFill>
        <p:spPr>
          <a:xfrm>
            <a:off x="-549360" y="2992320"/>
            <a:ext cx="6589800" cy="1940040"/>
          </a:xfrm>
          <a:prstGeom prst="rect">
            <a:avLst/>
          </a:prstGeom>
          <a:ln w="0">
            <a:noFill/>
          </a:ln>
        </p:spPr>
      </p:pic>
      <p:sp>
        <p:nvSpPr>
          <p:cNvPr id="581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5"/>
          <p:cNvSpPr/>
          <p:nvPr/>
        </p:nvSpPr>
        <p:spPr>
          <a:xfrm>
            <a:off x="6019920" y="553392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4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5" name="Line 25"/>
          <p:cNvSpPr/>
          <p:nvPr/>
        </p:nvSpPr>
        <p:spPr>
          <a:xfrm>
            <a:off x="6400800" y="4191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92360" y="2349360"/>
          <a:ext cx="6842160" cy="3670560"/>
        </p:xfrm>
        <a:graphic>
          <a:graphicData uri="http://schemas.openxmlformats.org/drawingml/2006/table">
            <a:tbl>
              <a:tblPr/>
              <a:tblGrid>
                <a:gridCol w="664920"/>
                <a:gridCol w="601920"/>
                <a:gridCol w="1393560"/>
                <a:gridCol w="196920"/>
                <a:gridCol w="1324080"/>
                <a:gridCol w="1330200"/>
                <a:gridCol w="1330560"/>
              </a:tblGrid>
              <a:tr h="648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oss-cutting studies (impact, markets, nutrition, gender, policy…) and actions (scaling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; C+S; 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, L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aseline, FSA, Discipline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Low hanging fruits, Team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AutoShape 1"/>
          <p:cNvSpPr/>
          <p:nvPr/>
        </p:nvSpPr>
        <p:spPr>
          <a:xfrm flipH="1">
            <a:off x="611280" y="2637000"/>
            <a:ext cx="1008000" cy="2736720"/>
          </a:xfrm>
          <a:prstGeom prst="upArrow">
            <a:avLst>
              <a:gd name="adj1" fmla="val 50000"/>
              <a:gd name="adj2" fmla="val 75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oward full 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468360" y="155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07f09"/>
                </a:solidFill>
                <a:latin typeface="Calibri"/>
              </a:rPr>
              <a:t>Conceptual progress towards sustainable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1"/>
          <p:cNvSpPr/>
          <p:nvPr/>
        </p:nvSpPr>
        <p:spPr>
          <a:xfrm>
            <a:off x="228600" y="1371600"/>
            <a:ext cx="81532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categories – Work packages (Tanz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p and crop variety divers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crops – sorghum, millet, pigeon p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ge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t and disease – Maize lethal necrosis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il fertility – fertilizers, manures, leguminous crops, multi-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llage – Tied-ridging;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estock – feed, fodders, grazing, manur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t-harvest – handling, storage and aflatox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– mechanizatio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s – cost benefit analysis, partial budget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mer adoption – voucher program ,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eam proposal develop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ification – Where you are along the impact traj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to mature the technologies (higher level integration) …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ncip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data generated expressed in context (cross cutting disciplin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 to the log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 details (activity/institutional allo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rcRect l="10763" t="12500" r="11347" b="0"/>
          <a:stretch/>
        </p:blipFill>
        <p:spPr>
          <a:xfrm>
            <a:off x="71280" y="1130400"/>
            <a:ext cx="9068040" cy="5727600"/>
          </a:xfrm>
          <a:prstGeom prst="rect">
            <a:avLst/>
          </a:prstGeom>
          <a:ln w="0">
            <a:noFill/>
          </a:ln>
        </p:spPr>
      </p:pic>
      <p:sp>
        <p:nvSpPr>
          <p:cNvPr id="594" name="Left Brace 2"/>
          <p:cNvSpPr/>
          <p:nvPr/>
        </p:nvSpPr>
        <p:spPr>
          <a:xfrm rot="3384000">
            <a:off x="2832840" y="3350520"/>
            <a:ext cx="712800" cy="2362320"/>
          </a:xfrm>
          <a:custGeom>
            <a:avLst/>
            <a:gdLst>
              <a:gd name="textAreaLeft" fmla="*/ 455400 w 712800"/>
              <a:gd name="textAreaRight" fmla="*/ 713160 w 712800"/>
              <a:gd name="textAreaTop" fmla="*/ 18360 h 2362320"/>
              <a:gd name="textAreaBottom" fmla="*/ 23439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2"/>
                  <a:pt x="10800" y="543"/>
                </a:cubicBezTo>
                <a:lnTo>
                  <a:pt x="10800" y="10466"/>
                </a:lnTo>
                <a:cubicBezTo>
                  <a:pt x="10800" y="10738"/>
                  <a:pt x="5400" y="11009"/>
                  <a:pt x="0" y="11009"/>
                </a:cubicBezTo>
                <a:cubicBezTo>
                  <a:pt x="5400" y="11009"/>
                  <a:pt x="10800" y="11281"/>
                  <a:pt x="10800" y="11552"/>
                </a:cubicBezTo>
                <a:lnTo>
                  <a:pt x="10800" y="21057"/>
                </a:lnTo>
                <a:cubicBezTo>
                  <a:pt x="10800" y="2132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1676520" y="1749600"/>
            <a:ext cx="440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 RISING Years 3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lementation with higher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earch refinement &amp; expansion (e.g., IPM, socio-economic studi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fer of research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ientific support to FtF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6" name="Straight Arrow Connector 8"/>
          <p:cNvCxnSpPr>
            <a:endCxn id="594" idx="1"/>
          </p:cNvCxnSpPr>
          <p:nvPr/>
        </p:nvCxnSpPr>
        <p:spPr>
          <a:xfrm flipH="1">
            <a:off x="2972880" y="3735360"/>
            <a:ext cx="75600" cy="511920"/>
          </a:xfrm>
          <a:prstGeom prst="straightConnector1">
            <a:avLst/>
          </a:prstGeom>
          <a:ln w="381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7:40:18Z</dcterms:created>
  <dc:creator>Bekunda</dc:creator>
  <dc:description/>
  <dc:language>en-US</dc:language>
  <cp:lastModifiedBy>Bekunda</cp:lastModifiedBy>
  <cp:lastPrinted>2011-10-06T11:45:23Z</cp:lastPrinted>
  <dcterms:modified xsi:type="dcterms:W3CDTF">2014-09-10T02:41:26Z</dcterms:modified>
  <cp:revision>5</cp:revision>
  <dc:subject/>
  <dc:title>Slide 1</dc:title>
</cp:coreProperties>
</file>