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544-0594-4627-9BC2-CF1AB8417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4B9F-F063-43CC-854D-53DBFBB7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3F79-3DC0-48EF-9C7E-DB557EED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D3D7-647E-41DB-A81C-C6C89FC8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7A3-61CF-4C22-AC60-89D8CAE3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166F-29B3-4E27-A8D4-D070CF4B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E27-F413-461D-8513-5A858165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243-3F95-4B18-85FD-E9BA29B9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749A-628C-48E2-935D-8E2394B7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197-F8A6-442F-AC9F-2DF12E3F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BBF-F08F-466A-8766-493B58F14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E5B-E4E0-4DF5-94AB-915B9E1A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636D-4778-4954-B268-6658A3F5D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76520" y="2495520"/>
            <a:ext cx="28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922560" y="493380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250920" y="5013360"/>
            <a:ext cx="244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03T11:32:36Z</dcterms:modified>
  <cp:revision>58</cp:revision>
  <dc:subject/>
  <dc:title>Slide 1</dc:title>
</cp:coreProperties>
</file>