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701640"/>
            <a:ext cx="46688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4D29-8837-4E6E-884D-E022AEFDD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2E45-B647-4D54-BE7E-6E07B8A0F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69CE-9195-4B91-BE5D-09B499776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18CD-2A16-4001-8956-CB9DEF832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B8E-47BF-4D24-806F-BEE163846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BC69-77DB-4D95-A5E1-5C52C9A44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460D-C674-44AE-9EE5-A001A6BEC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D2DA-8EA6-4F80-9750-81F489D08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7C71-3F28-4975-92E0-10820071E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41FD-AE4F-41E2-9C11-CB75C6669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D59F-BD1C-4E8C-9DD1-F6592876E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C68B-D160-41D8-A93A-7999CFFC5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3875-7F95-4E43-A6BD-4E1BAF401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C162-2EBE-45FC-A751-6A6AB8299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991C-4142-4BC0-B6BC-AB727834E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B6A2-7AB3-439F-9C2B-FA7AF6B1C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197F-8691-4987-B29A-96C3D211F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454-B320-4D32-9B61-A54C711E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DE0-D0A5-4940-B867-0329A3FE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866-8C89-44A8-9B86-83B535ED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121-D00C-498D-8CB5-CF0A99C1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AF0-C2DE-4DEB-82F8-5D52A956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84F-B3F9-41A6-A2AA-8F4FC0AF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90E-9B62-426A-A651-5ACA6119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C62-ED5F-4C90-BC3B-B4AB5B6F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322-6EF2-40D7-A777-1377B0E3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2CC-D7E5-4EDF-8101-447806B7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4A5-2DC5-4B26-8FD5-146D636D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F40-DAB9-48C1-83E9-B42C1312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D0D3-B3BD-4A4F-895C-FC814DC0FF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Theme 5: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utrition, food storage, value addition and mycotoxin management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d monthly GMP sessions held in 25 programme commun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community durbars on quarterly basis to demonstrate how to prepare enriched energy- and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nuscripts have been published in peer review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ooklet on child malnutrition in northern Ghana has also been p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line information now available on aflatoxins levels and prevalence in maize and peanut in the intervention z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ority strategies have been identified  to be incorporated into work plan of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ctivities carried out were part of a package designed to test the hypothesis that nutrition  behaviour change communication (BCC) combined with nutrition sensitive agricultural interventions will better promote the production and consumption of diverse and nutrient-rich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400 moderate to severe malnourished children aged 6-36 months were randomly assigned to one of the following trea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+ Nutrition BC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groups of intervention communities received nutrition sensitive agricultural interventions including production of nutrient-dense crops (cowpea, soybean, groundnut, vegetables) and/or rearing of small rumina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as, the comparison communities received only the agricultural interventions, the intervention communities received additional nutrition BCC through community Growth Monitoring and Promotion (GMP) and reinforced through home visits peer counsel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utcome of the trial is currently being evalu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s/Challeng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health personnel trained to support and supervise the work of community volunteers have been transferred out of the programme distri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tion households were not provided with the needed support (facilities for rearing livestock such as goats and sheep or guinea-fow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was inadequate funding for Postharvest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should be clear work plan and stability of funding should be streamlined prior to start of programs in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focus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theme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was to identify and promote the consumption of diverse, micronutrient-rich and safe foods  to improve nutritional outcomes of children, pregnant and nursing m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TA should through inter-sectoral approaches, promote and support diversified production of drought-resistant crops, including fruits &amp; vegetables, and improved breed of small ruminants and poultry at the household and communit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nhance nutrient intake of children throug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novative programme that will stimulate behaviour change towards feeding children with animal source foods (ASF foo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to effectively implement homestead food production (HFP) coupled with nutrition education to increase availability and consumption of micronutrient-rich foods (fruits and vegetables and animal source foods) in poor households may contribute to the nutritional well-being of the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en and harmonize the institutional framework for coordination and capacity to carry out Nutrition-Agriculture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ong advocate for and support integration of nutrition in agricultural programmes at the district and sub-district 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, document and disseminate findings on positive indigenous dietary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ile food composition data for major foods consumed in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proper food handling, hygiene, and sanitation through increased knowledge, use of safe water and hand-washing practices at the household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ed to upscale integrated pre-and-postharvest management strategies to reduce consumer risk i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nutrition education including demonstration on how to prepare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and counseling in optimal maternal nutrition and infant/young child feeding practices through growth monitoring and promotion (GMP) sess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monthly GMP sessions to detect children at risk of malnutrition early enough for counseling and nutrition rehabili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rained CHWs  also provi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tri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unsel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home visits to m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essages delivered included  the importance of diversifying diets, nutrition during pregnancy, early and exclusive breastfeeding, the appropriate quantity and quality of complementary foods, personal and environmental hygi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 of a baseline survey on the nutritional status and dietary practices of childr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ssessment of the dietary intake and nutritional status and household food insecurity situation of pregnant wom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valuated how the current handling operations influence  postharvest quality, losses and aflatoxin levels</a:t>
            </a: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Determined total aflatoxin levels in peanut samples from  farmer storage units and on-farm research demon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ducted participatory on-farm evaluation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peanut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enotypes for resistance to aflatoxins at 3 multi-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community health workers (CHWs), including members of women’s groups were trained in Infant and Young Child Feeding (IYCF)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weighing scales, infantometers and registers to support community GMP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21Z</dcterms:modified>
  <cp:revision>1567</cp:revision>
  <dc:subject/>
  <dc:title>Gastroenteritis at a University in Texas</dc:title>
</cp:coreProperties>
</file>