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45325" cy="9345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45200" cy="93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0960" y="0"/>
            <a:ext cx="3052800" cy="46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0160" y="701640"/>
            <a:ext cx="4668840" cy="35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0960" y="8876880"/>
            <a:ext cx="3052800" cy="466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FD1E-6A3C-4815-9098-4299D010F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870C-9B35-43C4-A038-E66018C23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09F2-1FC0-4B08-AEFA-8288C7898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30A9-697F-4468-A633-0216C3AE9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D769-AA77-4D83-9212-C1E68D106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7B4E-BAC6-4C61-9028-93A538A6E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0E00-C8FB-4571-B886-8569FE676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5378-4C15-413F-BB0B-0FC6F09F0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AC2C-FEC0-41BD-AA65-18E2452D5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6E96-E42C-4EAA-B144-0647A8BEC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5E38-D816-4CCB-A445-087315526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C6A1-00A0-4A84-9DED-A5CF1CE48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C28E-D9FD-453E-9E69-9BF166C2D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ADAC6-659F-4286-8EF9-60C74C4EB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A2A9-0843-4353-B07D-343F4925C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F494-3FFD-4E5D-963D-BC7D6B827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90520" y="701640"/>
            <a:ext cx="4668840" cy="35035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04880" y="4438440"/>
            <a:ext cx="563544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990960" y="8877240"/>
            <a:ext cx="30528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5066-882B-43C5-95D3-C20CDF583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DCB8-C51A-4710-8584-7F8AD4E8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3FD-9945-46C0-9DCE-5BE09C1C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AF98-28C5-4502-ABE9-4E207350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C450-95B4-4D28-A150-3B3073EC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E3FF-4F76-42D1-8BE6-AB152B43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4DA-4D0A-4087-A61E-D6FCD836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036-A6CB-42FA-A4AD-631A3131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C4EC-887F-4695-B973-9103F3AE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13E-F0AD-4772-8E21-AB3DAAE0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832-725A-4DFB-8816-7E740E33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DE62-0F22-4A44-ADB8-DDCD3B09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18EE-B7EB-46F1-85D0-0A2135FE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7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757E-BB51-409D-A2C7-E600F99A39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  <a:ea typeface="Tahoma"/>
              </a:rPr>
              <a:t>Theme 5: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  <a:ea typeface="Tahoma"/>
              </a:rPr>
              <a:t>Nutrition, food storage, value addition and mycotoxin management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ESENTED 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 Mahama Saaka (Ph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ool of Allied Health Sciences- Ta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ld monthly GMP sessions held in 25 programme communit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e community durbars on quarterly basis to demonstrate how to prepare enriched energy- and nutrient- rich dishes with local ingredients (cereals, legumes, eggs, and veget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manuscripts have been published in peer review journ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ooklet on child malnutrition in northern Ghana has also been produc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Baseline information now available on aflatoxins levels and prevalence in maize and peanut in the intervention zo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ority strategies have been identified  to be incorporated into work plan of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 Description of the Community Intervention Tria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ctivities carried out were part of a package designed to test the hypothesis that nutrition  behaviour change communication (BCC) combined with nutrition sensitive agricultural interventions will better promote the production and consumption of diverse and nutrient-rich foo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 Description of the Community Intervention Trial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otal of 400 moderate to severe malnourished children aged 6-36 months were randomly assigned to one of the following treatmen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umes, Vegetables and Livestock  p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umes, Vegetables and Livestock + Nutrition BCC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groups of intervention communities received nutrition sensitive agricultural interventions including production of nutrient-dense crops (cowpea, soybean, groundnut, vegetables) and/or rearing of small ruminan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as, the comparison communities received only the agricultural interventions, the intervention communities received additional nutrition BCC through community Growth Monitoring and Promotion (GMP) and reinforced through home visits peer counsell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Summary Description of the Community Intervention Trial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outcome of the trial is currently being evalua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Problems/Challeng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of the health personnel trained to support and supervise the work of community volunteers have been transferred out of the programme distric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tion households were not provided with the needed support (facilities for rearing livestock such as goats and sheep or guinea-fow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re was inadequate funding for Postharvest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3600"/>
            </a:b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re should be clear work plan and stability of funding should be streamlined prior to start of programs in Phase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he focus of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Tahoma"/>
              </a:rPr>
              <a:t>theme 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was to identify and promote the consumption of diverse, micronutrient-rich and safe foods  to improve nutritional outcomes of children, pregnant and nursing mothe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ITA should through inter-sectoral approaches, promote and support diversified production of drought-resistant crops, including fruits &amp; vegetables, and improved breed of small ruminants and poultry at the household and community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Enhance nutrient intake of children through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a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innovative programme that will stimulate behaviour change towards feeding children with animal source foods (ASF foo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to effectively implement homestead food production (HFP) coupled with nutrition education to increase availability and consumption of micronutrient-rich foods (fruits and vegetables and animal source foods) in poor households may contribute to the nutritional well-being of the popul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engthen and harmonize the institutional framework for coordination and capacity to carry out Nutrition-Agriculture interven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trong advocate for and support integration of nutrition in agricultural programmes at the district and sub-district 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, document and disseminate findings on positive indigenous dietary prac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ile food composition data for major foods consumed in Norther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proper food handling, hygiene, and sanitation through increased knowledge, use of safe water and hand-washing practices at the household lev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  <a:ea typeface="Tahoma"/>
              </a:rPr>
              <a:t>The way-forward to improve nutrition securit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  <a:ea typeface="Tahoma"/>
              </a:rPr>
              <a:t>y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Need to upscale integrated pre-and-postharvest management strategies to reduce consumer risk in Gh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OF PRES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ed nutrition education including demonstration on how to prepare nutrient- rich dishes with local ingredients (cereals, legumes, eggs, and vegetab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ing and counseling in optimal maternal nutrition and infant/young child feeding practices through growth monitoring and promotion (GMP) session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ing monthly GMP sessions to detect children at risk of malnutrition early enough for counseling and nutrition rehabilita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Trained CHWs  also provid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utrition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ounseli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home visits to m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Messages delivered included  the importance of diversifying diets, nutrition during pregnancy, early and exclusive breastfeeding, the appropriate quantity and quality of complementary foods, personal and environmental hygie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uct of a baseline survey on the nutritional status and dietary practices of children in project commun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ssessment of the dietary intake and nutritional status and household food insecurity situation of pregnant women in project communit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valuated how the current handling operations influence  postharvest quality, losses and aflatoxin levels</a:t>
            </a:r>
            <a:r>
              <a:rPr b="1" lang="en-I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ffffff"/>
                </a:solidFill>
                <a:latin typeface="Arial"/>
              </a:rPr>
              <a:t>Determined total aflatoxin levels in peanut samples from  farmer storage units and on-farm research demonstr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Activit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onducted participatory on-farm evaluation of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0 peanut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enotypes for resistance to aflatoxins at 3 multi-lo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Achievemen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00 community health workers (CHWs), including members of women’s groups were trained in Infant and Young Child Feeding (IYCF) practi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d weighing scales, infantometers and registers to support community GMP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22:30:10Z</dcterms:created>
  <dc:creator>Amy</dc:creator>
  <dc:description/>
  <dc:language>en-US</dc:language>
  <cp:lastModifiedBy>mahama Saaka</cp:lastModifiedBy>
  <dcterms:modified xsi:type="dcterms:W3CDTF">2016-12-12T11:57:21Z</dcterms:modified>
  <cp:revision>1567</cp:revision>
  <dc:subject/>
  <dc:title>Gastroenteritis at a University in Texas</dc:title>
</cp:coreProperties>
</file>