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450-7EA3-4414-81F8-64EAA222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B8C-37CC-4B03-A12D-4F55ABB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B94-C24C-41FB-91EF-A63F0010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A42-3FF7-4B6B-A5E5-BAA43354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E42-9E2E-4A44-A15C-40BCFC30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D1A-91A4-4591-9CE7-F4AFFDCD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B00-E1E6-4563-BFA2-A0D49FFF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CB2-8E17-405E-8FC0-1C85092E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384-01F4-460D-B28B-E4D68AF8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CDD-1E5A-4C6C-830C-98D3EEC5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FC1-F74D-4BA7-8F52-2DCCA03D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CF3-BD5C-459E-96D5-C140526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8F18-6951-453D-9A6F-7EDB371875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7E77-641C-40BA-8968-87231C341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0B24-F721-465E-9D8B-FC308591C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operation and Collaboration</a:t>
            </a:r>
            <a:br>
              <a:rPr sz="2800"/>
            </a:b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90D4-A5A9-4A97-863A-094AD6465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ILRI / ICARDA / ICRAF / IWMI / CIMM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EIAR, O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Addis Ababa, Bahir Dar, Arba Minch, Mekele Univers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 – Farm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Ga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7CD7-75DD-4EC8-8771-3A0DC6B62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C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Other regional research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s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AGP etc. ATA,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2877-5A78-42D6-A952-5997A5C38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46:02Z</dcterms:modified>
  <cp:revision>79</cp:revision>
  <dc:subject/>
  <dc:title>PowerPoint Presentation</dc:title>
</cp:coreProperties>
</file>