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253-D095-4131-9DFA-3CC7CF04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D746-5814-4D04-892D-25DFEBB9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1773-7F7E-4801-BB6E-4E4F0173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76D-4385-42BE-B1AD-0C047784D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7D0-135C-4AA6-BE23-68DEE0D0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EE7-7D7D-4139-9CAB-F43CEFC41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EB8-88AD-4D49-B562-A204A010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DE22-AAD6-4430-B4C7-769977B6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FCC-401A-4F7F-93BE-9A9E071A7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5103-5AE1-45E5-B22A-EFA5D617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0B0-0815-428C-ACC0-3E465332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C69-B4CD-4B69-AAC0-18A79C1F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FC50-BC51-48D3-9B64-DB9A39D0630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E346-EB26-4246-86BE-EC40F7565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EC41-244D-4409-93A2-2DA39E32B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Cooperation and Collaboration</a:t>
            </a:r>
            <a:br>
              <a:rPr sz="2800"/>
            </a:b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362320" y="58672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7543800" y="303120"/>
            <a:ext cx="1187280" cy="13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CB64-B6DF-4411-873E-E84D0C947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Quick Win Partnership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GIAR – ILRI / ICARDA / ICRAF / IWMI / CIMMY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S – EIAR, OR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a – Addis Ababa, Bahir Dar, Arba Minch, Mekele Univers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O – Farm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elopment initiatives –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Ga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A5F0-C1F6-437F-832D-A434F17CAB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GIAR – CI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ARS – Other regional research bo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ademia –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GOs –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development initiatives – AGP etc. ATA,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Partnerships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research capacity /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 re-inventing wheels or inventing new wheels with flat t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unding the research in development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portunities for sc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88DB7-E17E-40DD-A163-30E8ABB8E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6T08:46:02Z</dcterms:modified>
  <cp:revision>79</cp:revision>
  <dc:subject/>
  <dc:title>PowerPoint Presentation</dc:title>
</cp:coreProperties>
</file>