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4A140-23D4-48C9-85A7-C22EA0FA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011E5-AF5D-4524-BB6F-FD3AF6A6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97D7B6-440B-4276-9C48-669AC08D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CB36E-A494-482B-B197-11629BF2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AF653-DFA1-4741-BC69-8AC8BA2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3F9F8-7578-4C2E-9028-CCE8BBA0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31391-908B-4047-9090-982073EE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445A5-1F36-47B5-A234-2ADD4DCB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98596-896C-4D8F-AD4F-521EADC01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38F76-EEDC-40F4-A0BF-A5A65B77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0C1BA-D790-4304-9C68-58670C51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F76CA-4D28-43AC-87AB-29FA3A30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958CF-8687-44CE-9944-D806688C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BD2FD8-D007-428E-BEFE-D0388F4F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4D92C-4042-41C4-9689-0EC88C02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B9448-2AA4-42AA-8E10-6DE6E3EB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613ED-CDD4-4A65-95DE-A1354A56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03E93F-5E97-45F6-A24B-11D5DFEB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E869F-005A-4AB9-B807-F89CB23B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2739F-BB73-402D-9038-902217D35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B0A78-0545-4609-8A83-A5DFFCC1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668E5-7F47-48BF-A6D5-1140F1595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AF5A94-DC6E-4D58-9EE6-D2F1DDB8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6AA46-A5C0-4986-B668-4DC647EF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D15C1-9242-4867-9A0E-E6AC292EB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1AFDF-D91F-4150-9CF6-892E4B62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9C1B3-8C83-423F-827D-21C920C8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0C6B7-FC4C-46F4-A497-5136B15C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B51650-B205-4DC8-B869-A11939B5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6DE48-E990-4587-83BE-0F69329F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1685-09B6-41C4-AD99-23CD181E9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B0912-1416-4928-A3DC-3FCE82E7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7BABF2-EEF7-41BA-AD18-29EC7169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F1BEA3-5DB0-4AEA-9DDC-405D98B1A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6BDB-4337-4FCA-A38C-C5D31A68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CC3C4-4704-4AA5-BFBA-E0C07896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7830C-9726-4085-95A8-ABD2417F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34598-BC28-4122-AEEC-0EB3B91D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1DC64-C1F2-4302-A725-F50DCE0D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063BC7-7A14-4AE8-9D48-50B10364D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E60ABF-C300-4BE3-936D-55F68D9B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C5A-9AD7-4E7A-8D27-96EB1BFF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E0BEA6-5697-49AE-86C3-A3D4F7D0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F7AC8-1E53-4B0C-B615-0A3D878E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C2026-278F-40E9-80EF-B7362EA7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16FBFD-DA8F-4E6A-8949-28A1347B6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62229-065C-4E4A-AD1B-BBBB5C8C4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D271-6521-4F52-8FE5-18E22C40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C2C6-70F4-4093-95EA-3F5040C7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5863-0AF7-452F-BECC-4AFF080F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9690-8632-4CC4-B540-B52C069B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B596-970D-42E5-A8DA-486C9FA7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E72D-2B09-4BF0-AEA7-EBE2840F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FB57-F35E-4887-AB67-7331147B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5BFA-5906-4D9C-9257-03BCAA0A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C376-3C13-44F3-BF1D-81DC766D3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EF1-7958-482C-97A6-30AC616C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06F8-3E44-457E-AD96-7F849C16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8A75-E831-4946-84C0-BC3550B6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AB53-9E04-4B88-B3D7-0B7033FA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9CA9-DE8A-4D73-83D9-0A40AF6D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EEA6-7DD1-49F4-AAD2-808DC9A1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D2E2-62FC-4442-B08D-F76DAAAE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50B2-D574-426F-9155-E09A76E9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9766-6A04-4BD2-BD37-1ED7642D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59E1-4A0A-454C-A04C-C2039914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C10E-0D96-4178-9E81-00D2E8F0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835A-732D-4612-AD9B-8975F21A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8266A-9ECA-49D6-A4AF-5ABA693A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EA6B0-2F89-46F2-8555-400566B1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1653C-9CE7-4055-B53D-13C1B76C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C57E7-B4D8-4029-8086-EBF5A7DF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4B44C-E864-4D90-828D-800EF39E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4F0BD-D2D5-4FD8-A34D-E5206BBD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28323-B56C-435D-B634-C8E0DF4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2126-78CC-41DB-9DB5-32F11BA46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51194-6FC3-4ECA-B26C-F0E6ABC0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6228E-5A2A-480A-AA89-234D83F8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26B9E-5C04-47C7-8E33-4E459D92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2568-63E9-4A85-A79A-BD9D06BA6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9AEC0-032D-4C17-9E48-A851FA6F2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9CC8-2B7C-4905-9361-1A405F38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B4226-AF59-44BE-94D0-D6463BEB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0174-4F09-40CE-91B0-86023EFF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45B3E-9BD6-4F98-81FE-70901B35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443CD-F20A-4C91-B8D5-ECDBE8D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9A8F4-8F55-483B-8C4A-E6F3033C4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225FE-BF20-4C96-A045-42277F59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297B1-A3FB-48D0-8F3E-C658B23C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74B0D-5383-47A5-9A2F-BCAA118A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0EE5-AF8B-451A-B220-71FECC32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CF52-45D9-49EF-AB24-EBDC8158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91983-81E1-477B-A660-6DA0B0E3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1C911-ABCA-4A88-B9B6-77090D7A7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53AED-24C9-4843-A96C-D9CA1F46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DC35-9336-4C3A-ACA5-9A84F41C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549C5-14E4-4C83-A8DF-DE7161A7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B36FD-2532-4E04-B058-B8BE0F62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66F5A-17A8-4ED1-A301-0C5B0C45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DD95D0-36D1-4DA8-8BC6-852E2060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91755-01DA-43F9-BD97-1EC1E191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2FED5-04CA-4699-8A2B-7F8E6D24B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3BC2F-8AFD-48E1-928D-00B1EF0D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01889-8439-48A9-AB0F-5AFA05C3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59145-76F6-48F2-BE21-19EAB5C9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ED801-9857-48F3-A037-F10BCDB6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F6E19-53FE-43F9-A38F-498225B11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F2C02-882F-4964-847D-5F0C3241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DE3F6-0786-4FB6-A119-625A0D92E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9DAD7-0121-4E0A-8B02-89EC90E8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2CED6-5217-41D0-A49A-947A422E8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B9F3E-D205-42D5-AA93-5C35937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F6BF2-A978-4148-BD08-2B32D9A0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51D64-43D9-4C47-A9A6-2979B29B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807A7-76E1-480A-AFD0-0396EA55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B4219-EB1F-4855-9A85-E07716ED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BF904-7996-424E-99BE-A6F855033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139D97-E160-49E8-AF62-3E58AE91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D4872-6D32-425E-BBD3-D16641C4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9C8A8-4390-42E6-8BB6-AD45E665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57C0E-9040-45FF-83F3-3C9A55C8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3316C-CE34-4159-B5A0-9CEDD42B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388D2-279C-47E5-A33E-4B3CD2A3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5B430-A1C1-4B65-95E9-948183C9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6D33A-30D0-43E3-A007-28B8668D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7FC8E-FD0C-41F2-9540-7D8707A3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414E4-A78B-46C8-A6C9-6344EDD9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562DE-4D86-49EB-8486-2543BE87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5F002-8C0B-4D20-9831-B80C2195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5CBD8-160E-498B-8B35-E1B96FA2F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E35E0-281A-4C47-AE8E-8CF5BAB7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8AEBD-9894-49FD-8EB3-E53670C8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AA8B-0E96-4A49-831C-12ABD2B9317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54F1-1184-46F9-B202-8104BC1BFD3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C92A-3732-4939-B80A-B6196BE525E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B0696-E1C8-4A9B-A812-3E8C26C7F5D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381A-3A7B-491C-8824-BE04049F98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7EC71-D258-4967-868C-BC14689E721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8307-8FC4-45FC-A8BD-9124A01EA0C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4A2A-01E6-476F-BB0F-E64CB675863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DFD-A725-46AC-87B2-AB0C6DFA881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29A3-53EC-4A0C-B88B-6160C716E28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33DCE-BC35-4449-ACEC-E1BD4690EE4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3.jpeg"/><Relationship Id="rId26" Type="http://schemas.openxmlformats.org/officeDocument/2006/relationships/image" Target="../media/image14.pn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63440" y="1447920"/>
            <a:ext cx="880128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m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flatoxin mitigation to improve nutrition, safety and market competi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66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576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586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2" descr=""/>
          <p:cNvPicPr/>
          <p:nvPr/>
        </p:nvPicPr>
        <p:blipFill>
          <a:blip r:embed="rId25"/>
          <a:stretch/>
        </p:blipFill>
        <p:spPr>
          <a:xfrm>
            <a:off x="3733920" y="4157640"/>
            <a:ext cx="1676160" cy="234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5" descr=""/>
          <p:cNvPicPr/>
          <p:nvPr/>
        </p:nvPicPr>
        <p:blipFill>
          <a:blip r:embed="rId26"/>
          <a:stretch/>
        </p:blipFill>
        <p:spPr>
          <a:xfrm>
            <a:off x="5867280" y="4157640"/>
            <a:ext cx="2521080" cy="2289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6" descr=""/>
          <p:cNvPicPr/>
          <p:nvPr/>
        </p:nvPicPr>
        <p:blipFill>
          <a:blip r:embed="rId27"/>
          <a:stretch/>
        </p:blipFill>
        <p:spPr>
          <a:xfrm>
            <a:off x="316080" y="4157640"/>
            <a:ext cx="28875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195640" y="5373720"/>
          <a:ext cx="4680000" cy="979560"/>
        </p:xfrm>
        <a:graphic>
          <a:graphicData uri="http://schemas.openxmlformats.org/drawingml/2006/table">
            <a:tbl>
              <a:tblPr/>
              <a:tblGrid>
                <a:gridCol w="1704960"/>
                <a:gridCol w="1373040"/>
                <a:gridCol w="160200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ine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8" name="Rectangle 3"/>
          <p:cNvSpPr/>
          <p:nvPr/>
        </p:nvSpPr>
        <p:spPr>
          <a:xfrm>
            <a:off x="1692360" y="429264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Coefficient of correlation between Food Aflatoxin (pg/ml) and urine aflatox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68360" y="2637000"/>
          <a:ext cx="3672000" cy="1466640"/>
        </p:xfrm>
        <a:graphic>
          <a:graphicData uri="http://schemas.openxmlformats.org/drawingml/2006/table">
            <a:tbl>
              <a:tblPr/>
              <a:tblGrid>
                <a:gridCol w="1644840"/>
                <a:gridCol w="2027160"/>
              </a:tblGrid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 nutri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s % below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n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4"/>
          <p:cNvSpPr/>
          <p:nvPr/>
        </p:nvSpPr>
        <p:spPr>
          <a:xfrm>
            <a:off x="1692360" y="1628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Under nutrition status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572160" y="2284560"/>
            <a:ext cx="2481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50920" y="2565360"/>
          <a:ext cx="8605800" cy="3587760"/>
        </p:xfrm>
        <a:graphic>
          <a:graphicData uri="http://schemas.openxmlformats.org/drawingml/2006/table">
            <a:tbl>
              <a:tblPr/>
              <a:tblGrid>
                <a:gridCol w="2363760"/>
                <a:gridCol w="2361960"/>
                <a:gridCol w="1317960"/>
                <a:gridCol w="1341360"/>
                <a:gridCol w="122076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Age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56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83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90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32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755640" y="1700280"/>
            <a:ext cx="75614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mpacts of feeding trials on underweight: DID OLS Robust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684360" y="2301840"/>
          <a:ext cx="7991280" cy="3913200"/>
        </p:xfrm>
        <a:graphic>
          <a:graphicData uri="http://schemas.openxmlformats.org/drawingml/2006/table">
            <a:tbl>
              <a:tblPr/>
              <a:tblGrid>
                <a:gridCol w="2193840"/>
                <a:gridCol w="2195280"/>
                <a:gridCol w="1248120"/>
                <a:gridCol w="1247760"/>
                <a:gridCol w="1106280"/>
              </a:tblGrid>
              <a:tr h="130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Height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2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247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7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8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4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23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93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5" name="Rectangle 1"/>
          <p:cNvSpPr/>
          <p:nvPr/>
        </p:nvSpPr>
        <p:spPr>
          <a:xfrm>
            <a:off x="723240" y="1487520"/>
            <a:ext cx="81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feeding trials on wasting: DID OLS Robus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108000" y="1197000"/>
            <a:ext cx="849636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Mincho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A randomized controlled trial and difference-in-difference regression reveale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significant improvement in health outcom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within 21 days by virtue of the comprehensive training implemen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e article presented the first result on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aflatoxin assay of children’s urine in Tanzania with high correlation with aflatoxin in food ingredie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at they consu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observation of the immediate outcome will convince mothers to maintain the good practices that are affordable in the commun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rther elicitation and incorporation of local preferences and tastes would help guarantee sustainable adop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am: Core impleme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2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4221000" cy="592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E:\zReturn to desktop\ICRAF logo.png"/>
          <p:cNvPicPr/>
          <p:nvPr/>
        </p:nvPicPr>
        <p:blipFill>
          <a:blip r:embed="rId2"/>
          <a:stretch/>
        </p:blipFill>
        <p:spPr>
          <a:xfrm>
            <a:off x="457200" y="2743200"/>
            <a:ext cx="1220760" cy="990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836640" cy="82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1509480" cy="1062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P:\logos\i\iita\IITA_regular-sienna_with slogan (2).JPG"/>
          <p:cNvPicPr/>
          <p:nvPr/>
        </p:nvPicPr>
        <p:blipFill>
          <a:blip r:embed="rId6"/>
          <a:stretch/>
        </p:blipFill>
        <p:spPr>
          <a:xfrm>
            <a:off x="5715000" y="4495680"/>
            <a:ext cx="1069920" cy="536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"/>
          <p:cNvPicPr/>
          <p:nvPr/>
        </p:nvPicPr>
        <p:blipFill>
          <a:blip r:embed="rId7"/>
          <a:stretch/>
        </p:blipFill>
        <p:spPr>
          <a:xfrm>
            <a:off x="1752480" y="5791320"/>
            <a:ext cx="5848560" cy="6667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6" descr=""/>
          <p:cNvPicPr/>
          <p:nvPr/>
        </p:nvPicPr>
        <p:blipFill>
          <a:blip r:embed="rId8"/>
          <a:stretch/>
        </p:blipFill>
        <p:spPr>
          <a:xfrm>
            <a:off x="3429000" y="457200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671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675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99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609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619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8" name=""/>
          <p:cNvGraphicFramePr/>
          <p:nvPr/>
        </p:nvGraphicFramePr>
        <p:xfrm>
          <a:off x="163440" y="4346640"/>
          <a:ext cx="4919760" cy="2636640"/>
        </p:xfrm>
        <a:graphic>
          <a:graphicData uri="http://schemas.openxmlformats.org/drawingml/2006/table">
            <a:tbl>
              <a:tblPr/>
              <a:tblGrid>
                <a:gridCol w="1397160"/>
                <a:gridCol w="3522600"/>
              </a:tblGrid>
              <a:tr h="88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aflatoxigenic A.flavus in soil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t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(45/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j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(35/4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l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22/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ik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(10/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10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629" name="Picture 2" descr="C:\Users\anitha\Desktop\Af_logCFU_Dodoma_2014 (3).jpg"/>
          <p:cNvPicPr/>
          <p:nvPr/>
        </p:nvPicPr>
        <p:blipFill>
          <a:blip r:embed="rId25"/>
          <a:stretch/>
        </p:blipFill>
        <p:spPr>
          <a:xfrm>
            <a:off x="0" y="1341360"/>
            <a:ext cx="3267000" cy="2692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"/>
          <p:cNvPicPr/>
          <p:nvPr/>
        </p:nvPicPr>
        <p:blipFill>
          <a:blip r:embed="rId26"/>
          <a:stretch/>
        </p:blipFill>
        <p:spPr>
          <a:xfrm>
            <a:off x="3473280" y="1820880"/>
            <a:ext cx="2232360" cy="1824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8" descr=""/>
          <p:cNvPicPr/>
          <p:nvPr/>
        </p:nvPicPr>
        <p:blipFill>
          <a:blip r:embed="rId27"/>
          <a:stretch/>
        </p:blipFill>
        <p:spPr>
          <a:xfrm>
            <a:off x="5224320" y="3645000"/>
            <a:ext cx="3733920" cy="23619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9"/>
          <p:cNvSpPr/>
          <p:nvPr/>
        </p:nvSpPr>
        <p:spPr>
          <a:xfrm>
            <a:off x="6021360" y="2225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recovery from Bamabaran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40"/>
          <p:cNvSpPr/>
          <p:nvPr/>
        </p:nvSpPr>
        <p:spPr>
          <a:xfrm>
            <a:off x="5845320" y="608328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xigenic isolate fluorescing on coconut ag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3"/>
          <p:cNvSpPr/>
          <p:nvPr/>
        </p:nvSpPr>
        <p:spPr>
          <a:xfrm>
            <a:off x="3076560" y="946080"/>
            <a:ext cx="58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Mapping aflatoxin cont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324000" y="1446120"/>
          <a:ext cx="8132760" cy="476748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1627200"/>
                <a:gridCol w="1625760"/>
                <a:gridCol w="1627200"/>
              </a:tblGrid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eld and freshly harvested sam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TextBox 1"/>
          <p:cNvSpPr/>
          <p:nvPr/>
        </p:nvSpPr>
        <p:spPr>
          <a:xfrm>
            <a:off x="2484360" y="1052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Aflatoxin contamination in fresh and storage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1680" y="6237360"/>
            <a:ext cx="913788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. Anitha, W. Munthali, H. Msere, E. Swai, E. Sichone, A. Rathore, and P. Okori . Prevalence of aflatoxin in diverse cropping system and its management in central Tanzania. Submitted to crop protection jour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272880" y="1558800"/>
          <a:ext cx="8544240" cy="4767480"/>
        </p:xfrm>
        <a:graphic>
          <a:graphicData uri="http://schemas.openxmlformats.org/drawingml/2006/table">
            <a:tbl>
              <a:tblPr/>
              <a:tblGrid>
                <a:gridCol w="6674040"/>
                <a:gridCol w="1870200"/>
              </a:tblGrid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vey after the post-harvest  management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awareness among farmers attended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grading their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grading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rotten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plump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ason for drying the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a traditional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awareness and practice on proper drying, grading and storage of grains to reduce aflatoxin in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TextBox 2"/>
          <p:cNvSpPr/>
          <p:nvPr/>
        </p:nvSpPr>
        <p:spPr>
          <a:xfrm>
            <a:off x="270180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Impact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278136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Maize porridge is a major complementary food for children less than 1000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igeonpea produced is for tra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quality of staple grains  (aflatoxin contamination).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are exposed with mean AFM1 level of 122 pg m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uri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knowledge on importance of nutrition content in daily f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involvement of men in household activities including fee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nsive 21 days learning by doing proce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ntification of impact on underweight, wasting and stun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611280" y="177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Baseline to understand current practice on utilization of cereals and legumes followed by training (PDH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11160" y="1628640"/>
            <a:ext cx="91440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The effect of legumes cereal based complementary diet, reduced aflatoxin exposure and improved hygiene practices on wasting and underweight status of children in Central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Anitha Seeth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Yasinta Muzanil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Taku W. Tsusaka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Emmanuel S Monyo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Lizzie Kachul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 Mike Musok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and Patrick Okor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 Box 1096 Lilongwe, Malaw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Sokoine University of Agriculture (SUA), P.O Box 3000, Chuo Kikuu, Morogoro, Tanz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.Box</a:t>
            </a:r>
            <a:r>
              <a:rPr b="0" lang="en-US" sz="1200" spc="-1" strike="noStrike">
                <a:solidFill>
                  <a:srgbClr val="581d92"/>
                </a:solidFill>
                <a:latin typeface="Calibri"/>
                <a:ea typeface="MS Mincho"/>
              </a:rPr>
              <a:t>,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39063, Nairobi 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148428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At national level, stunting or chronic malnutrition was estimated as 35% of children between 0-59 months age which is though fell from 42 % between 2010 and 20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sting, stunting and underweight are the three elements of undernutrition.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</a:rPr>
              <a:t>The causes for undernutrition is multifactor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The current study focused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Dietary diversification using locally produced affordable foo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ter, sanitation and hygiene (WAS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Food safety management, specifically aflatoxin contro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539640" y="141300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Baseline Survey with anthropometry measurement, crop sample analysis and urine sample analysis for aflatox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Training – Positive deviance hearth model (CORE,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ifference-in-difference (DID) is a capable tool to estimate treatment effects by systematically comparing the pre- and post-treatment differences in the outcome between a treatment group and a control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95280" y="2349360"/>
          <a:ext cx="8424720" cy="3011760"/>
        </p:xfrm>
        <a:graphic>
          <a:graphicData uri="http://schemas.openxmlformats.org/drawingml/2006/table">
            <a:tbl>
              <a:tblPr/>
              <a:tblGrid>
                <a:gridCol w="4834080"/>
                <a:gridCol w="3590640"/>
              </a:tblGrid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, number of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sively breast fed (EB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9.1%), 87, &lt;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ary diversity score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 (1.1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dietary score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%, 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l frequency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 (0.96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meal frequency (MM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3.7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acceptable diet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4 %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Box 1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sult: Dietary diversification and  IYC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ANITHA SEETHA</cp:lastModifiedBy>
  <dcterms:modified xsi:type="dcterms:W3CDTF">2016-06-30T06:41:49Z</dcterms:modified>
  <cp:revision>2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