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172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04AB-976A-4B4F-BCEC-B6914D6D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32F3-4883-4E98-89D8-3A1DC6876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C634-858A-4AC6-B96E-E43C4AEE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0325-584D-46C2-B473-C0CD28F24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2945-F2C5-49D6-B43E-04A1D4025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EC36-8F68-4628-9819-586069495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DE66-57F2-42CE-9EE9-3621F6528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6208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410D-99EA-483A-8875-907227CBF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3C4-25A9-48DD-8CFF-A253827D4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5A2-6EDE-47A1-B6E9-ACB08076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850-62B4-4E13-A5EA-5C0405FB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5222-041E-4D8B-BCD5-33968A245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1691-6B00-45F4-BFC2-72E150D3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8E6-8736-4AC9-8B0E-72CDB6B4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5C25-4906-48C0-87F6-93E1B7928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2D50-79E3-4D26-B71B-95A45C87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5C1-13FE-49F2-9721-AFD69567D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2D41-1B26-4659-B135-E722A6D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69A7-29F5-4A79-BB11-CD1950BC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F96F-A9E6-45FA-914B-6967E63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60E-1FF7-4A43-B3AD-558CA81D4B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ahoma"/>
              </a:rPr>
              <a:t>Relationship between agricultural biodiversity and dietary diversity of children aged 6-36 months in rural areas of Northern Ghana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73915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DS, 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interaction term was statistically significant [β = -0.16 (95% CI: -0.21, -0.004, p = 0.042)] and this confirms that the relationship between production diversity and dietary diversity scores differs according to the socioeconomic status of the child’s househo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ren from households of high wealth index had mean dietary diversity score which was 0.06 standard units significantly higher than their counterparts from households of lower wealth index [β = 0.06 (95% CI: 0.04, 0.51)]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tudy provided evidence that increased agricultural biodiversity positively associated with dietary diversity of preschool children but this relationship was moderated by socioeconomic status of the child’s household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Conclusion and Recommend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therefore recommended that the Ministry of Agriculture and related organizations should take steps to train/educate rural farmers on agricultural biodiversity especially the poor 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ough a positive relationship between biodiversity and nutrition appears to be evident from a number of studies, more research is needed to better understand in which socio-ecological settings and contexts do biodiversity and nutritional and dietary outcomes relate and which factors mediate the relationship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tudy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ationale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&amp;Purpo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paper investigated whether and how biodiversity contributes to diversified diets of children and how economic factors interact with biodiversity to mediate consumption of nutrient dense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per is based on analysis of data which was collected in a base-line cross-sectional survey from 50 communities located in five districts of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y population comprised mothers/primary caregivers and their children who were selected using a two-stage cluster sampling procedur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etary diversity was derived from a semi-quantitative 24-hour food recal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crop and livestock species produced on a farm was used as the measure of production diversi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Study Design, study Population and Sampling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erarchical regression analysis was used to identify predictors and test for interact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ation analyses were used to assess whether socioeconomic status of the household mediates the link between agricultural biodiversity and dietary diversity of child’ d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Results</a:t>
            </a:r>
            <a:br>
              <a:rPr sz="36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was a positive relationship between agricultural biodiversity (variety of animals kept and plants grown for food) and the diversity of child’s di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lder children (24-36 months), high agricultural biodiversity, small household size and households of higher household wealth index were consistent predicto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trongest predictor was child’s age with a standardized beta (β) weight of 0.45, p &lt; 0.001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second highest contributor was production diversity with beta (β) weight of 0.25, p = 0.002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Resul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oeconomic status of the household did not mediate the link between agricultural biodiversity and dietary diversity of child’ diet. Rather, it interacted with agricultural biodiversity on dietary diversity of chil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53Z</dcterms:modified>
  <cp:revision>1464</cp:revision>
  <dc:subject/>
  <dc:title>Gastroenteritis at a University in Texas</dc:title>
</cp:coreProperties>
</file>