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31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30.wmf" ContentType="image/x-wmf"/>
  <Override PartName="/ppt/media/image46.jpeg" ContentType="image/jpeg"/>
  <Override PartName="/ppt/media/image48.png" ContentType="image/png"/>
  <Override PartName="/ppt/media/image32.jpeg" ContentType="image/jpeg"/>
  <Override PartName="/ppt/media/image49.wmf" ContentType="image/x-wmf"/>
  <Override PartName="/ppt/media/image51.png" ContentType="image/png"/>
  <Override PartName="/ppt/media/image50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9AE9-246C-4849-A367-45AE8ADD8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01CF-1107-45D3-851D-40A65CC5F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 of all farmers cultivate maiz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% maize, ground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% maize, paddy,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%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7044-878E-4EAE-907D-CD3218696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8EA2-90D2-4396-92BB-4C4B19C6F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F94D-A9E2-47F6-B664-47A2F6955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64E-4F37-445C-BDB6-3CA42CD1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FA5-70E7-4859-87C4-E8823F65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4EC55B-3354-452E-8415-CE149D19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4D621F-BC70-47C6-B645-EAD9EEE2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12E0F2-9503-41DC-84F6-A6060782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3BB98-B6FC-4993-B4E6-8B5BB3A1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1FF818-722D-4858-AAA5-86FD82CD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66B76F-8BC8-4213-9194-EF22E2C3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A31451-2CF5-4756-A8DE-DE18AB99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6E436A-989B-4009-B22B-5172B606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82BB14-6334-408F-8BFE-5E7A18AA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68BC96-BE26-4B2A-920C-A4038EF5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B13-F589-40BD-9122-85EF01CE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623059-E036-41E8-A2FE-5B900128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386B39-EE3D-40E5-BDC5-CC048490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338C41-74E3-464B-80DC-9C78AE2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886C9C-4000-4E0D-998F-C1054710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A099E0-7973-48BC-A606-CF18F9DD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044E52-41A5-47DB-BB80-AD06E03E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6490A1-8BF5-4D50-8F3E-096CB8AF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A787AA-C419-4BAE-8A68-06D9AD6A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581BEF-0EC7-42C9-831F-B12482B9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C589B4-53EF-45D9-8E16-0A8C9408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5DB-A917-4DC5-A0A4-83F3AD61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0D799D-B3FC-4411-B24D-7A7A823C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419648-7207-4369-A484-3C844F76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E080BA-1C07-4973-8DD3-2E36C7F4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F0E760-FF08-450E-9D5D-AF6B51F9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2F3944-3BB2-4421-B5D0-F4BD96B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988512-D9BB-4427-AE9E-F9A5314B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7F07AF-631A-4F4E-AC35-A3DB8C0A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A0A667-C553-4072-AC43-977C083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1739E8-AEF2-4744-B610-D5A16D5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1F2F21-0BFB-4681-9A01-4880E50C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2131-696B-403E-8E3E-A126339F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876156-2C16-4648-9CFC-0E6078D0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DACEF5-CA2B-449F-A214-745A866F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F9F8B5-1B77-4F47-888E-DB02F35D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BC524D-5F96-474A-98AA-D6F6B2F9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715937-64C9-4D57-AFC8-D8778219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F0B231-98EA-476E-9E9F-62A42894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6B361A-D488-4C92-8A93-3B517FD0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A7E294-8A21-43EF-8613-59111858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5DA542-FD2D-4C29-A1D9-8FB99114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DCA985-B8EF-4010-A4E7-FD9B2C91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0589-A8F5-41F9-A869-3557D953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2B62AF-64CA-41B9-8B7F-22BD6D6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747BF4-40DE-4F56-BD44-CA2A457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0ACEDA-02BC-43CC-9E53-6D47343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9ADE17-D434-4292-9CA7-86498D35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ACA307-BF12-442B-8431-1946E6D3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52029D-AB5B-4ED5-A737-C1B43DEF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8D158A-1C18-420C-ACA9-4938A2D3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7A09B8-3DC4-480F-B89A-52499794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090ADA-A3EC-4299-96C4-2D7345D0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042A60-4465-4DFA-833C-31B8576D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85D8-E7A3-4595-A233-84C7E18C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A2CD7D-16CC-4D21-968F-10E371E7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7EEBD3-06BB-42A0-B34C-A5725E5A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32B9C6-5891-4418-A65D-78016C6F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1ECA36-63E2-43F5-892A-E0ECD6B7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3EB881-8361-4321-B4EA-2FF002EE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FA0390-6066-45CC-9012-721C6FAA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807BF1-3B9A-465E-A3D3-5B44C550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C68166-DBF5-473F-B803-BFCC41AF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BFFE37-349A-4851-B6F5-BCDF5C48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8C697E-C483-41D4-9823-B538B329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4159-A805-40C3-8D00-E05600B1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B6DC65-0153-465D-BFE2-53E50DFD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FC5FD0-D2C5-4E3D-B550-C3F99EAF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947469-885A-4F4D-B2A6-7F783457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CA5EB4-F07C-45EF-8AF4-A6B3A2C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66DC7C-5474-4B03-9459-83E87ACD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3A8643-6B82-43A5-B898-22B75F6D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6F6835-0ED7-4D8B-B0F0-0BF9AA8F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04F5D7-88ED-488E-A145-34E57950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5E522A-FA63-4AE7-8746-DCCD17B4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3DC85B-199A-4E64-A0D9-37095455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9FB7-43CA-40D1-8D4F-3EF0B28D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7FA3B0-06F5-4E51-9E14-0EDD5103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D7CEF1-D9B7-448F-A2C5-6A052E34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EA060F-D392-4E42-AAE4-5047774E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EA1EE1-E552-4D7D-871B-B660C667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C23726-F0CD-4F5F-A767-45195DE8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604D05-5EB9-4D72-A8D2-3423FD85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E28A0F-CA55-47FB-900F-2E386552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5DCE90-DBCC-48AC-9D10-FCA52DEE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87F4D4-7C31-40D7-B2F3-3F5DE7AD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2D8A71-9397-4D68-A3F4-20D5ADA6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B39F-ACD6-466A-A100-BF285DE4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9E6502-13CA-4E8B-9DB4-491F01B7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CC0D21-567C-4DA0-B3F2-9B11CAE2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3948C6-EC32-4B7B-94F5-92EEB71B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8D2AA2-96E6-4B44-9986-2A728779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FC24F9-98A2-4757-99CC-F32ACA42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1DFCB1-5C06-40D0-AD6F-ADA36E91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AB4CEC-74F9-4957-8859-EA6B9E91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71F844-EB46-4441-9196-2AC61A89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7DA6C8-9CBB-428E-A390-0C653E6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4BAD01-720C-40E8-A52F-4F0EBE4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1377-9F76-4966-91DC-80C067C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7352BB-67EC-4A66-9893-6DBD2D22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652880-338C-4B4C-9472-F4160BCB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3E112B-6670-486E-82EA-75A19087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9F4886-5AB7-4AF2-95AF-699BE836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C7F8D8-C6CF-4601-98B9-A0EDE834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7CBDBF-1BB1-4E62-B34B-E3FA06D2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E9C663-687C-401C-9593-44119641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051CCA-67F7-4EFF-B8C9-EC0B6C61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E0A91C-1B13-4F1F-A51E-ED9C9AE2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28B8FE-C02F-48B7-8874-CC0ECCAE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D16-5E24-4902-824C-63B8712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6C4D-CB64-4BDB-8F5C-9BA2993A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E08D6A-C96E-4104-9596-1FDCF2A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DF1617-189A-4FE5-B745-618C6225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D51035-43BB-427A-9C9D-FC8C04C1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F55FF3-C1B8-45C4-82A7-AF0BB009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987897-CD70-4DDF-AD6B-2EB666DD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4706967-45B4-48E9-8D1B-91DC5F2C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FB943A-5A17-4AA5-A1E0-EED9A91B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8941F4-AC88-41B1-AD6D-D6317BB6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CDBCC5-6920-4680-A2A7-089258DC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666824-8D3D-4481-A730-877F47D7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DADF-CD50-4DD7-977B-34D7898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42F59F-BCC6-4BC0-88B4-290FD336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4DE070-775F-4BB1-88DA-09418A1B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092DD5-EE3E-42B2-86FB-B1904029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058D1D-C07D-4185-BC46-10A1A434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62A0ED-55A0-4F63-9F77-E619BDFD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817DA8-27D9-4AF0-85A2-AE793393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9AFDD90-2F55-45EA-B4EB-EA08F260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F87CF9-84DD-4AD3-9BA4-F6061717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75BB18-9183-4C0A-ABAD-A92D6044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AACC85-125D-4A12-8CAC-1135D208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376A-712E-44F0-8011-3DCF1228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641B17-60A8-4151-8B3B-75427DB8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64785A-8119-4194-B76D-6F9621DF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0B1FA2-5D71-45D5-B802-A41DF693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6489F2-9AAF-49EF-9535-4A0EC0F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2FECBB-FAAC-4205-B4DA-0D29E6C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990105-F1E0-4981-B1A9-9698B482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4231FC-DFFB-4DED-B797-FC380ADA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990BA5-8D28-4F52-A14A-0B0C9706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418585D-FE6B-4BDC-8662-6E755EE9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4F9-5E88-4A73-9AD0-AF121FD8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6151-AC82-48D1-BBAC-287C60B1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0FC1-1D67-475D-ACFE-A964F108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600D-4AC7-446C-B16D-F1A33321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8DD424-7064-456E-BC56-19B8B943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5526140-F4BD-4BE9-A8D5-36C96510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A0A1A6-B36F-4A11-88C4-DC6FD96A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7A67BE-66ED-426E-997B-CE655678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8E1DF6-C28C-4481-B3A7-E78DFD8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A08D-7E95-43F1-8F7B-DB2D7C84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D8AD967-66BE-4C3C-822D-51D6853B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94ADC7-2498-4D5F-B0F2-59DCD84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C5924B-EFA7-4643-A97C-DBFF04C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CDEDC25-AA92-4A89-8342-150DAC6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F50D45A-5675-47C1-96A4-A2298296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830BB1B-3A2E-4709-BCD5-BC86875B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3B2D22C-80A0-4A8C-9BD6-DD2D7977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2AFAA3D-2AB6-48C4-A78A-17B178D8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96CE49-AF4F-46D4-AF2D-9A1F8DB0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E42C514-581F-49E1-8822-2B29BC52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E13B-28AD-46CF-83B8-6E7220DA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776B211-7761-434F-BD79-3942EADE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5CC588-4F51-47C2-9939-25B58C3D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77FD0B-AFF8-42C4-9241-8B0F83AE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6B7F77-0C53-42CD-86E8-CCC304BF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E2FFFB9-3BEB-48D1-81C5-7E74170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A08AE58-3C67-40D2-BDE2-9B5423F1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47DDD62-F127-4497-99BA-4B20D895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1A5FAC6-7587-4941-AA77-37603859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1D37D61-803D-46FA-A055-23513A76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2AFEFE0-BB5D-4D14-BE19-7AB0861F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E729-94B7-422B-97C5-8909430B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30A18B4-3E78-49BF-A843-95949A4D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517E0FE-FFE8-4E44-9354-E8B5CECA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621E435-8530-431C-B7EB-A2237A70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0AEB9F2-549E-4A34-A621-3ECB1DEB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63A3486-635E-4FFC-B2CC-24F0F37B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061C31-7B9A-41F0-BACA-67226A8F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EA5883C-9449-4109-B4EA-73327266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147073A-79F1-4477-B463-B4EE34DE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1CA2A13-0368-456F-9B9E-3E0EF3BC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B270BBA-2F5E-459C-AE45-17E6AB6E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2A2-EEF4-4BAA-A168-7B487C09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A2F4-B3F2-4280-836C-F22F63A4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0D9224E-1712-4521-943F-296F0170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3CDC502-1EC5-4F5B-9DF1-3C04F4B8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134FD6-0D3C-41D2-865D-3D132907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0D6EA5D-5F2E-4A5C-B26C-46319E52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82F572-B5AA-4278-B501-6F3620E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61E9FCD-84BA-4D28-AFE3-1CF0A248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05F2A3C-EED1-439F-ACA9-68EE5EA0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3A622E5-3D57-41CD-A156-4CE13A8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53E809-E4D8-4805-9B74-13440E63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778FE74-2C8B-40C0-8075-65EF1203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6390-F84B-4EF6-9220-231EE96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3E80BDE-5F7F-4286-8F5C-21A3CD49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5B0D425-D338-45DD-8D4A-5B0BED5D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B2A415B-AB8B-43F9-BA9C-2FD03F8A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716E-A2F5-436B-9468-C0EE58BE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1F77-BCE7-41E6-9A46-AF577C67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CE3049-A97B-4F5A-AAD6-458271F4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0D800D-A216-45B8-B5FE-998ABAF1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5F65D2-4CFE-408F-802B-58EA4F2C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E872-1331-40DC-A21D-3FCDE335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CD87E5-3F78-4639-B72C-0EB3F64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C18EEA-0085-4EE4-85B7-B5FFCEF2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6C4734-4602-4D7A-8EDD-E0E73E03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46239D-A4F0-40FE-87CF-8C83C5E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4DA0E6-EC2F-41FC-AD65-1B7C2DA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A759FF-2EE2-4534-B4BC-F2AFF7F9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3DE4D6-D15F-4E5C-B1B0-5909EAD9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D82644-9317-4346-851D-6F7BA05A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25EB9C-E966-4631-9429-26AAAA61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24DA26-334F-4218-918E-8BBAC47D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8689-9816-48FF-AA02-5AFFBDEA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96ADCD-93B3-4D4C-872D-3139718E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9897B9-7F96-448A-83F8-9630D794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08E93D-D3ED-4618-B2CD-BF787B5D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C74029-F2B8-4A1F-9E41-92008497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0D9C32-1B29-49DA-8FD2-09CF16A4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07ECB7-D0E8-475E-961E-87182C4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B11062-646D-475D-AB4E-DBC87F65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619796-C1DA-456E-AF74-FF00DDDE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9FF5D1-B365-4ACA-B8B8-3333A1AB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CA658A-1760-41DB-BB0D-056D59E0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1FCF-5306-42F2-8955-8163DD5E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117255-0C71-47E5-817A-553AEE99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B20092-2F0A-4B40-9FCA-CE6EAC50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414D22-ED81-4800-837B-72FCF14E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742E24-186A-47B6-8A5E-3D332CB5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EE84E6-203C-4C2E-85CC-90E46C0D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BCBB40-169B-4ED4-B09E-AB3F4E96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71A7E3-B451-4B33-82DD-5D2437FC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ACE2C1-AAFF-460B-B8C2-3E90ECFF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C0EE16-CC33-4B54-9982-972FF85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1B4253-ACBE-4669-9E70-5CC1989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4844-52CD-4DA9-B4AB-A2909CB5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9E6DD2-F3C7-4BF2-8329-6C526172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F8F56C-3D59-4C84-8B45-91C918FF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7A47EA-C330-4A39-9C8A-91C75346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47709C-4B31-4187-933F-38B563C7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DA6516-DA9F-46A8-B41D-8D5E2AC8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3EF4F1-51EC-4171-90B9-DB9802A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5AD24C-E44B-4A08-9D4B-A98DBA9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B57728-E05D-4D32-964E-0416D9B6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C4BC43-3BD7-4ED2-AEBF-1AF7D5A6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0BEF64-9CA8-430B-8939-3D9C63D9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C6B5-D07A-4A1C-9C07-56D2505F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1B0821-18D8-4F55-9E5F-8035FA3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0AE9BD-65CA-4311-8772-D6C1419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671622-FF7B-4FB3-852F-6A800AC9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C98786-F0DE-4E25-8301-D6BF6FD3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BC1E0A-D8F5-41DF-9F45-CC246AF6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C9B6F7-527D-4423-B739-2E00C2AD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A23E69-EB56-4FC3-BF1B-6E3B0A00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67E47F-5A3E-4683-A5C6-90B6429A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442D91-129B-45B4-99DD-0C0A90C3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7A2217-8B7F-46E5-B4D8-F72C1B08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95D6-27D9-4289-9C90-0B0A3D0F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F2AC77-972A-49D7-BAB4-FA9701D2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F1E608-0F57-41A0-8059-0A4B9061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3AD736-4B0C-42AD-8F56-4417C485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C15768-FBC6-4224-A59D-9DB9145F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0411C9-4100-4749-8C6A-5F8E8739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02DDE8-4D13-4A57-A0E1-129F1BB8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096547-FE67-4212-9964-A183F57D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62224F-22C3-4BAD-8C7F-3C56803A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3B21A2-D9AE-430E-B677-D5891128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6B5304-6626-4963-84E3-11EE3891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0DB-8E1E-471D-8C84-9A08075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41B6-F882-418D-BE24-AFEF8CAF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27163A-89A9-4167-9D90-B7428B6D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C32F8B-25BA-4339-8D07-5EEB816F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071801-EF3C-447A-A309-496A0B1B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7B4AAE-2BCB-4A83-B9CF-F336ACC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D79763-DBFA-4ADF-BD5D-4F4823E1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80B465-FAE0-4BFB-9F39-5766271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E8DAB5-5EE3-431B-844D-01D95A4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6B7031-6AA0-4BF1-B5B1-25AFC5DF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0AC35D-65D9-4071-8610-DBBF2842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B8C579-257F-4FA2-9FB8-F6B19255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3D44-479F-46D0-AEF1-BDB1E838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4C09F5-019A-48C0-A291-6C6CCFBA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996CF9-6AD7-42BD-933A-925CFEBA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BA18CF-726D-4E33-86E6-A706E2D3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EF9A11-D2D6-4DAC-9CF5-9DD300F5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E21507-7AB7-4DE1-9713-3E07E1EC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979353-5208-43E2-B3F1-7368A603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78D365-C7D8-49DA-806B-8E7E9DE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664008-2A6C-4D16-8B49-4AD1510C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16E333-2A29-4265-87F9-C5DBACCE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218789-2A6C-4734-939E-135FDB51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3243-770D-4038-96C7-5B4D57B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F24D82-CD53-44F5-A825-4E1BBB25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729EA8-DE1E-45A2-B26B-762E5A8A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12E558-70F1-43C5-A814-D494FAEC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D6BCB9-7A9B-497A-912C-AED37B07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6D62E2-75CC-44EA-87EB-2F489F1F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91FBC9-3F6C-46CE-9E32-2235A3E2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4F0F1F-910E-4EC9-A5A0-45F34D77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03C6CF-45F9-4106-82EC-A1A49A6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EA1A2A-9F8E-4429-B6E3-6BD0E56E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45984E-9D56-448B-9131-C6522012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FF9D-5C4D-4DA7-A441-001627E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125CA6-A5F3-46FB-97C9-2A50DDC7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10A35B-34DC-4EBA-9B80-9783FF01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5DDEDB-6527-4BEC-AF74-B94010F2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35DB74-4FC9-4B2E-8FE7-9E7FE038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8FA2DE-FE41-4FE0-85B9-930BE63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5A5BD7-50AB-4C91-B778-C4B3622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CC02E8-C6D1-495D-82D6-121A91D7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2426EB-125D-4FC1-8398-5E8C7A1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28FE0A-13B7-4CEA-8311-892A41B8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0249E0-3120-41C9-B927-3A1A174D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D8CE-38B8-4FD3-9188-2329BAC1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0A08CF-AC30-4B9A-B6CE-41B6232E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2EA8F0-CE51-41F4-BED1-AEBC39C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5CC8AC-C129-464B-B8B1-B9D8D233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DB9A36-03EA-4B92-8B94-590775FD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244DCB-4D99-4959-8E2D-04242FD4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49CF48-9E85-48F6-A2AC-EC1328F3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0B49EC-2C44-4B74-B047-133A47EB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E0374E-4246-4C3D-8402-B70EF48A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7B9B7B-B519-497F-BE61-2B062DFC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F3C226-3145-4A22-8020-B5D4755D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5B22-E75C-4146-92B4-3FB9AA34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C0C3F9-25EA-4AC2-9416-898AFA60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EF3C0A-C93A-463F-9BA1-9E111E23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0D4967-9467-4A02-B42D-0031DAA7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E71F6E-0B26-4E4E-80FB-ACD2DB47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0F0D65-C5D5-4281-B2E0-65ACFCD0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F36965-073C-49EF-85E3-E5BA15B9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76BEAA-BA77-4276-A478-D1B448B6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D3547A-C9E4-4A43-A1E1-80F26511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4AAACA-637A-43FE-8B4A-C1ED63AB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2124B1-2751-4BFF-9FAA-0B195C4C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5AD7-412C-40C9-8BED-EAC23136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6DD20E-DBBC-4CA4-BEAF-54CBE18F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803953-03D8-40F9-B02B-552C99F3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1760D8-BD30-4EEC-BC5A-39020751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68686A-728B-4337-AE4B-8D2DB73D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51DA01-6C14-4AC9-A07C-314B748D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536262-4050-4751-92A7-17B5249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B1AA68-3302-475E-985B-90BABA5C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33779E-E392-4B47-A92D-DE02F66A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7E40E7-0066-486D-8B6F-E0D7A6F5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F36013-91AE-4254-B6CC-37E3A15D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92C6-A3B3-49D5-8D6B-40B947AD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F4C871-0743-4F2E-A902-E599783E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589AF9-6801-4A80-B505-222B8E98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1D66D6-84BE-4914-8C7F-56775421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7FE86F-00D9-48C0-8BED-95A160F4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DAE647-7F79-43AB-900D-5D70F29E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19B466-75A7-41AC-9213-69CBFE0B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622407-9A24-4926-B17C-86A0C6C0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71D711-9D72-452E-8FEB-5218B25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47DA25-EE89-4646-9C81-D7054323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E50521-EDF4-4F08-A222-2F5D5519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7BD6-E1F7-4068-9ED2-3A2961A2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ADD1CD-9DD2-441A-8847-4219A609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064747-8719-4859-BFB7-7C244510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374DCAA-64D9-40DB-8358-C806FA33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52B11F-D52A-4CAE-88A3-31043A8B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AEDBEC-35B3-453C-AB0A-6E67AE2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7A6A3F-5875-42E1-B40B-587FADFB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8AFA78-A9A2-4F6E-A8C6-54783566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F75C9B-7202-4C66-A512-E0603E9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EA25D5-B481-45A1-A01F-5DD304C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346D7C-5B81-4D18-82EB-6C5D7E8B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08B18-F9B0-4C09-BA92-A71475AA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25C843-EF5F-4B22-8FEA-FC84DB71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60EA97-CCC0-4533-BF3B-02107CA5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340909-2A75-43EE-9B38-5520C1B9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375-D976-4245-84F5-81A8C5A5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19D86-674A-4092-B27F-49862316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6254-B816-4D72-B8C8-ECE50292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C712-618B-4AAD-8AE3-20E3FAD5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28499-537E-4D9F-A357-4D5320DE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CB1D-4096-41E6-9569-2ED910D2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1973-DA85-48BE-8437-25F6D811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3102C-7C19-4BBE-ACF3-B6C5B29F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C91E-29DF-4A68-891A-59A2327D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D6FEC-1F76-4720-A833-8EC3D109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C05EF-1E95-4595-A1D6-21C57349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74E-EF99-4296-904C-D3D834A8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80951-81BB-4E61-B997-B8F9AAFD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0F3D8-6AFA-4429-AA3E-F0ED7BE8B3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45D97-A56E-45A5-B206-4A89EDD363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CC167-0F73-443D-B028-3B57234E88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7FCC6-5082-4652-8506-BB8212FE238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A991E-88A3-4AA5-B0EC-39B769A52E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3E660-3DED-4129-8548-C5925BDC9B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E27F3-E052-444B-B3D0-855552B7DF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420A7-FC24-4CF6-807C-E29252A9A7D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9D790-C810-42B5-A7B9-D32372845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FE9-AA08-45E6-A016-1712EAE1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4EFDE-A3EF-487C-9A4D-A01A521D5A4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3198E-D31E-4C15-8369-3BDA8C8893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60292-78AC-4148-84CB-C7146903AAE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23234-64B4-40EC-A839-BA89665C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3BE5C-3C3B-498D-AF7C-69230EA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CB9FF-DD3C-4D2F-8647-C2D0AE60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EC9CA-DC97-46C8-BA50-50975BBD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CE654-878B-43A3-85BB-9BD212D3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5B6CE-BEBA-49C2-9355-965EA9C9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845BF-D5E1-4F19-883C-ADDE599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E69-C6D8-417F-9201-850DACC7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B9CB8-D0D8-4F47-A39E-AFD9C331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6450B-A3FD-48A0-9C28-CD1C8B2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0A982-C271-48EA-BD15-862CA208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F2A63-A2F5-489E-AA7B-23617986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40395-BD66-42B9-B46B-D7FB0B3E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820A6-6FF0-433A-BCC3-EEB11770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31CEC-7C60-4682-996E-FFDD6315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7753C8-5C3B-4AB0-8271-AD635781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FE01E4-EA9F-4464-BC36-03B17941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B2487C-2326-4560-AEF7-FC2929B4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553-DB97-4C8C-8CBA-871BDFF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2842BF-DF66-4136-9CE4-8CAA0C5E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6C178E-5054-475C-A7AC-5CF3645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DEBF58-0376-4D09-A73E-A65C5383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406456-A76F-4591-9DA8-C268E4C3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428BF-CF9D-4185-AFA0-36AD483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FF51C0-CF6C-4B3E-97DA-42745A0B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66A29-F7DC-4BA2-A1B1-FE83FBCD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B0F76-6116-405D-B490-799DED52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0B9AF8-2C2F-4551-BA63-09492D3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3A04A-3637-4932-84C2-FC46CA56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0949-4EAF-4A5D-996F-D40EEB3F8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A8A1-1924-4521-B0D4-07A49BEF13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3FA7-76B4-4D49-8BA9-9562585E0E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EB5E-AE4C-4961-B935-19575F151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85AE-F274-459F-AB79-D7394ABD8B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FBD3-8E04-4E5E-98CC-9E926DA647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878-5831-4BA1-BEE4-452F2757B1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896B-1F95-4467-BE3D-EC8A9C5CEA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D1F5-4B14-44DB-9ED5-FC3F2A778B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5CBF-1783-436F-98C3-773E7044CB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416E-3D93-4B2F-B2F1-929E3DF6C00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B60F-90A8-4693-92E3-03E358C4F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8103-0698-4C2A-B186-0057D2D9B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5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5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0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C371-A9A6-4AE7-84BC-B7D201B2763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8358-6064-4C78-977D-D4627FE58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AB1-CA2B-43E4-9BA3-CF60A1DFD1B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635E-F2C1-47EE-BA13-16D63FB01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264-F2C4-4E17-AF18-2CE7409BDDC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3206-377A-4DD1-B7C0-327F4A3F2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CD1C-86BC-41BA-AE94-FF3DB7BBF19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6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E2F-E74E-4496-9AF9-461681C57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8424-C8F2-4817-8B68-BA9EF17062C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2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6877-7AEC-4119-8325-EA322CB388E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7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7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F060-0550-4523-AD76-0276E283E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11D0-1B60-49A9-ACF2-B8A2C3666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4DC-AC99-4368-8C80-9A728EA7603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3AF8-C53B-490F-97DB-5073BC607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D38D-91A3-4110-BAA2-0651518F33F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8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9577-B769-4352-B10D-F42AF152A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BAAF-9BAC-48D3-B6CA-83D9B3ABC6B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8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8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03EA-BB2A-4DEB-9398-65C3BFA1F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9690-543C-4FDC-99CC-AFCD128E343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8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FC93-5403-45E5-BEBB-D128C7FA8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612-9028-4AC0-BA6F-B0AFE0301A3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D933-EFD4-45D9-A0DD-7AC95BBCD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CBB3-27FE-4CCD-8406-4A1BF8421E9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9B30-DBFA-4E87-8773-6AB2058AD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736D-7BEB-4968-B075-FFAD894F1CE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9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9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42D0-4945-49FB-8E7F-658A5C3AF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06FF-DA44-489A-AAFD-20F6F2E54BB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9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9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3F36-825E-43CE-BE2D-74441DCF9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4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F71-2031-4AAC-97B9-7E0CF398DEB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CA3-4332-4C62-AC9F-8FC40A789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36B8-9090-4BB2-9501-67D16AAA9F8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F1FB-F318-4AA6-950D-8E3D4CA09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B663-5064-401F-8FBB-6CCD6A8C15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3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2A77-F00C-4BB8-8262-2BA3606BEB8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10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10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ED85-3514-422E-9BAE-EC27595DD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7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0C7C-21AB-4116-B040-50965BCE5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2D7A-D1AB-41B6-B321-59FEF819C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0C88-FA60-4921-8C9E-059123CC0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C038-FC5A-4D3B-9DD9-2DFBD7B2F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EAC9-5933-4059-ACC5-AC7F850FCA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1148-8ACB-4981-AD9D-4B76FBCB5B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wmf"/><Relationship Id="rId20" Type="http://schemas.openxmlformats.org/officeDocument/2006/relationships/image" Target="../media/image31.jpe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image" Target="../media/image36.png"/><Relationship Id="rId26" Type="http://schemas.openxmlformats.org/officeDocument/2006/relationships/slideLayout" Target="../slideLayouts/slideLayout241.xml"/><Relationship Id="rId2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wmf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Subtitle 2" descr=""/>
          <p:cNvPicPr/>
          <p:nvPr/>
        </p:nvPicPr>
        <p:blipFill>
          <a:blip r:embed="rId1"/>
          <a:stretch/>
        </p:blipFill>
        <p:spPr>
          <a:xfrm>
            <a:off x="1139760" y="3389400"/>
            <a:ext cx="6688080" cy="2103480"/>
          </a:xfrm>
          <a:prstGeom prst="rect">
            <a:avLst/>
          </a:prstGeom>
          <a:ln w="0">
            <a:noFill/>
          </a:ln>
        </p:spPr>
      </p:pic>
      <p:sp>
        <p:nvSpPr>
          <p:cNvPr id="1726" name="TextBox 4"/>
          <p:cNvSpPr/>
          <p:nvPr/>
        </p:nvSpPr>
        <p:spPr>
          <a:xfrm>
            <a:off x="304920" y="268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Sustainable intensification of maize-legume-livestock integrated farming systems in Eastern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IITA-Dar es Salaam, Tanzania, 6-9 Feb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728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17612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 Intensificatio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498600" y="1219320"/>
            <a:ext cx="8378640" cy="5511600"/>
          </a:xfrm>
          <a:prstGeom prst="rect">
            <a:avLst/>
          </a:prstGeom>
          <a:ln w="0">
            <a:noFill/>
          </a:ln>
        </p:spPr>
      </p:pic>
      <p:sp>
        <p:nvSpPr>
          <p:cNvPr id="1860" name="TextBox 2"/>
          <p:cNvSpPr/>
          <p:nvPr/>
        </p:nvSpPr>
        <p:spPr>
          <a:xfrm>
            <a:off x="290880" y="6478560"/>
            <a:ext cx="453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Agricultural Sample Enumeration 2001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-Scale Crop Enterprises (Tanzan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05800" cy="5639040"/>
          </a:xfrm>
          <a:prstGeom prst="rect">
            <a:avLst/>
          </a:prstGeom>
          <a:ln w="0">
            <a:noFill/>
          </a:ln>
        </p:spPr>
      </p:pic>
      <p:sp>
        <p:nvSpPr>
          <p:cNvPr id="1863" name="TextBox 3"/>
          <p:cNvSpPr/>
          <p:nvPr/>
        </p:nvSpPr>
        <p:spPr>
          <a:xfrm>
            <a:off x="354600" y="647856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Tanzania Agricultural Census 2007-08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ed on minimum land area allocation or 0.02ha per cro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26"/>
          <p:cNvGrpSpPr/>
          <p:nvPr/>
        </p:nvGrpSpPr>
        <p:grpSpPr>
          <a:xfrm>
            <a:off x="380880" y="2895480"/>
            <a:ext cx="3429000" cy="3447000"/>
            <a:chOff x="380880" y="2895480"/>
            <a:chExt cx="3429000" cy="3447000"/>
          </a:xfrm>
        </p:grpSpPr>
        <p:pic>
          <p:nvPicPr>
            <p:cNvPr id="1865" name="Picture 17" descr="Objective3_Walsh_Page_10_Image_0001.jpg"/>
            <p:cNvPicPr/>
            <p:nvPr/>
          </p:nvPicPr>
          <p:blipFill>
            <a:blip r:embed="rId1"/>
            <a:stretch/>
          </p:blipFill>
          <p:spPr>
            <a:xfrm>
              <a:off x="380880" y="2895480"/>
              <a:ext cx="1773360" cy="18288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6" name="TextBox 22"/>
            <p:cNvSpPr/>
            <p:nvPr/>
          </p:nvSpPr>
          <p:spPr>
            <a:xfrm>
              <a:off x="456840" y="594360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33"/>
          <p:cNvGrpSpPr/>
          <p:nvPr/>
        </p:nvGrpSpPr>
        <p:grpSpPr>
          <a:xfrm>
            <a:off x="379440" y="3124080"/>
            <a:ext cx="3352680" cy="3218400"/>
            <a:chOff x="379440" y="3124080"/>
            <a:chExt cx="3352680" cy="3218400"/>
          </a:xfrm>
        </p:grpSpPr>
        <p:pic>
          <p:nvPicPr>
            <p:cNvPr id="1868" name="Picture 18" descr="Objective3_Walsh_Page_10_Image_0003.jpg"/>
            <p:cNvPicPr/>
            <p:nvPr/>
          </p:nvPicPr>
          <p:blipFill>
            <a:blip r:embed="rId2"/>
            <a:stretch/>
          </p:blipFill>
          <p:spPr>
            <a:xfrm>
              <a:off x="469080" y="3124080"/>
              <a:ext cx="1752480" cy="1820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9" name="TextBox 32"/>
            <p:cNvSpPr/>
            <p:nvPr/>
          </p:nvSpPr>
          <p:spPr>
            <a:xfrm>
              <a:off x="37944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lope, aspect, drain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35"/>
          <p:cNvGrpSpPr/>
          <p:nvPr/>
        </p:nvGrpSpPr>
        <p:grpSpPr>
          <a:xfrm>
            <a:off x="345960" y="3352680"/>
            <a:ext cx="3353040" cy="2980440"/>
            <a:chOff x="345960" y="3352680"/>
            <a:chExt cx="3353040" cy="2980440"/>
          </a:xfrm>
        </p:grpSpPr>
        <p:pic>
          <p:nvPicPr>
            <p:cNvPr id="1871" name="Picture 12" descr="point_thresholds_all.jpg"/>
            <p:cNvPicPr/>
            <p:nvPr/>
          </p:nvPicPr>
          <p:blipFill>
            <a:blip r:embed="rId3"/>
            <a:stretch/>
          </p:blipFill>
          <p:spPr>
            <a:xfrm>
              <a:off x="556560" y="3352680"/>
              <a:ext cx="1752840" cy="18302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72" name="TextBox 34"/>
            <p:cNvSpPr/>
            <p:nvPr/>
          </p:nvSpPr>
          <p:spPr>
            <a:xfrm>
              <a:off x="345960" y="593424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ettlements, ports, 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Group 37"/>
          <p:cNvGrpSpPr/>
          <p:nvPr/>
        </p:nvGrpSpPr>
        <p:grpSpPr>
          <a:xfrm>
            <a:off x="250920" y="3505320"/>
            <a:ext cx="3352680" cy="2837160"/>
            <a:chOff x="250920" y="3505320"/>
            <a:chExt cx="3352680" cy="2837160"/>
          </a:xfrm>
        </p:grpSpPr>
        <p:pic>
          <p:nvPicPr>
            <p:cNvPr id="1874" name="Picture 6" descr=""/>
            <p:cNvPicPr/>
            <p:nvPr/>
          </p:nvPicPr>
          <p:blipFill>
            <a:blip r:embed="rId4"/>
            <a:stretch/>
          </p:blipFill>
          <p:spPr>
            <a:xfrm>
              <a:off x="631800" y="3505320"/>
              <a:ext cx="18478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TextBox 36"/>
            <p:cNvSpPr/>
            <p:nvPr/>
          </p:nvSpPr>
          <p:spPr>
            <a:xfrm>
              <a:off x="25092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oad, rail, river, ICT 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Group 48"/>
          <p:cNvGrpSpPr/>
          <p:nvPr/>
        </p:nvGrpSpPr>
        <p:grpSpPr>
          <a:xfrm>
            <a:off x="222120" y="3733920"/>
            <a:ext cx="3276720" cy="2608560"/>
            <a:chOff x="222120" y="3733920"/>
            <a:chExt cx="3276720" cy="2608560"/>
          </a:xfrm>
        </p:grpSpPr>
        <p:grpSp>
          <p:nvGrpSpPr>
            <p:cNvPr id="1877" name="Group 45"/>
            <p:cNvGrpSpPr/>
            <p:nvPr/>
          </p:nvGrpSpPr>
          <p:grpSpPr>
            <a:xfrm>
              <a:off x="771840" y="3733920"/>
              <a:ext cx="1828800" cy="1828800"/>
              <a:chOff x="771840" y="3733920"/>
              <a:chExt cx="1828800" cy="1828800"/>
            </a:xfrm>
          </p:grpSpPr>
          <p:pic>
            <p:nvPicPr>
              <p:cNvPr id="187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" y="3733920"/>
                <a:ext cx="1828800" cy="182880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879" name="Rectangle 35"/>
              <p:cNvSpPr/>
              <p:nvPr/>
            </p:nvSpPr>
            <p:spPr>
              <a:xfrm>
                <a:off x="923400" y="48006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TextBox 46"/>
            <p:cNvSpPr/>
            <p:nvPr/>
          </p:nvSpPr>
          <p:spPr>
            <a:xfrm>
              <a:off x="222120" y="5943600"/>
              <a:ext cx="3276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rke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80800" y="22032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nger, Poverty &amp; Productiv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atial Covariates/Proxies &amp; Analytical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2" name="Group 50"/>
          <p:cNvGrpSpPr/>
          <p:nvPr/>
        </p:nvGrpSpPr>
        <p:grpSpPr>
          <a:xfrm>
            <a:off x="176040" y="3886200"/>
            <a:ext cx="3657600" cy="2456280"/>
            <a:chOff x="176040" y="3886200"/>
            <a:chExt cx="3657600" cy="2456280"/>
          </a:xfrm>
        </p:grpSpPr>
        <p:sp>
          <p:nvSpPr>
            <p:cNvPr id="1883" name="TextBox 49"/>
            <p:cNvSpPr/>
            <p:nvPr/>
          </p:nvSpPr>
          <p:spPr>
            <a:xfrm>
              <a:off x="176040" y="5943600"/>
              <a:ext cx="3657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or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Picture 42" descr="Ports&amp;Markestheds.jpg"/>
            <p:cNvPicPr/>
            <p:nvPr/>
          </p:nvPicPr>
          <p:blipFill>
            <a:blip r:embed="rId6"/>
            <a:stretch/>
          </p:blipFill>
          <p:spPr>
            <a:xfrm>
              <a:off x="901440" y="3886200"/>
              <a:ext cx="1841040" cy="18428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</p:grpSp>
      <p:sp>
        <p:nvSpPr>
          <p:cNvPr id="1885" name="TextBox 51"/>
          <p:cNvSpPr/>
          <p:nvPr/>
        </p:nvSpPr>
        <p:spPr>
          <a:xfrm>
            <a:off x="330120" y="1484280"/>
            <a:ext cx="21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rrain, Demograp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rastructure, Admin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52"/>
          <p:cNvSpPr/>
          <p:nvPr/>
        </p:nvSpPr>
        <p:spPr>
          <a:xfrm>
            <a:off x="2324160" y="160020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53"/>
          <p:cNvSpPr/>
          <p:nvPr/>
        </p:nvSpPr>
        <p:spPr>
          <a:xfrm>
            <a:off x="4240080" y="1600200"/>
            <a:ext cx="21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s &amp;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Box 54"/>
          <p:cNvSpPr/>
          <p:nvPr/>
        </p:nvSpPr>
        <p:spPr>
          <a:xfrm>
            <a:off x="6019920" y="167652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ven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Group 33"/>
          <p:cNvGrpSpPr/>
          <p:nvPr/>
        </p:nvGrpSpPr>
        <p:grpSpPr>
          <a:xfrm>
            <a:off x="0" y="2895480"/>
            <a:ext cx="4800600" cy="3447000"/>
            <a:chOff x="0" y="2895480"/>
            <a:chExt cx="4800600" cy="3447000"/>
          </a:xfrm>
        </p:grpSpPr>
        <p:pic>
          <p:nvPicPr>
            <p:cNvPr id="1890" name="Picture 30" descr="annex2_acz.jpg"/>
            <p:cNvPicPr/>
            <p:nvPr/>
          </p:nvPicPr>
          <p:blipFill>
            <a:blip r:embed="rId7"/>
            <a:stretch/>
          </p:blipFill>
          <p:spPr>
            <a:xfrm>
              <a:off x="2514600" y="2895480"/>
              <a:ext cx="190512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1" name="TextBox 31"/>
            <p:cNvSpPr/>
            <p:nvPr/>
          </p:nvSpPr>
          <p:spPr>
            <a:xfrm>
              <a:off x="0" y="5943600"/>
              <a:ext cx="480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groecological Z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Group 44"/>
          <p:cNvGrpSpPr/>
          <p:nvPr/>
        </p:nvGrpSpPr>
        <p:grpSpPr>
          <a:xfrm>
            <a:off x="2311560" y="3048120"/>
            <a:ext cx="2971800" cy="3264120"/>
            <a:chOff x="2311560" y="3048120"/>
            <a:chExt cx="2971800" cy="3264120"/>
          </a:xfrm>
        </p:grpSpPr>
        <p:grpSp>
          <p:nvGrpSpPr>
            <p:cNvPr id="1893" name="Group 42"/>
            <p:cNvGrpSpPr/>
            <p:nvPr/>
          </p:nvGrpSpPr>
          <p:grpSpPr>
            <a:xfrm>
              <a:off x="2616120" y="3048120"/>
              <a:ext cx="1828800" cy="1869480"/>
              <a:chOff x="2616120" y="3048120"/>
              <a:chExt cx="1828800" cy="1869480"/>
            </a:xfrm>
          </p:grpSpPr>
          <p:pic>
            <p:nvPicPr>
              <p:cNvPr id="1894" name="Picture 40" descr="annex2_agext.jpg"/>
              <p:cNvPicPr/>
              <p:nvPr/>
            </p:nvPicPr>
            <p:blipFill>
              <a:blip r:embed="rId8"/>
              <a:stretch/>
            </p:blipFill>
            <p:spPr>
              <a:xfrm>
                <a:off x="2616120" y="3048120"/>
                <a:ext cx="1828800" cy="1869480"/>
              </a:xfrm>
              <a:prstGeom prst="rect">
                <a:avLst/>
              </a:prstGeom>
              <a:ln w="22320">
                <a:solidFill>
                  <a:srgbClr val="385d8a"/>
                </a:solidFill>
                <a:miter/>
              </a:ln>
            </p:spPr>
          </p:pic>
          <p:pic>
            <p:nvPicPr>
              <p:cNvPr id="1895" name="Picture 41" descr="annex2_agext.jpg"/>
              <p:cNvPicPr/>
              <p:nvPr/>
            </p:nvPicPr>
            <p:blipFill>
              <a:blip r:embed="rId9"/>
              <a:stretch/>
            </p:blipFill>
            <p:spPr>
              <a:xfrm>
                <a:off x="2624760" y="4101480"/>
                <a:ext cx="68580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6" name="TextBox 43"/>
            <p:cNvSpPr/>
            <p:nvPr/>
          </p:nvSpPr>
          <p:spPr>
            <a:xfrm>
              <a:off x="2311560" y="5943960"/>
              <a:ext cx="297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 extent &amp; int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Group 60"/>
          <p:cNvGrpSpPr/>
          <p:nvPr/>
        </p:nvGrpSpPr>
        <p:grpSpPr>
          <a:xfrm>
            <a:off x="2072160" y="3200400"/>
            <a:ext cx="3658320" cy="3111840"/>
            <a:chOff x="2072160" y="3200400"/>
            <a:chExt cx="3658320" cy="3111840"/>
          </a:xfrm>
        </p:grpSpPr>
        <p:pic>
          <p:nvPicPr>
            <p:cNvPr id="1898" name="Picture 13" descr="cpartellus-africa-gis-high res-trimmed"/>
            <p:cNvPicPr/>
            <p:nvPr/>
          </p:nvPicPr>
          <p:blipFill>
            <a:blip r:embed="rId10"/>
            <a:stretch/>
          </p:blipFill>
          <p:spPr>
            <a:xfrm>
              <a:off x="2716920" y="3200400"/>
              <a:ext cx="1910160" cy="199512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9" name="TextBox 59"/>
            <p:cNvSpPr/>
            <p:nvPr/>
          </p:nvSpPr>
          <p:spPr>
            <a:xfrm>
              <a:off x="2072160" y="5943960"/>
              <a:ext cx="365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ests &amp; Diseases (Maize Stem Bor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Group 63"/>
          <p:cNvGrpSpPr/>
          <p:nvPr/>
        </p:nvGrpSpPr>
        <p:grpSpPr>
          <a:xfrm>
            <a:off x="2057400" y="3340080"/>
            <a:ext cx="3657600" cy="2972160"/>
            <a:chOff x="2057400" y="3340080"/>
            <a:chExt cx="3657600" cy="2972160"/>
          </a:xfrm>
        </p:grpSpPr>
        <p:pic>
          <p:nvPicPr>
            <p:cNvPr id="1901" name="Picture 7" descr=""/>
            <p:cNvPicPr/>
            <p:nvPr/>
          </p:nvPicPr>
          <p:blipFill>
            <a:blip r:embed="rId11"/>
            <a:stretch/>
          </p:blipFill>
          <p:spPr>
            <a:xfrm>
              <a:off x="2806560" y="3340080"/>
              <a:ext cx="19609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TextBox 62"/>
            <p:cNvSpPr/>
            <p:nvPr/>
          </p:nvSpPr>
          <p:spPr>
            <a:xfrm>
              <a:off x="2057400" y="5943960"/>
              <a:ext cx="365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ought Incidence &amp; Seve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Group 66"/>
          <p:cNvGrpSpPr/>
          <p:nvPr/>
        </p:nvGrpSpPr>
        <p:grpSpPr>
          <a:xfrm>
            <a:off x="2093760" y="3479760"/>
            <a:ext cx="3429000" cy="2832480"/>
            <a:chOff x="2093760" y="3479760"/>
            <a:chExt cx="3429000" cy="2832480"/>
          </a:xfrm>
        </p:grpSpPr>
        <p:pic>
          <p:nvPicPr>
            <p:cNvPr id="1904" name="Picture 15" descr=""/>
            <p:cNvPicPr/>
            <p:nvPr/>
          </p:nvPicPr>
          <p:blipFill>
            <a:blip r:embed="rId12"/>
            <a:stretch/>
          </p:blipFill>
          <p:spPr>
            <a:xfrm>
              <a:off x="2932920" y="3479760"/>
              <a:ext cx="1905120" cy="20584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05" name="TextBox 65"/>
            <p:cNvSpPr/>
            <p:nvPr/>
          </p:nvSpPr>
          <p:spPr>
            <a:xfrm>
              <a:off x="2093760" y="594396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Group 84"/>
          <p:cNvGrpSpPr/>
          <p:nvPr/>
        </p:nvGrpSpPr>
        <p:grpSpPr>
          <a:xfrm>
            <a:off x="-304920" y="4013280"/>
            <a:ext cx="3357360" cy="2387520"/>
            <a:chOff x="-304920" y="4013280"/>
            <a:chExt cx="3357360" cy="2387520"/>
          </a:xfrm>
        </p:grpSpPr>
        <p:grpSp>
          <p:nvGrpSpPr>
            <p:cNvPr id="1907" name="Group 82"/>
            <p:cNvGrpSpPr/>
            <p:nvPr/>
          </p:nvGrpSpPr>
          <p:grpSpPr>
            <a:xfrm>
              <a:off x="918000" y="4013280"/>
              <a:ext cx="2134440" cy="2298600"/>
              <a:chOff x="918000" y="4013280"/>
              <a:chExt cx="2134440" cy="2298600"/>
            </a:xfrm>
          </p:grpSpPr>
          <p:pic>
            <p:nvPicPr>
              <p:cNvPr id="1908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3320" y="4013280"/>
                <a:ext cx="1905480" cy="181188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09" name="TextBox 81"/>
              <p:cNvSpPr/>
              <p:nvPr/>
            </p:nvSpPr>
            <p:spPr>
              <a:xfrm>
                <a:off x="918000" y="5943600"/>
                <a:ext cx="2134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dministrative Un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83"/>
            <p:cNvSpPr/>
            <p:nvPr/>
          </p:nvSpPr>
          <p:spPr>
            <a:xfrm>
              <a:off x="-304920" y="5943600"/>
              <a:ext cx="121932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73"/>
          <p:cNvGrpSpPr/>
          <p:nvPr/>
        </p:nvGrpSpPr>
        <p:grpSpPr>
          <a:xfrm>
            <a:off x="2422440" y="2882880"/>
            <a:ext cx="4191120" cy="3429360"/>
            <a:chOff x="2422440" y="2882880"/>
            <a:chExt cx="4191120" cy="3429360"/>
          </a:xfrm>
        </p:grpSpPr>
        <p:pic>
          <p:nvPicPr>
            <p:cNvPr id="1912" name="Picture 67" descr="SSA_en.jpg"/>
            <p:cNvPicPr/>
            <p:nvPr/>
          </p:nvPicPr>
          <p:blipFill>
            <a:blip r:embed="rId14"/>
            <a:stretch/>
          </p:blipFill>
          <p:spPr>
            <a:xfrm>
              <a:off x="4521600" y="2882880"/>
              <a:ext cx="1930680" cy="20574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3" name="TextBox 68"/>
            <p:cNvSpPr/>
            <p:nvPr/>
          </p:nvSpPr>
          <p:spPr>
            <a:xfrm>
              <a:off x="2422440" y="5943960"/>
              <a:ext cx="4191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arming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74"/>
          <p:cNvGrpSpPr/>
          <p:nvPr/>
        </p:nvGrpSpPr>
        <p:grpSpPr>
          <a:xfrm>
            <a:off x="4164120" y="3009960"/>
            <a:ext cx="3352680" cy="3339360"/>
            <a:chOff x="4164120" y="3009960"/>
            <a:chExt cx="3352680" cy="3339360"/>
          </a:xfrm>
        </p:grpSpPr>
        <p:pic>
          <p:nvPicPr>
            <p:cNvPr id="1915" name="Picture 3" descr=""/>
            <p:cNvPicPr/>
            <p:nvPr/>
          </p:nvPicPr>
          <p:blipFill>
            <a:blip r:embed="rId15"/>
            <a:stretch/>
          </p:blipFill>
          <p:spPr>
            <a:xfrm>
              <a:off x="4659120" y="3009960"/>
              <a:ext cx="1905120" cy="2057400"/>
            </a:xfrm>
            <a:prstGeom prst="rect">
              <a:avLst/>
            </a:prstGeom>
            <a:ln w="22320">
              <a:solidFill>
                <a:srgbClr val="385d8a"/>
              </a:solidFill>
              <a:miter/>
            </a:ln>
          </p:spPr>
        </p:pic>
        <p:sp>
          <p:nvSpPr>
            <p:cNvPr id="1916" name="TextBox 71"/>
            <p:cNvSpPr/>
            <p:nvPr/>
          </p:nvSpPr>
          <p:spPr>
            <a:xfrm>
              <a:off x="4164120" y="59810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Suitability: Rainfed W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78"/>
          <p:cNvGrpSpPr/>
          <p:nvPr/>
        </p:nvGrpSpPr>
        <p:grpSpPr>
          <a:xfrm>
            <a:off x="3963960" y="2921040"/>
            <a:ext cx="3367080" cy="3402720"/>
            <a:chOff x="3963960" y="2921040"/>
            <a:chExt cx="3367080" cy="3402720"/>
          </a:xfrm>
        </p:grpSpPr>
        <p:pic>
          <p:nvPicPr>
            <p:cNvPr id="1918" name="Picture 3" descr="cropmap_pulse3"/>
            <p:cNvPicPr/>
            <p:nvPr/>
          </p:nvPicPr>
          <p:blipFill>
            <a:blip r:embed="rId16"/>
            <a:stretch/>
          </p:blipFill>
          <p:spPr>
            <a:xfrm>
              <a:off x="3963960" y="2921040"/>
              <a:ext cx="2762640" cy="2666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9" name="TextBox 77"/>
            <p:cNvSpPr/>
            <p:nvPr/>
          </p:nvSpPr>
          <p:spPr>
            <a:xfrm>
              <a:off x="4053960" y="5955480"/>
              <a:ext cx="327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Distribution &amp; Yiel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79"/>
          <p:cNvGrpSpPr/>
          <p:nvPr/>
        </p:nvGrpSpPr>
        <p:grpSpPr>
          <a:xfrm>
            <a:off x="3732480" y="3125880"/>
            <a:ext cx="3696480" cy="3186720"/>
            <a:chOff x="3732480" y="3125880"/>
            <a:chExt cx="3696480" cy="3186720"/>
          </a:xfrm>
        </p:grpSpPr>
        <p:pic>
          <p:nvPicPr>
            <p:cNvPr id="1921" name="Content Placeholder 4" descr="val_of_prod_pcap_v2.jpg"/>
            <p:cNvPicPr/>
            <p:nvPr/>
          </p:nvPicPr>
          <p:blipFill>
            <a:blip r:embed="rId17"/>
            <a:stretch/>
          </p:blipFill>
          <p:spPr>
            <a:xfrm>
              <a:off x="4668120" y="3125880"/>
              <a:ext cx="190512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pic>
          <p:nvPicPr>
            <p:cNvPr id="1922" name="Content Placeholder 4" descr="val_of_prod_pcap_v2.jpg"/>
            <p:cNvPicPr/>
            <p:nvPr/>
          </p:nvPicPr>
          <p:blipFill>
            <a:blip r:embed="rId18"/>
            <a:stretch/>
          </p:blipFill>
          <p:spPr>
            <a:xfrm>
              <a:off x="4757040" y="3214800"/>
              <a:ext cx="205776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sp>
          <p:nvSpPr>
            <p:cNvPr id="1923" name="TextBox 76"/>
            <p:cNvSpPr/>
            <p:nvPr/>
          </p:nvSpPr>
          <p:spPr>
            <a:xfrm>
              <a:off x="3732480" y="5944320"/>
              <a:ext cx="369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lue of Production per Rural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Group 87"/>
          <p:cNvGrpSpPr/>
          <p:nvPr/>
        </p:nvGrpSpPr>
        <p:grpSpPr>
          <a:xfrm>
            <a:off x="1881360" y="2895480"/>
            <a:ext cx="7030800" cy="3416760"/>
            <a:chOff x="1881360" y="2895480"/>
            <a:chExt cx="7030800" cy="3416760"/>
          </a:xfrm>
        </p:grpSpPr>
        <p:pic>
          <p:nvPicPr>
            <p:cNvPr id="1925" name="Picture 2" descr=""/>
            <p:cNvPicPr/>
            <p:nvPr/>
          </p:nvPicPr>
          <p:blipFill>
            <a:blip r:embed="rId19"/>
            <a:stretch/>
          </p:blipFill>
          <p:spPr>
            <a:xfrm>
              <a:off x="5484600" y="2895480"/>
              <a:ext cx="3049920" cy="24390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26" name="TextBox 86"/>
            <p:cNvSpPr/>
            <p:nvPr/>
          </p:nvSpPr>
          <p:spPr>
            <a:xfrm>
              <a:off x="1881360" y="5943960"/>
              <a:ext cx="7030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ield Responses to Inputs, Management, 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7" name="Group 93"/>
          <p:cNvGrpSpPr/>
          <p:nvPr/>
        </p:nvGrpSpPr>
        <p:grpSpPr>
          <a:xfrm>
            <a:off x="3276720" y="2895480"/>
            <a:ext cx="6368760" cy="3505320"/>
            <a:chOff x="3276720" y="2895480"/>
            <a:chExt cx="6368760" cy="3505320"/>
          </a:xfrm>
        </p:grpSpPr>
        <p:grpSp>
          <p:nvGrpSpPr>
            <p:cNvPr id="1928" name="Group 91"/>
            <p:cNvGrpSpPr/>
            <p:nvPr/>
          </p:nvGrpSpPr>
          <p:grpSpPr>
            <a:xfrm>
              <a:off x="4464360" y="2895480"/>
              <a:ext cx="5181120" cy="3416400"/>
              <a:chOff x="4464360" y="2895480"/>
              <a:chExt cx="5181120" cy="3416400"/>
            </a:xfrm>
          </p:grpSpPr>
          <p:pic>
            <p:nvPicPr>
              <p:cNvPr id="1929" name="Picture 88" descr="rev_diff1.jpg"/>
              <p:cNvPicPr/>
              <p:nvPr/>
            </p:nvPicPr>
            <p:blipFill>
              <a:blip r:embed="rId20"/>
              <a:stretch/>
            </p:blipFill>
            <p:spPr>
              <a:xfrm>
                <a:off x="6247800" y="2895480"/>
                <a:ext cx="1780920" cy="175284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pic>
            <p:nvPicPr>
              <p:cNvPr id="1930" name="Picture 89" descr="rev_diff1.jpg"/>
              <p:cNvPicPr/>
              <p:nvPr/>
            </p:nvPicPr>
            <p:blipFill>
              <a:blip r:embed="rId21"/>
              <a:stretch/>
            </p:blipFill>
            <p:spPr>
              <a:xfrm>
                <a:off x="6324120" y="2971440"/>
                <a:ext cx="1935720" cy="190512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31" name="TextBox 90"/>
              <p:cNvSpPr/>
              <p:nvPr/>
            </p:nvSpPr>
            <p:spPr>
              <a:xfrm>
                <a:off x="4464360" y="5943600"/>
                <a:ext cx="5181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Profitability of small scale irrig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Rectangle 92"/>
            <p:cNvSpPr/>
            <p:nvPr/>
          </p:nvSpPr>
          <p:spPr>
            <a:xfrm>
              <a:off x="3276720" y="5867640"/>
              <a:ext cx="20574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Group 97"/>
          <p:cNvGrpSpPr/>
          <p:nvPr/>
        </p:nvGrpSpPr>
        <p:grpSpPr>
          <a:xfrm>
            <a:off x="5186520" y="3086280"/>
            <a:ext cx="4343400" cy="3226320"/>
            <a:chOff x="5186520" y="3086280"/>
            <a:chExt cx="4343400" cy="3226320"/>
          </a:xfrm>
        </p:grpSpPr>
        <p:pic>
          <p:nvPicPr>
            <p:cNvPr id="1934" name="Picture 94" descr="con_nutmap_wood.jpg"/>
            <p:cNvPicPr/>
            <p:nvPr/>
          </p:nvPicPr>
          <p:blipFill>
            <a:blip r:embed="rId22"/>
            <a:stretch/>
          </p:blipFill>
          <p:spPr>
            <a:xfrm>
              <a:off x="6437880" y="3086280"/>
              <a:ext cx="198108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35" name="TextBox 96"/>
            <p:cNvSpPr/>
            <p:nvPr/>
          </p:nvSpPr>
          <p:spPr>
            <a:xfrm>
              <a:off x="5186520" y="594432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uantity of Nutrients Remo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Group 100"/>
          <p:cNvGrpSpPr/>
          <p:nvPr/>
        </p:nvGrpSpPr>
        <p:grpSpPr>
          <a:xfrm>
            <a:off x="5638680" y="3198960"/>
            <a:ext cx="3722760" cy="3116880"/>
            <a:chOff x="5638680" y="3198960"/>
            <a:chExt cx="3722760" cy="3116880"/>
          </a:xfrm>
        </p:grpSpPr>
        <p:pic>
          <p:nvPicPr>
            <p:cNvPr id="1937" name="Picture 4" descr="E:\stan\ssa\kept_cities\results3\maize pixel price.jpg"/>
            <p:cNvPicPr/>
            <p:nvPr/>
          </p:nvPicPr>
          <p:blipFill>
            <a:blip r:embed="rId23"/>
            <a:stretch/>
          </p:blipFill>
          <p:spPr>
            <a:xfrm>
              <a:off x="6546960" y="3198960"/>
              <a:ext cx="195696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8" name="TextBox 99"/>
            <p:cNvSpPr/>
            <p:nvPr/>
          </p:nvSpPr>
          <p:spPr>
            <a:xfrm>
              <a:off x="5638680" y="5947560"/>
              <a:ext cx="372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ertilizer 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Group 103"/>
          <p:cNvGrpSpPr/>
          <p:nvPr/>
        </p:nvGrpSpPr>
        <p:grpSpPr>
          <a:xfrm>
            <a:off x="6004080" y="2695680"/>
            <a:ext cx="3202920" cy="3616920"/>
            <a:chOff x="6004080" y="2695680"/>
            <a:chExt cx="3202920" cy="3616920"/>
          </a:xfrm>
        </p:grpSpPr>
        <p:pic>
          <p:nvPicPr>
            <p:cNvPr id="1940" name="Picture 101" descr="uganda_6.jpg"/>
            <p:cNvPicPr/>
            <p:nvPr/>
          </p:nvPicPr>
          <p:blipFill>
            <a:blip r:embed="rId24"/>
            <a:stretch/>
          </p:blipFill>
          <p:spPr>
            <a:xfrm>
              <a:off x="6335640" y="2695680"/>
              <a:ext cx="2374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1" name="TextBox 102"/>
            <p:cNvSpPr/>
            <p:nvPr/>
          </p:nvSpPr>
          <p:spPr>
            <a:xfrm>
              <a:off x="6004080" y="5944320"/>
              <a:ext cx="32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stribution of Welfare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Group 105"/>
          <p:cNvGrpSpPr/>
          <p:nvPr/>
        </p:nvGrpSpPr>
        <p:grpSpPr>
          <a:xfrm>
            <a:off x="5334120" y="1636560"/>
            <a:ext cx="4286160" cy="4675680"/>
            <a:chOff x="5334120" y="1636560"/>
            <a:chExt cx="4286160" cy="4675680"/>
          </a:xfrm>
        </p:grpSpPr>
        <p:grpSp>
          <p:nvGrpSpPr>
            <p:cNvPr id="1943" name="Group 57"/>
            <p:cNvGrpSpPr/>
            <p:nvPr/>
          </p:nvGrpSpPr>
          <p:grpSpPr>
            <a:xfrm>
              <a:off x="7363800" y="1636560"/>
              <a:ext cx="2256480" cy="3545280"/>
              <a:chOff x="7363800" y="1636560"/>
              <a:chExt cx="2256480" cy="3545280"/>
            </a:xfrm>
          </p:grpSpPr>
          <p:sp>
            <p:nvSpPr>
              <p:cNvPr id="1944" name="TextBox 55"/>
              <p:cNvSpPr/>
              <p:nvPr/>
            </p:nvSpPr>
            <p:spPr>
              <a:xfrm>
                <a:off x="7515000" y="163656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inkage 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ac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5" name="Picture 2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63800" y="3276720"/>
                <a:ext cx="1780200" cy="1905120"/>
              </a:xfrm>
              <a:prstGeom prst="rect">
                <a:avLst/>
              </a:prstGeom>
              <a:ln w="9360">
                <a:solidFill>
                  <a:srgbClr val="385d8a"/>
                </a:solidFill>
                <a:miter/>
              </a:ln>
            </p:spPr>
          </p:pic>
        </p:grpSp>
        <p:sp>
          <p:nvSpPr>
            <p:cNvPr id="1946" name="TextBox 104"/>
            <p:cNvSpPr/>
            <p:nvPr/>
          </p:nvSpPr>
          <p:spPr>
            <a:xfrm>
              <a:off x="5334120" y="5943960"/>
              <a:ext cx="380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ggregate to F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TextBox 84"/>
          <p:cNvSpPr/>
          <p:nvPr/>
        </p:nvSpPr>
        <p:spPr>
          <a:xfrm>
            <a:off x="240840" y="655020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HarvestChoice/IFPR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1" descr="wheat high input suitability aez 2009.jpg"/>
          <p:cNvPicPr/>
          <p:nvPr/>
        </p:nvPicPr>
        <p:blipFill>
          <a:blip r:embed="rId1"/>
          <a:stretch/>
        </p:blipFill>
        <p:spPr>
          <a:xfrm>
            <a:off x="1243080" y="146160"/>
            <a:ext cx="3146400" cy="31939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949" name="TextBox 8"/>
          <p:cNvSpPr/>
          <p:nvPr/>
        </p:nvSpPr>
        <p:spPr>
          <a:xfrm rot="16200000">
            <a:off x="-3244680" y="3244680"/>
            <a:ext cx="6858000" cy="368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9"/>
          <p:cNvSpPr/>
          <p:nvPr/>
        </p:nvSpPr>
        <p:spPr>
          <a:xfrm rot="16200000">
            <a:off x="-934920" y="1293480"/>
            <a:ext cx="2968920" cy="368280"/>
          </a:xfrm>
          <a:prstGeom prst="rect">
            <a:avLst/>
          </a:prstGeom>
          <a:solidFill>
            <a:srgbClr val="9a9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Agro-climatic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53"/>
          <p:cNvGrpSpPr/>
          <p:nvPr/>
        </p:nvGrpSpPr>
        <p:grpSpPr>
          <a:xfrm>
            <a:off x="5783400" y="1293840"/>
            <a:ext cx="3433680" cy="2340000"/>
            <a:chOff x="5783400" y="1293840"/>
            <a:chExt cx="3433680" cy="2340000"/>
          </a:xfrm>
        </p:grpSpPr>
        <p:pic>
          <p:nvPicPr>
            <p:cNvPr id="1952" name="Content Placeholder 14" descr="t28.tif"/>
            <p:cNvPicPr/>
            <p:nvPr/>
          </p:nvPicPr>
          <p:blipFill>
            <a:blip r:embed="rId2"/>
            <a:stretch/>
          </p:blipFill>
          <p:spPr>
            <a:xfrm>
              <a:off x="6828480" y="1293840"/>
              <a:ext cx="23886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Right Arrow 15"/>
            <p:cNvSpPr/>
            <p:nvPr/>
          </p:nvSpPr>
          <p:spPr>
            <a:xfrm rot="1899600">
              <a:off x="7097760" y="1969920"/>
              <a:ext cx="504720" cy="380880"/>
            </a:xfrm>
            <a:prstGeom prst="rightArrow">
              <a:avLst>
                <a:gd name="adj1" fmla="val 50000"/>
                <a:gd name="adj2" fmla="val 4999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2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Box 17"/>
            <p:cNvSpPr/>
            <p:nvPr/>
          </p:nvSpPr>
          <p:spPr>
            <a:xfrm>
              <a:off x="5783400" y="2705040"/>
              <a:ext cx="97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Recommen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Group 55"/>
          <p:cNvGrpSpPr/>
          <p:nvPr/>
        </p:nvGrpSpPr>
        <p:grpSpPr>
          <a:xfrm>
            <a:off x="4537080" y="10800"/>
            <a:ext cx="4167360" cy="2949480"/>
            <a:chOff x="4537080" y="10800"/>
            <a:chExt cx="4167360" cy="2949480"/>
          </a:xfrm>
        </p:grpSpPr>
        <p:sp>
          <p:nvSpPr>
            <p:cNvPr id="1956" name="TextBox 16"/>
            <p:cNvSpPr/>
            <p:nvPr/>
          </p:nvSpPr>
          <p:spPr>
            <a:xfrm>
              <a:off x="5169960" y="19224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7" name="Group 54"/>
            <p:cNvGrpSpPr/>
            <p:nvPr/>
          </p:nvGrpSpPr>
          <p:grpSpPr>
            <a:xfrm>
              <a:off x="4537080" y="10800"/>
              <a:ext cx="4167360" cy="2949480"/>
              <a:chOff x="4537080" y="10800"/>
              <a:chExt cx="4167360" cy="2949480"/>
            </a:xfrm>
          </p:grpSpPr>
          <p:sp>
            <p:nvSpPr>
              <p:cNvPr id="1958" name="TextBox 10"/>
              <p:cNvSpPr/>
              <p:nvPr/>
            </p:nvSpPr>
            <p:spPr>
              <a:xfrm rot="16200000">
                <a:off x="3383640" y="1164240"/>
                <a:ext cx="2949480" cy="642600"/>
              </a:xfrm>
              <a:prstGeom prst="rect">
                <a:avLst/>
              </a:prstGeom>
              <a:solidFill>
                <a:srgbClr val="9a9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1840"/>
                    <a:tab algn="l" pos="463680"/>
                    <a:tab algn="l" pos="695160"/>
                    <a:tab algn="l" pos="927000"/>
                    <a:tab algn="l" pos="1158840"/>
                    <a:tab algn="l" pos="1390680"/>
                    <a:tab algn="l" pos="1622520"/>
                    <a:tab algn="l" pos="1854360"/>
                    <a:tab algn="l" pos="2085840"/>
                    <a:tab algn="l" pos="2317680"/>
                    <a:tab algn="l" pos="2549520"/>
                    <a:tab algn="l" pos="2781360"/>
                    <a:tab algn="l" pos="3013200"/>
                    <a:tab algn="l" pos="3244680"/>
                    <a:tab algn="l" pos="3476520"/>
                    <a:tab algn="l" pos="3708360"/>
                    <a:tab algn="l" pos="3940200"/>
                    <a:tab algn="l" pos="4172040"/>
                    <a:tab algn="l" pos="4403880"/>
                    <a:tab algn="l" pos="463536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2.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Yield responses to fertilizer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9" name="Group 52"/>
              <p:cNvGrpSpPr/>
              <p:nvPr/>
            </p:nvGrpSpPr>
            <p:grpSpPr>
              <a:xfrm>
                <a:off x="4907160" y="73800"/>
                <a:ext cx="3797280" cy="2226600"/>
                <a:chOff x="4907160" y="73800"/>
                <a:chExt cx="3797280" cy="2226600"/>
              </a:xfrm>
            </p:grpSpPr>
            <p:pic>
              <p:nvPicPr>
                <p:cNvPr id="1960" name="Content Placeholder 15" descr="t29.t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07160" y="73800"/>
                  <a:ext cx="2274120" cy="222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1" name="Picture 2" descr=""/>
                <p:cNvPicPr/>
                <p:nvPr/>
              </p:nvPicPr>
              <p:blipFill>
                <a:blip r:embed="rId4"/>
                <a:srcRect l="0" t="0" r="0" b="37609"/>
                <a:stretch/>
              </p:blipFill>
              <p:spPr>
                <a:xfrm>
                  <a:off x="7576560" y="393480"/>
                  <a:ext cx="65484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2" name="TextBox 18"/>
                <p:cNvSpPr/>
                <p:nvPr/>
              </p:nvSpPr>
              <p:spPr>
                <a:xfrm>
                  <a:off x="7515000" y="166320"/>
                  <a:ext cx="1189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Mean Yield (kg/ha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TextBox 19"/>
                <p:cNvSpPr/>
                <p:nvPr/>
              </p:nvSpPr>
              <p:spPr>
                <a:xfrm>
                  <a:off x="7674120" y="776160"/>
                  <a:ext cx="412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</a:rPr>
                    <a:t>400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4" name="Group 56"/>
          <p:cNvGrpSpPr/>
          <p:nvPr/>
        </p:nvGrpSpPr>
        <p:grpSpPr>
          <a:xfrm>
            <a:off x="368280" y="3429000"/>
            <a:ext cx="4137120" cy="3182760"/>
            <a:chOff x="368280" y="3429000"/>
            <a:chExt cx="4137120" cy="3182760"/>
          </a:xfrm>
        </p:grpSpPr>
        <p:sp>
          <p:nvSpPr>
            <p:cNvPr id="1965" name="TextBox 11"/>
            <p:cNvSpPr/>
            <p:nvPr/>
          </p:nvSpPr>
          <p:spPr>
            <a:xfrm rot="16200000">
              <a:off x="-1003680" y="4812480"/>
              <a:ext cx="31129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odeling of farm-gate 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Content Placeholder 6" descr="wh12_2_from_port.png"/>
            <p:cNvPicPr/>
            <p:nvPr/>
          </p:nvPicPr>
          <p:blipFill>
            <a:blip r:embed="rId5"/>
            <a:stretch/>
          </p:blipFill>
          <p:spPr>
            <a:xfrm>
              <a:off x="1106280" y="3647160"/>
              <a:ext cx="1419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Content Placeholder 7" descr="wh12_2_from_capital.png"/>
            <p:cNvPicPr/>
            <p:nvPr/>
          </p:nvPicPr>
          <p:blipFill>
            <a:blip r:embed="rId6"/>
            <a:stretch/>
          </p:blipFill>
          <p:spPr>
            <a:xfrm>
              <a:off x="1106280" y="5281200"/>
              <a:ext cx="14166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TextBox 21"/>
            <p:cNvSpPr/>
            <p:nvPr/>
          </p:nvSpPr>
          <p:spPr>
            <a:xfrm>
              <a:off x="752400" y="342900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ort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Box 22"/>
            <p:cNvSpPr/>
            <p:nvPr/>
          </p:nvSpPr>
          <p:spPr>
            <a:xfrm>
              <a:off x="752400" y="498636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apital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0" name="Picture 4" descr=""/>
            <p:cNvPicPr/>
            <p:nvPr/>
          </p:nvPicPr>
          <p:blipFill>
            <a:blip r:embed="rId7"/>
            <a:stretch/>
          </p:blipFill>
          <p:spPr>
            <a:xfrm>
              <a:off x="2836800" y="3773520"/>
              <a:ext cx="15026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TextBox 26"/>
            <p:cNvSpPr/>
            <p:nvPr/>
          </p:nvSpPr>
          <p:spPr>
            <a:xfrm>
              <a:off x="2460600" y="3429000"/>
              <a:ext cx="1130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Wheat farming enterpr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2" name="Picture 5" descr=""/>
            <p:cNvPicPr/>
            <p:nvPr/>
          </p:nvPicPr>
          <p:blipFill>
            <a:blip r:embed="rId8"/>
            <a:stretch/>
          </p:blipFill>
          <p:spPr>
            <a:xfrm>
              <a:off x="2494440" y="5376960"/>
              <a:ext cx="2010960" cy="11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TextBox 30"/>
            <p:cNvSpPr/>
            <p:nvPr/>
          </p:nvSpPr>
          <p:spPr>
            <a:xfrm>
              <a:off x="2435400" y="5000400"/>
              <a:ext cx="161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International wheat and fertilizer pr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57"/>
          <p:cNvGrpSpPr/>
          <p:nvPr/>
        </p:nvGrpSpPr>
        <p:grpSpPr>
          <a:xfrm>
            <a:off x="4525920" y="3429000"/>
            <a:ext cx="4438800" cy="3154320"/>
            <a:chOff x="4525920" y="3429000"/>
            <a:chExt cx="4438800" cy="3154320"/>
          </a:xfrm>
        </p:grpSpPr>
        <p:sp>
          <p:nvSpPr>
            <p:cNvPr id="1975" name="TextBox 27"/>
            <p:cNvSpPr/>
            <p:nvPr/>
          </p:nvSpPr>
          <p:spPr>
            <a:xfrm rot="16200000">
              <a:off x="3132720" y="4821840"/>
              <a:ext cx="31543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rofitability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6" name="Group 50"/>
            <p:cNvGrpSpPr/>
            <p:nvPr/>
          </p:nvGrpSpPr>
          <p:grpSpPr>
            <a:xfrm>
              <a:off x="4962600" y="3444120"/>
              <a:ext cx="4002120" cy="3041640"/>
              <a:chOff x="4962600" y="3444120"/>
              <a:chExt cx="4002120" cy="3041640"/>
            </a:xfrm>
          </p:grpSpPr>
          <p:pic>
            <p:nvPicPr>
              <p:cNvPr id="1977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4962600" y="3444120"/>
                <a:ext cx="4002120" cy="2846520"/>
              </a:xfrm>
              <a:prstGeom prst="rect">
                <a:avLst/>
              </a:prstGeom>
              <a:ln w="9360">
                <a:solidFill>
                  <a:srgbClr val="254061"/>
                </a:solidFill>
                <a:miter/>
              </a:ln>
            </p:spPr>
          </p:pic>
          <p:sp>
            <p:nvSpPr>
              <p:cNvPr id="1978" name="TextBox 35"/>
              <p:cNvSpPr/>
              <p:nvPr/>
            </p:nvSpPr>
            <p:spPr>
              <a:xfrm>
                <a:off x="7220160" y="5782680"/>
                <a:ext cx="831600" cy="703080"/>
              </a:xfrm>
              <a:prstGeom prst="rect">
                <a:avLst/>
              </a:prstGeom>
              <a:solidFill>
                <a:srgbClr val="c6d9f1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Profitabil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Sensitiv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Analys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Tool (Exce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9" name="Picture 1" descr="wheat high input suitability aez 2009.jpg"/>
          <p:cNvPicPr/>
          <p:nvPr/>
        </p:nvPicPr>
        <p:blipFill>
          <a:blip r:embed="rId10"/>
          <a:stretch/>
        </p:blipFill>
        <p:spPr>
          <a:xfrm>
            <a:off x="731880" y="1511280"/>
            <a:ext cx="1100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80" name="Group 49"/>
          <p:cNvGrpSpPr/>
          <p:nvPr/>
        </p:nvGrpSpPr>
        <p:grpSpPr>
          <a:xfrm>
            <a:off x="5411880" y="663480"/>
            <a:ext cx="3109680" cy="2333880"/>
            <a:chOff x="5411880" y="663480"/>
            <a:chExt cx="3109680" cy="2333880"/>
          </a:xfrm>
        </p:grpSpPr>
        <p:sp>
          <p:nvSpPr>
            <p:cNvPr id="1981" name="Rectangle 40"/>
            <p:cNvSpPr/>
            <p:nvPr/>
          </p:nvSpPr>
          <p:spPr>
            <a:xfrm>
              <a:off x="5425920" y="663480"/>
              <a:ext cx="3095640" cy="233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2" name="Group 48"/>
            <p:cNvGrpSpPr/>
            <p:nvPr/>
          </p:nvGrpSpPr>
          <p:grpSpPr>
            <a:xfrm>
              <a:off x="5411880" y="715680"/>
              <a:ext cx="3106080" cy="2235600"/>
              <a:chOff x="5411880" y="715680"/>
              <a:chExt cx="3106080" cy="2235600"/>
            </a:xfrm>
          </p:grpSpPr>
          <p:pic>
            <p:nvPicPr>
              <p:cNvPr id="1983" name="Picture 39" descr="cumulative_eth_ken.png"/>
              <p:cNvPicPr/>
              <p:nvPr/>
            </p:nvPicPr>
            <p:blipFill>
              <a:blip r:embed="rId11"/>
              <a:stretch/>
            </p:blipFill>
            <p:spPr>
              <a:xfrm>
                <a:off x="5692320" y="898920"/>
                <a:ext cx="282564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4" name="TextBox 41"/>
              <p:cNvSpPr/>
              <p:nvPr/>
            </p:nvSpPr>
            <p:spPr>
              <a:xfrm>
                <a:off x="5972760" y="715680"/>
                <a:ext cx="232560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Variety: Digelu                                   Variety:  Vee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5" name="TextBox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1880" y="1060200"/>
                <a:ext cx="334800" cy="14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6" name="TextBox 43"/>
              <p:cNvSpPr/>
              <p:nvPr/>
            </p:nvSpPr>
            <p:spPr>
              <a:xfrm>
                <a:off x="6210720" y="2735640"/>
                <a:ext cx="185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Yield                                                       Yie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TextBox 44"/>
              <p:cNvSpPr/>
              <p:nvPr/>
            </p:nvSpPr>
            <p:spPr>
              <a:xfrm>
                <a:off x="5977440" y="101088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TextBox 45"/>
              <p:cNvSpPr/>
              <p:nvPr/>
            </p:nvSpPr>
            <p:spPr>
              <a:xfrm>
                <a:off x="6348240" y="121572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TextBox 46"/>
              <p:cNvSpPr/>
              <p:nvPr/>
            </p:nvSpPr>
            <p:spPr>
              <a:xfrm>
                <a:off x="7385040" y="204012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TextBox 47"/>
              <p:cNvSpPr/>
              <p:nvPr/>
            </p:nvSpPr>
            <p:spPr>
              <a:xfrm>
                <a:off x="7878960" y="221616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1" name="Group 59"/>
          <p:cNvGrpSpPr/>
          <p:nvPr/>
        </p:nvGrpSpPr>
        <p:grpSpPr>
          <a:xfrm>
            <a:off x="4941720" y="4191120"/>
            <a:ext cx="4165920" cy="2595960"/>
            <a:chOff x="4941720" y="4191120"/>
            <a:chExt cx="4165920" cy="2595960"/>
          </a:xfrm>
        </p:grpSpPr>
        <p:sp>
          <p:nvSpPr>
            <p:cNvPr id="1992" name="TextBox 36"/>
            <p:cNvSpPr/>
            <p:nvPr/>
          </p:nvSpPr>
          <p:spPr>
            <a:xfrm>
              <a:off x="5565600" y="6540840"/>
              <a:ext cx="304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et Economic Return and  Potential 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3" name="Picture 6" descr=""/>
            <p:cNvPicPr/>
            <p:nvPr/>
          </p:nvPicPr>
          <p:blipFill>
            <a:blip r:embed="rId13"/>
            <a:stretch/>
          </p:blipFill>
          <p:spPr>
            <a:xfrm>
              <a:off x="4941720" y="4191120"/>
              <a:ext cx="4165920" cy="2355840"/>
            </a:xfrm>
            <a:prstGeom prst="rect">
              <a:avLst/>
            </a:prstGeom>
            <a:ln w="9360">
              <a:solidFill>
                <a:srgbClr val="254061"/>
              </a:solidFill>
              <a:miter/>
            </a:ln>
          </p:spPr>
        </p:pic>
      </p:grpSp>
      <p:sp>
        <p:nvSpPr>
          <p:cNvPr id="1994" name="TextBox 48"/>
          <p:cNvSpPr/>
          <p:nvPr/>
        </p:nvSpPr>
        <p:spPr>
          <a:xfrm>
            <a:off x="365040" y="6599160"/>
            <a:ext cx="478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CIMMYT – HarvestChoice/IFPRI “Wheat Potential for Africa “ (2011 draf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ze-Legume Analytical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6" name="Picture 2" descr="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5129280"/>
          </a:xfrm>
          <a:prstGeom prst="rect">
            <a:avLst/>
          </a:prstGeom>
          <a:ln w="15840">
            <a:solidFill>
              <a:srgbClr val="31859c"/>
            </a:solidFill>
            <a:miter/>
          </a:ln>
        </p:spPr>
      </p:pic>
      <p:pic>
        <p:nvPicPr>
          <p:cNvPr id="1997" name="Picture 3" descr=""/>
          <p:cNvPicPr/>
          <p:nvPr/>
        </p:nvPicPr>
        <p:blipFill>
          <a:blip r:embed="rId2"/>
          <a:stretch/>
        </p:blipFill>
        <p:spPr>
          <a:xfrm>
            <a:off x="-22320" y="1314360"/>
            <a:ext cx="2779920" cy="3291120"/>
          </a:xfrm>
          <a:prstGeom prst="rect">
            <a:avLst/>
          </a:prstGeom>
          <a:ln w="0">
            <a:noFill/>
          </a:ln>
        </p:spPr>
      </p:pic>
      <p:sp>
        <p:nvSpPr>
          <p:cNvPr id="1998" name="TextBox 5"/>
          <p:cNvSpPr/>
          <p:nvPr/>
        </p:nvSpPr>
        <p:spPr>
          <a:xfrm>
            <a:off x="376920" y="6599160"/>
            <a:ext cx="40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HarvestChoice/IFPRI  Prototype SIMLESA simulations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&amp;E Implementation to 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rget area stratification and 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ing core FtF M&amp;E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ruiting an M&amp;E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ding an M&amp;E implementation commun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specially with national and local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ing an open-access, web-based M&amp;E data and analysis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annual M&amp;E technica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Straight Connector 26"/>
          <p:cNvSpPr/>
          <p:nvPr/>
        </p:nvSpPr>
        <p:spPr>
          <a:xfrm>
            <a:off x="444600" y="496872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Box 40"/>
          <p:cNvSpPr/>
          <p:nvPr/>
        </p:nvSpPr>
        <p:spPr>
          <a:xfrm>
            <a:off x="214200" y="43668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West Africa: Year 1 M&amp;E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MS PGothic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4"/>
          <p:cNvSpPr/>
          <p:nvPr/>
        </p:nvSpPr>
        <p:spPr>
          <a:xfrm>
            <a:off x="303120" y="1620720"/>
            <a:ext cx="22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 Characteriz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3" name="TextBox 4"/>
          <p:cNvSpPr/>
          <p:nvPr/>
        </p:nvSpPr>
        <p:spPr>
          <a:xfrm>
            <a:off x="712800" y="269712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Activities-&gt; M&amp;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Box 6"/>
          <p:cNvSpPr/>
          <p:nvPr/>
        </p:nvSpPr>
        <p:spPr>
          <a:xfrm>
            <a:off x="4915800" y="37101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7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8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9" name="Straight Arrow Connector 30"/>
          <p:cNvCxnSpPr/>
          <p:nvPr/>
        </p:nvCxnSpPr>
        <p:spPr>
          <a:xfrm>
            <a:off x="4549680" y="4071600"/>
            <a:ext cx="27187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0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1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2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3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24" name="Picture 2" descr=""/>
          <p:cNvPicPr/>
          <p:nvPr/>
        </p:nvPicPr>
        <p:blipFill>
          <a:blip r:embed="rId1"/>
          <a:stretch/>
        </p:blipFill>
        <p:spPr>
          <a:xfrm>
            <a:off x="4229280" y="2841480"/>
            <a:ext cx="448920" cy="65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5" name="TextBox 1"/>
          <p:cNvSpPr/>
          <p:nvPr/>
        </p:nvSpPr>
        <p:spPr>
          <a:xfrm>
            <a:off x="4696560" y="288432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/Station (&amp; R&amp;D) Inven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ion Location     (if known, Lat:___ Long: ___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tion Name: _____________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ct: _____________   Region: 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/Station Full Name: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: 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ies/Practices tested/demonst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 det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714240" y="4497480"/>
            <a:ext cx="73152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appropriate split of M&amp;E roles between the M &amp; the E? (e.g., strong interest in early assessments of outcomes and spillover potent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ikely cost of meeting donor’s minimum reporting nee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ensure CAADP alignment (e.g. components selected on basis of elicited demand or available supply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Site Implementation VS Program wide M&amp;E needs/rol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IITA-lead Tanzania “M&amp;E” plans VS IFPRI-lead SSA M&amp;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How will “Tanzania efforts” efforts be coordinated? Who should program M&amp;E be in dialog wit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shared roles in data and tool development, access and application across program partner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obtaining appropriate cross-fertilization in site selection, field data collection, annual reporting/analy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nterest in engaging actively in a program M&amp;E community (especially from national partner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are likely candidates for M&amp;E Coordinator pos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ADP-CGIAR Program Alignment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FtF core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-site, sub-system and system re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regional SI progra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: Sudano-Sahelian zone, Ethiopian Highlands, Eastern and Southern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itoring &amp; projec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rt-term projections (targets) of key M&amp;E indicators for intervention sites in project “Zone of Influence”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 indicators up and out (spatial &amp; temporal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range of biophysical, bio-economic , market and welfare models for ex ante analysis of output, outcome, and impact indica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word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rapolation, aggregation, tradeoffs, spillover potential, sustainability, welfare and environment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data and analysi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Activities for M&amp;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ocktaking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ory (and mapping) of partner sites and SI component innovations. Characterization of sites &amp;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ification and diagnosis of target systems/geographi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 key differences in initial conditions, drivers of change, and SI-related constraints or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ntification of potential sit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are representative of the identified stratification and cost-effective for implement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p proposed activities and outcomes into M&amp;E indica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 &amp; conduct baseline and periodic survey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econdary data sources where possible (e.g. NSO/MoA, DHS, LSMS, CRP survey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taining an Innovation Invento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able discovery and delivery of innovation options project-w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 a Linked Model/Evaluation capacit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upport M&amp;E reporting cycl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outcome and impact indicators (e.g., up/out-scaling and projections with and w/o SI intervention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act/Attribution assess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the standards required  (ex post stud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Group 105"/>
          <p:cNvGrpSpPr/>
          <p:nvPr/>
        </p:nvGrpSpPr>
        <p:grpSpPr>
          <a:xfrm>
            <a:off x="3857760" y="1054080"/>
            <a:ext cx="2322360" cy="5410080"/>
            <a:chOff x="3857760" y="1054080"/>
            <a:chExt cx="2322360" cy="5410080"/>
          </a:xfrm>
        </p:grpSpPr>
        <p:grpSp>
          <p:nvGrpSpPr>
            <p:cNvPr id="1739" name="Group 102"/>
            <p:cNvGrpSpPr/>
            <p:nvPr/>
          </p:nvGrpSpPr>
          <p:grpSpPr>
            <a:xfrm>
              <a:off x="4214880" y="1054080"/>
              <a:ext cx="1965240" cy="5410080"/>
              <a:chOff x="4214880" y="1054080"/>
              <a:chExt cx="1965240" cy="5410080"/>
            </a:xfrm>
          </p:grpSpPr>
          <p:sp>
            <p:nvSpPr>
              <p:cNvPr id="1740" name="Rectangle 60"/>
              <p:cNvSpPr/>
              <p:nvPr/>
            </p:nvSpPr>
            <p:spPr>
              <a:xfrm>
                <a:off x="4214880" y="1054080"/>
                <a:ext cx="1965240" cy="541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OUTCO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"/>
              <p:cNvSpPr/>
              <p:nvPr/>
            </p:nvSpPr>
            <p:spPr>
              <a:xfrm>
                <a:off x="4265640" y="1411200"/>
                <a:ext cx="1836720" cy="74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More efficient, productive, &amp; resilient production 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Right Arrow 104"/>
            <p:cNvSpPr/>
            <p:nvPr/>
          </p:nvSpPr>
          <p:spPr>
            <a:xfrm>
              <a:off x="3857760" y="3843360"/>
              <a:ext cx="369720" cy="344160"/>
            </a:xfrm>
            <a:prstGeom prst="rightArrow">
              <a:avLst>
                <a:gd name="adj1" fmla="val 50000"/>
                <a:gd name="adj2" fmla="val 50043"/>
              </a:avLst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Rectangle 9"/>
          <p:cNvSpPr/>
          <p:nvPr/>
        </p:nvSpPr>
        <p:spPr>
          <a:xfrm>
            <a:off x="1693800" y="1066680"/>
            <a:ext cx="2151000" cy="541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0"/>
          <p:cNvSpPr/>
          <p:nvPr/>
        </p:nvSpPr>
        <p:spPr>
          <a:xfrm>
            <a:off x="1746360" y="1400040"/>
            <a:ext cx="2074680" cy="48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vailable /Adap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on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1746360" y="4218120"/>
            <a:ext cx="2074680" cy="527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Willing, capable, relevant partners/users eng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2"/>
          <p:cNvSpPr/>
          <p:nvPr/>
        </p:nvSpPr>
        <p:spPr>
          <a:xfrm>
            <a:off x="1746360" y="1952640"/>
            <a:ext cx="2074680" cy="730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ignificant SI gains from  systems-focused component 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1746360" y="4795920"/>
            <a:ext cx="2074680" cy="46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Quick wins/lessons are feasible, focus long-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"/>
          <p:cNvSpPr/>
          <p:nvPr/>
        </p:nvSpPr>
        <p:spPr>
          <a:xfrm>
            <a:off x="1746360" y="2712960"/>
            <a:ext cx="2074680" cy="681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ve &amp; tractable  implementation models can be appl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59"/>
          <p:cNvGrpSpPr/>
          <p:nvPr/>
        </p:nvGrpSpPr>
        <p:grpSpPr>
          <a:xfrm>
            <a:off x="152280" y="1066680"/>
            <a:ext cx="1524240" cy="5410440"/>
            <a:chOff x="152280" y="1066680"/>
            <a:chExt cx="1524240" cy="5410440"/>
          </a:xfrm>
        </p:grpSpPr>
        <p:sp>
          <p:nvSpPr>
            <p:cNvPr id="1750" name="Rectangle 13"/>
            <p:cNvSpPr/>
            <p:nvPr/>
          </p:nvSpPr>
          <p:spPr>
            <a:xfrm>
              <a:off x="152280" y="1066680"/>
              <a:ext cx="990720" cy="54104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Calibri"/>
                </a:rPr>
                <a:t>CA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3"/>
            <p:cNvSpPr/>
            <p:nvPr/>
          </p:nvSpPr>
          <p:spPr>
            <a:xfrm>
              <a:off x="279000" y="1828440"/>
              <a:ext cx="152280" cy="37339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4"/>
            <p:cNvSpPr/>
            <p:nvPr/>
          </p:nvSpPr>
          <p:spPr>
            <a:xfrm>
              <a:off x="523800" y="182844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5"/>
            <p:cNvSpPr/>
            <p:nvPr/>
          </p:nvSpPr>
          <p:spPr>
            <a:xfrm>
              <a:off x="523800" y="279396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6"/>
            <p:cNvSpPr/>
            <p:nvPr/>
          </p:nvSpPr>
          <p:spPr>
            <a:xfrm>
              <a:off x="523800" y="37591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"/>
            <p:cNvSpPr/>
            <p:nvPr/>
          </p:nvSpPr>
          <p:spPr>
            <a:xfrm>
              <a:off x="523800" y="47149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eft-Right Arrow 16"/>
            <p:cNvSpPr/>
            <p:nvPr/>
          </p:nvSpPr>
          <p:spPr>
            <a:xfrm>
              <a:off x="1155960" y="3794040"/>
              <a:ext cx="520560" cy="328320"/>
            </a:xfrm>
            <a:prstGeom prst="leftRightArrow">
              <a:avLst>
                <a:gd name="adj1" fmla="val 50000"/>
                <a:gd name="adj2" fmla="val 50032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G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Rectangle 17"/>
          <p:cNvSpPr/>
          <p:nvPr/>
        </p:nvSpPr>
        <p:spPr>
          <a:xfrm>
            <a:off x="1746360" y="3441600"/>
            <a:ext cx="2074680" cy="723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Delivery mechanisms  integral to project desig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8"/>
          <p:cNvSpPr/>
          <p:nvPr/>
        </p:nvSpPr>
        <p:spPr>
          <a:xfrm>
            <a:off x="1733400" y="5318280"/>
            <a:ext cx="2075040" cy="65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caling up/out and maximising spillovers are part of projec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9"/>
          <p:cNvSpPr/>
          <p:nvPr/>
        </p:nvSpPr>
        <p:spPr>
          <a:xfrm>
            <a:off x="4265640" y="2211480"/>
            <a:ext cx="1817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More effective use of land, water, biod’vrsty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1"/>
          <p:cNvSpPr/>
          <p:nvPr/>
        </p:nvSpPr>
        <p:spPr>
          <a:xfrm>
            <a:off x="4265640" y="3084480"/>
            <a:ext cx="183528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Greater, more equitable returns  to hh labour an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22"/>
          <p:cNvSpPr/>
          <p:nvPr/>
        </p:nvSpPr>
        <p:spPr>
          <a:xfrm>
            <a:off x="4265640" y="3843360"/>
            <a:ext cx="1835280" cy="53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household nutrition (esp W&amp;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24"/>
          <p:cNvSpPr/>
          <p:nvPr/>
        </p:nvSpPr>
        <p:spPr>
          <a:xfrm>
            <a:off x="4265640" y="4411800"/>
            <a:ext cx="182232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Better served and more efficient value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25"/>
          <p:cNvSpPr/>
          <p:nvPr/>
        </p:nvSpPr>
        <p:spPr>
          <a:xfrm>
            <a:off x="201960" y="22860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Assumptions, Outcomes, Impacts, &amp; Ft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9"/>
          <p:cNvSpPr/>
          <p:nvPr/>
        </p:nvSpPr>
        <p:spPr>
          <a:xfrm>
            <a:off x="4287960" y="5667480"/>
            <a:ext cx="1819080" cy="74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 research methods,  partnership and delivery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8"/>
          <p:cNvSpPr/>
          <p:nvPr/>
        </p:nvSpPr>
        <p:spPr>
          <a:xfrm>
            <a:off x="1731960" y="6019920"/>
            <a:ext cx="2075040" cy="414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&amp;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E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Group 103"/>
          <p:cNvGrpSpPr/>
          <p:nvPr/>
        </p:nvGrpSpPr>
        <p:grpSpPr>
          <a:xfrm>
            <a:off x="6162480" y="1400040"/>
            <a:ext cx="2946600" cy="4435560"/>
            <a:chOff x="6162480" y="1400040"/>
            <a:chExt cx="2946600" cy="4435560"/>
          </a:xfrm>
        </p:grpSpPr>
        <p:cxnSp>
          <p:nvCxnSpPr>
            <p:cNvPr id="1767" name="Straight Arrow Connector 106"/>
            <p:cNvCxnSpPr>
              <a:stCxn id="1768" idx="3"/>
              <a:endCxn id="1769" idx="1"/>
            </p:cNvCxnSpPr>
            <p:nvPr/>
          </p:nvCxnSpPr>
          <p:spPr>
            <a:xfrm>
              <a:off x="6798960" y="2806560"/>
              <a:ext cx="276840" cy="15912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70" name="Straight Arrow Connector 84"/>
            <p:cNvCxnSpPr>
              <a:stCxn id="1768" idx="3"/>
              <a:endCxn id="1771" idx="1"/>
            </p:cNvCxnSpPr>
            <p:nvPr/>
          </p:nvCxnSpPr>
          <p:spPr>
            <a:xfrm flipH="1">
              <a:off x="6582600" y="2806200"/>
              <a:ext cx="216360" cy="22834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2" name="Oval 64"/>
            <p:cNvSpPr/>
            <p:nvPr/>
          </p:nvSpPr>
          <p:spPr>
            <a:xfrm>
              <a:off x="6238800" y="3052440"/>
              <a:ext cx="1371600" cy="5652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W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mpow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26"/>
            <p:cNvSpPr/>
            <p:nvPr/>
          </p:nvSpPr>
          <p:spPr>
            <a:xfrm>
              <a:off x="6942240" y="4336920"/>
              <a:ext cx="91908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27"/>
            <p:cNvSpPr/>
            <p:nvPr/>
          </p:nvSpPr>
          <p:spPr>
            <a:xfrm>
              <a:off x="7807320" y="3035160"/>
              <a:ext cx="103176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28"/>
            <p:cNvSpPr/>
            <p:nvPr/>
          </p:nvSpPr>
          <p:spPr>
            <a:xfrm>
              <a:off x="7067520" y="3585960"/>
              <a:ext cx="110952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29"/>
            <p:cNvSpPr/>
            <p:nvPr/>
          </p:nvSpPr>
          <p:spPr>
            <a:xfrm>
              <a:off x="8016840" y="3894120"/>
              <a:ext cx="10922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unger/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6" name="Straight Arrow Connector 41"/>
            <p:cNvCxnSpPr>
              <a:stCxn id="1774" idx="0"/>
              <a:endCxn id="1773" idx="2"/>
            </p:cNvCxnSpPr>
            <p:nvPr/>
          </p:nvCxnSpPr>
          <p:spPr>
            <a:xfrm flipV="1">
              <a:off x="7623000" y="3244320"/>
              <a:ext cx="184680" cy="3420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7" name="Straight Arrow Connector 42"/>
            <p:cNvCxnSpPr>
              <a:stCxn id="1769" idx="6"/>
              <a:endCxn id="1775" idx="3"/>
            </p:cNvCxnSpPr>
            <p:nvPr/>
          </p:nvCxnSpPr>
          <p:spPr>
            <a:xfrm flipV="1">
              <a:off x="7860960" y="4252320"/>
              <a:ext cx="316440" cy="294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8" name="Straight Arrow Connector 44"/>
            <p:cNvCxnSpPr>
              <a:endCxn id="1775" idx="0"/>
            </p:cNvCxnSpPr>
            <p:nvPr/>
          </p:nvCxnSpPr>
          <p:spPr>
            <a:xfrm>
              <a:off x="8516880" y="3429000"/>
              <a:ext cx="46440" cy="4658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79" name="Straight Arrow Connector 47"/>
            <p:cNvCxnSpPr>
              <a:endCxn id="1774" idx="4"/>
            </p:cNvCxnSpPr>
            <p:nvPr/>
          </p:nvCxnSpPr>
          <p:spPr>
            <a:xfrm flipV="1">
              <a:off x="7311960" y="4005000"/>
              <a:ext cx="311760" cy="4039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80" name="Oval 50"/>
            <p:cNvSpPr/>
            <p:nvPr/>
          </p:nvSpPr>
          <p:spPr>
            <a:xfrm>
              <a:off x="7427880" y="1400040"/>
              <a:ext cx="1611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ble/Re-generating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1" name="Straight Arrow Connector 51"/>
            <p:cNvCxnSpPr>
              <a:stCxn id="1780" idx="4"/>
              <a:endCxn id="1773" idx="0"/>
            </p:cNvCxnSpPr>
            <p:nvPr/>
          </p:nvCxnSpPr>
          <p:spPr>
            <a:xfrm>
              <a:off x="8232480" y="2193480"/>
              <a:ext cx="91080" cy="8420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2" name="Straight Arrow Connector 55"/>
            <p:cNvCxnSpPr>
              <a:endCxn id="1774" idx="0"/>
            </p:cNvCxnSpPr>
            <p:nvPr/>
          </p:nvCxnSpPr>
          <p:spPr>
            <a:xfrm>
              <a:off x="7542360" y="2666520"/>
              <a:ext cx="81360" cy="9198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3" name="Straight Arrow Connector 61"/>
            <p:cNvCxnSpPr>
              <a:endCxn id="1775" idx="2"/>
            </p:cNvCxnSpPr>
            <p:nvPr/>
          </p:nvCxnSpPr>
          <p:spPr>
            <a:xfrm>
              <a:off x="6183000" y="4098600"/>
              <a:ext cx="1834200" cy="5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4" name="Straight Arrow Connector 62"/>
            <p:cNvCxnSpPr>
              <a:endCxn id="1780" idx="2"/>
            </p:cNvCxnSpPr>
            <p:nvPr/>
          </p:nvCxnSpPr>
          <p:spPr>
            <a:xfrm flipV="1">
              <a:off x="6183000" y="1796040"/>
              <a:ext cx="1245240" cy="7117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5" name="Straight Arrow Connector 63"/>
            <p:cNvCxnSpPr>
              <a:endCxn id="1769" idx="2"/>
            </p:cNvCxnSpPr>
            <p:nvPr/>
          </p:nvCxnSpPr>
          <p:spPr>
            <a:xfrm flipV="1">
              <a:off x="6183000" y="4546080"/>
              <a:ext cx="759240" cy="122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6" name="Straight Arrow Connector 68"/>
            <p:cNvCxnSpPr/>
            <p:nvPr/>
          </p:nvCxnSpPr>
          <p:spPr>
            <a:xfrm flipV="1">
              <a:off x="6179760" y="1641240"/>
              <a:ext cx="1362600" cy="1558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7" name="Straight Arrow Connector 70"/>
            <p:cNvCxnSpPr>
              <a:endCxn id="1774" idx="2"/>
            </p:cNvCxnSpPr>
            <p:nvPr/>
          </p:nvCxnSpPr>
          <p:spPr>
            <a:xfrm>
              <a:off x="6162480" y="3524040"/>
              <a:ext cx="905400" cy="27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1" name="Oval 72"/>
            <p:cNvSpPr/>
            <p:nvPr/>
          </p:nvSpPr>
          <p:spPr>
            <a:xfrm>
              <a:off x="6343560" y="4962600"/>
              <a:ext cx="1638360" cy="87300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 value-added, jobs &amp;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73"/>
            <p:cNvSpPr/>
            <p:nvPr/>
          </p:nvSpPr>
          <p:spPr>
            <a:xfrm>
              <a:off x="6594480" y="2128680"/>
              <a:ext cx="1395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food, feed, fo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8" name="Straight Arrow Connector 76"/>
            <p:cNvCxnSpPr>
              <a:endCxn id="1768" idx="1"/>
            </p:cNvCxnSpPr>
            <p:nvPr/>
          </p:nvCxnSpPr>
          <p:spPr>
            <a:xfrm>
              <a:off x="6183000" y="1796760"/>
              <a:ext cx="616680" cy="450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9" name="Straight Arrow Connector 81"/>
            <p:cNvCxnSpPr>
              <a:endCxn id="1771" idx="1"/>
            </p:cNvCxnSpPr>
            <p:nvPr/>
          </p:nvCxnSpPr>
          <p:spPr>
            <a:xfrm>
              <a:off x="6180120" y="4716360"/>
              <a:ext cx="403920" cy="3736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0" name="Straight Arrow Connector 88"/>
            <p:cNvCxnSpPr>
              <a:endCxn id="1769" idx="4"/>
            </p:cNvCxnSpPr>
            <p:nvPr/>
          </p:nvCxnSpPr>
          <p:spPr>
            <a:xfrm flipV="1">
              <a:off x="7171920" y="4755600"/>
              <a:ext cx="229320" cy="240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791" name="Oval 53"/>
            <p:cNvSpPr/>
            <p:nvPr/>
          </p:nvSpPr>
          <p:spPr>
            <a:xfrm>
              <a:off x="7953480" y="4594320"/>
              <a:ext cx="10094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2" name="Straight Arrow Connector 54"/>
            <p:cNvCxnSpPr>
              <a:stCxn id="1774" idx="4"/>
              <a:endCxn id="1791" idx="1"/>
            </p:cNvCxnSpPr>
            <p:nvPr/>
          </p:nvCxnSpPr>
          <p:spPr>
            <a:xfrm>
              <a:off x="7623000" y="4005360"/>
              <a:ext cx="478440" cy="651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3" name="Straight Arrow Connector 57"/>
            <p:cNvCxnSpPr>
              <a:stCxn id="1771" idx="7"/>
              <a:endCxn id="1791" idx="3"/>
            </p:cNvCxnSpPr>
            <p:nvPr/>
          </p:nvCxnSpPr>
          <p:spPr>
            <a:xfrm flipV="1">
              <a:off x="7742160" y="4952160"/>
              <a:ext cx="358920" cy="137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94" name="Group 36"/>
          <p:cNvGrpSpPr/>
          <p:nvPr/>
        </p:nvGrpSpPr>
        <p:grpSpPr>
          <a:xfrm>
            <a:off x="6246720" y="2768760"/>
            <a:ext cx="2835360" cy="2408040"/>
            <a:chOff x="6246720" y="2768760"/>
            <a:chExt cx="2835360" cy="2408040"/>
          </a:xfrm>
        </p:grpSpPr>
        <p:sp>
          <p:nvSpPr>
            <p:cNvPr id="1795" name="Flowchart: Connector 67"/>
            <p:cNvSpPr/>
            <p:nvPr/>
          </p:nvSpPr>
          <p:spPr>
            <a:xfrm>
              <a:off x="8713800" y="3602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lowchart: Connector 69"/>
            <p:cNvSpPr/>
            <p:nvPr/>
          </p:nvSpPr>
          <p:spPr>
            <a:xfrm>
              <a:off x="8470800" y="27687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lowchart: Connector 71"/>
            <p:cNvSpPr/>
            <p:nvPr/>
          </p:nvSpPr>
          <p:spPr>
            <a:xfrm>
              <a:off x="8670960" y="47959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lowchart: Connector 74"/>
            <p:cNvSpPr/>
            <p:nvPr/>
          </p:nvSpPr>
          <p:spPr>
            <a:xfrm>
              <a:off x="7507080" y="33354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lowchart: Connector 75"/>
            <p:cNvSpPr/>
            <p:nvPr/>
          </p:nvSpPr>
          <p:spPr>
            <a:xfrm>
              <a:off x="6246720" y="292248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Rectangle 87"/>
          <p:cNvSpPr/>
          <p:nvPr/>
        </p:nvSpPr>
        <p:spPr>
          <a:xfrm>
            <a:off x="4275000" y="5029200"/>
            <a:ext cx="182268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Aware, engaged, empowered, farmers &amp; service provide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Group 37"/>
          <p:cNvGrpSpPr/>
          <p:nvPr/>
        </p:nvGrpSpPr>
        <p:grpSpPr>
          <a:xfrm>
            <a:off x="923760" y="1100160"/>
            <a:ext cx="7823520" cy="4735440"/>
            <a:chOff x="923760" y="1100160"/>
            <a:chExt cx="7823520" cy="4735440"/>
          </a:xfrm>
        </p:grpSpPr>
        <p:sp>
          <p:nvSpPr>
            <p:cNvPr id="1802" name="Flowchart: Connector 83"/>
            <p:cNvSpPr/>
            <p:nvPr/>
          </p:nvSpPr>
          <p:spPr>
            <a:xfrm>
              <a:off x="5794560" y="1290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lowchart: Connector 85"/>
            <p:cNvSpPr/>
            <p:nvPr/>
          </p:nvSpPr>
          <p:spPr>
            <a:xfrm>
              <a:off x="8379000" y="1100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lowchart: Connector 86"/>
            <p:cNvSpPr/>
            <p:nvPr/>
          </p:nvSpPr>
          <p:spPr>
            <a:xfrm>
              <a:off x="7680600" y="54547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lowchart: Connector 89"/>
            <p:cNvSpPr/>
            <p:nvPr/>
          </p:nvSpPr>
          <p:spPr>
            <a:xfrm>
              <a:off x="5880240" y="503100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lowchart: Connector 90"/>
            <p:cNvSpPr/>
            <p:nvPr/>
          </p:nvSpPr>
          <p:spPr>
            <a:xfrm>
              <a:off x="5699160" y="308592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lowchart: Connector 91"/>
            <p:cNvSpPr/>
            <p:nvPr/>
          </p:nvSpPr>
          <p:spPr>
            <a:xfrm>
              <a:off x="923760" y="5043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TextBox 4"/>
          <p:cNvSpPr/>
          <p:nvPr/>
        </p:nvSpPr>
        <p:spPr>
          <a:xfrm>
            <a:off x="762120" y="1393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-81360" y="95040"/>
            <a:ext cx="92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phic Stratification of Target Systems/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2" name="Picture 5" descr=""/>
          <p:cNvPicPr/>
          <p:nvPr/>
        </p:nvPicPr>
        <p:blipFill>
          <a:blip r:embed="rId1"/>
          <a:stretch/>
        </p:blipFill>
        <p:spPr>
          <a:xfrm>
            <a:off x="160200" y="925560"/>
            <a:ext cx="8839440" cy="5718240"/>
          </a:xfrm>
          <a:prstGeom prst="rect">
            <a:avLst/>
          </a:prstGeom>
          <a:ln w="0">
            <a:noFill/>
          </a:ln>
        </p:spPr>
      </p:pic>
      <p:sp>
        <p:nvSpPr>
          <p:cNvPr id="1813" name="TextBox 2"/>
          <p:cNvSpPr/>
          <p:nvPr/>
        </p:nvSpPr>
        <p:spPr>
          <a:xfrm>
            <a:off x="369360" y="648972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Site Selection Group. Addis SI Workshop, Feb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Box 4"/>
          <p:cNvSpPr/>
          <p:nvPr/>
        </p:nvSpPr>
        <p:spPr>
          <a:xfrm>
            <a:off x="762120" y="1263600"/>
            <a:ext cx="761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te-specific (farm/landscape) stra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ustainability and Intensification stratification within each geograph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te &amp; test potential SI trajecto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in geographic and site-specific st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7" name="Group 58"/>
          <p:cNvGrpSpPr/>
          <p:nvPr/>
        </p:nvGrpSpPr>
        <p:grpSpPr>
          <a:xfrm>
            <a:off x="2629080" y="2057400"/>
            <a:ext cx="3085920" cy="2819520"/>
            <a:chOff x="2629080" y="2057400"/>
            <a:chExt cx="3085920" cy="2819520"/>
          </a:xfrm>
        </p:grpSpPr>
        <p:sp>
          <p:nvSpPr>
            <p:cNvPr id="1818" name="Rectangle 57"/>
            <p:cNvSpPr/>
            <p:nvPr/>
          </p:nvSpPr>
          <p:spPr>
            <a:xfrm>
              <a:off x="2629080" y="2095200"/>
              <a:ext cx="1333440" cy="136368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Straight Connector 52"/>
            <p:cNvSpPr/>
            <p:nvPr/>
          </p:nvSpPr>
          <p:spPr>
            <a:xfrm flipV="1">
              <a:off x="4114800" y="2057400"/>
              <a:ext cx="1600200" cy="1872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Straight Connector 55"/>
            <p:cNvSpPr/>
            <p:nvPr/>
          </p:nvSpPr>
          <p:spPr>
            <a:xfrm>
              <a:off x="4086360" y="3465720"/>
              <a:ext cx="1628640" cy="141120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TextBox 20"/>
          <p:cNvSpPr/>
          <p:nvPr/>
        </p:nvSpPr>
        <p:spPr>
          <a:xfrm>
            <a:off x="-91800" y="30193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in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.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1295280" y="2057400"/>
            <a:ext cx="2667240" cy="3614400"/>
            <a:chOff x="1295280" y="2057400"/>
            <a:chExt cx="2667240" cy="3614400"/>
          </a:xfrm>
        </p:grpSpPr>
        <p:grpSp>
          <p:nvGrpSpPr>
            <p:cNvPr id="1824" name="Group 9"/>
            <p:cNvGrpSpPr/>
            <p:nvPr/>
          </p:nvGrpSpPr>
          <p:grpSpPr>
            <a:xfrm>
              <a:off x="1295280" y="2057400"/>
              <a:ext cx="2667240" cy="2834280"/>
              <a:chOff x="1295280" y="2057400"/>
              <a:chExt cx="2667240" cy="2834280"/>
            </a:xfrm>
          </p:grpSpPr>
          <p:sp>
            <p:nvSpPr>
              <p:cNvPr id="1825" name="Straight Connector 4"/>
              <p:cNvSpPr/>
              <p:nvPr/>
            </p:nvSpPr>
            <p:spPr>
              <a:xfrm>
                <a:off x="1295280" y="2057400"/>
                <a:ext cx="0" cy="28202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Straight Connector 7"/>
              <p:cNvSpPr/>
              <p:nvPr/>
            </p:nvSpPr>
            <p:spPr>
              <a:xfrm>
                <a:off x="1295280" y="4891680"/>
                <a:ext cx="266724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Straight Connector 11"/>
            <p:cNvSpPr/>
            <p:nvPr/>
          </p:nvSpPr>
          <p:spPr>
            <a:xfrm>
              <a:off x="1371240" y="205740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Straight Connector 13"/>
            <p:cNvSpPr/>
            <p:nvPr/>
          </p:nvSpPr>
          <p:spPr>
            <a:xfrm>
              <a:off x="3962520" y="213336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Straight Connector 14"/>
            <p:cNvSpPr/>
            <p:nvPr/>
          </p:nvSpPr>
          <p:spPr>
            <a:xfrm>
              <a:off x="2629080" y="209520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Straight Connector 15"/>
            <p:cNvSpPr/>
            <p:nvPr/>
          </p:nvSpPr>
          <p:spPr>
            <a:xfrm>
              <a:off x="1333080" y="345924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TextBox 16"/>
            <p:cNvSpPr/>
            <p:nvPr/>
          </p:nvSpPr>
          <p:spPr>
            <a:xfrm>
              <a:off x="2974680" y="265140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Box 17"/>
            <p:cNvSpPr/>
            <p:nvPr/>
          </p:nvSpPr>
          <p:spPr>
            <a:xfrm>
              <a:off x="2972160" y="38862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TextBox 18"/>
            <p:cNvSpPr/>
            <p:nvPr/>
          </p:nvSpPr>
          <p:spPr>
            <a:xfrm>
              <a:off x="1602000" y="38862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TextBox 19"/>
            <p:cNvSpPr/>
            <p:nvPr/>
          </p:nvSpPr>
          <p:spPr>
            <a:xfrm>
              <a:off x="1681560" y="26514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TextBox 21"/>
            <p:cNvSpPr/>
            <p:nvPr/>
          </p:nvSpPr>
          <p:spPr>
            <a:xfrm>
              <a:off x="1920600" y="502920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rket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p.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6" name="Straight Arrow Connector 50"/>
          <p:cNvCxnSpPr/>
          <p:nvPr/>
        </p:nvCxnSpPr>
        <p:spPr>
          <a:xfrm flipV="1">
            <a:off x="6884640" y="3079440"/>
            <a:ext cx="678600" cy="83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837" name="Group 71"/>
          <p:cNvGrpSpPr/>
          <p:nvPr/>
        </p:nvGrpSpPr>
        <p:grpSpPr>
          <a:xfrm>
            <a:off x="6805440" y="2831400"/>
            <a:ext cx="891000" cy="1588680"/>
            <a:chOff x="6805440" y="2831400"/>
            <a:chExt cx="891000" cy="1588680"/>
          </a:xfrm>
        </p:grpSpPr>
        <p:cxnSp>
          <p:nvCxnSpPr>
            <p:cNvPr id="1838" name="Straight Arrow Connector 59"/>
            <p:cNvCxnSpPr/>
            <p:nvPr/>
          </p:nvCxnSpPr>
          <p:spPr>
            <a:xfrm>
              <a:off x="6884640" y="4419360"/>
              <a:ext cx="812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39" name="Elbow Connector 63"/>
            <p:cNvCxnSpPr/>
            <p:nvPr/>
          </p:nvCxnSpPr>
          <p:spPr>
            <a:xfrm flipH="1" flipV="1" rot="5400000">
              <a:off x="6714720" y="2922120"/>
              <a:ext cx="786600" cy="605520"/>
            </a:xfrm>
            <a:prstGeom prst="bentConnector3">
              <a:avLst>
                <a:gd name="adj1" fmla="val 998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40" name="TextBox 72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Box 73"/>
          <p:cNvSpPr/>
          <p:nvPr/>
        </p:nvSpPr>
        <p:spPr>
          <a:xfrm>
            <a:off x="1316880" y="149220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Geographic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Group 75"/>
          <p:cNvGrpSpPr/>
          <p:nvPr/>
        </p:nvGrpSpPr>
        <p:grpSpPr>
          <a:xfrm>
            <a:off x="4311720" y="1459080"/>
            <a:ext cx="4568040" cy="3957840"/>
            <a:chOff x="4311720" y="1459080"/>
            <a:chExt cx="4568040" cy="3957840"/>
          </a:xfrm>
        </p:grpSpPr>
        <p:grpSp>
          <p:nvGrpSpPr>
            <p:cNvPr id="1843" name="Group 35"/>
            <p:cNvGrpSpPr/>
            <p:nvPr/>
          </p:nvGrpSpPr>
          <p:grpSpPr>
            <a:xfrm>
              <a:off x="4311720" y="2076480"/>
              <a:ext cx="4245480" cy="3340440"/>
              <a:chOff x="4311720" y="2076480"/>
              <a:chExt cx="4245480" cy="3340440"/>
            </a:xfrm>
          </p:grpSpPr>
          <p:grpSp>
            <p:nvGrpSpPr>
              <p:cNvPr id="1844" name="Group 36"/>
              <p:cNvGrpSpPr/>
              <p:nvPr/>
            </p:nvGrpSpPr>
            <p:grpSpPr>
              <a:xfrm>
                <a:off x="5890320" y="2076480"/>
                <a:ext cx="2666880" cy="2834640"/>
                <a:chOff x="5890320" y="2076480"/>
                <a:chExt cx="2666880" cy="2834640"/>
              </a:xfrm>
            </p:grpSpPr>
            <p:sp>
              <p:nvSpPr>
                <p:cNvPr id="1845" name="Straight Connector 46"/>
                <p:cNvSpPr/>
                <p:nvPr/>
              </p:nvSpPr>
              <p:spPr>
                <a:xfrm>
                  <a:off x="5890320" y="2076480"/>
                  <a:ext cx="0" cy="282060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Straight Connector 47"/>
                <p:cNvSpPr/>
                <p:nvPr/>
              </p:nvSpPr>
              <p:spPr>
                <a:xfrm>
                  <a:off x="5890320" y="4911120"/>
                  <a:ext cx="2666880" cy="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7" name="Straight Connector 37"/>
              <p:cNvSpPr/>
              <p:nvPr/>
            </p:nvSpPr>
            <p:spPr>
              <a:xfrm>
                <a:off x="5965920" y="207648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Straight Connector 38"/>
              <p:cNvSpPr/>
              <p:nvPr/>
            </p:nvSpPr>
            <p:spPr>
              <a:xfrm>
                <a:off x="8556840" y="215244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Straight Connector 39"/>
              <p:cNvSpPr/>
              <p:nvPr/>
            </p:nvSpPr>
            <p:spPr>
              <a:xfrm>
                <a:off x="7223400" y="211428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Straight Connector 40"/>
              <p:cNvSpPr/>
              <p:nvPr/>
            </p:nvSpPr>
            <p:spPr>
              <a:xfrm>
                <a:off x="5927760" y="347832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TextBox 41"/>
              <p:cNvSpPr/>
              <p:nvPr/>
            </p:nvSpPr>
            <p:spPr>
              <a:xfrm>
                <a:off x="7569720" y="2670840"/>
                <a:ext cx="65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TextBox 42"/>
              <p:cNvSpPr/>
              <p:nvPr/>
            </p:nvSpPr>
            <p:spPr>
              <a:xfrm>
                <a:off x="7566840" y="39056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43"/>
              <p:cNvSpPr/>
              <p:nvPr/>
            </p:nvSpPr>
            <p:spPr>
              <a:xfrm>
                <a:off x="6197400" y="39056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TextBox 44"/>
              <p:cNvSpPr/>
              <p:nvPr/>
            </p:nvSpPr>
            <p:spPr>
              <a:xfrm>
                <a:off x="6276240" y="26708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TextBox 45"/>
              <p:cNvSpPr/>
              <p:nvPr/>
            </p:nvSpPr>
            <p:spPr>
              <a:xfrm>
                <a:off x="6222960" y="5048640"/>
                <a:ext cx="20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stainability 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48"/>
              <p:cNvSpPr/>
              <p:nvPr/>
            </p:nvSpPr>
            <p:spPr>
              <a:xfrm>
                <a:off x="4311720" y="3050280"/>
                <a:ext cx="154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tens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TextBox 74"/>
            <p:cNvSpPr/>
            <p:nvPr/>
          </p:nvSpPr>
          <p:spPr>
            <a:xfrm>
              <a:off x="5515560" y="1459080"/>
              <a:ext cx="33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</a:rPr>
                <a:t>Farm/Landscape Stra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2-07T07:04:27Z</dcterms:modified>
  <cp:revision>95</cp:revision>
  <dc:subject/>
  <dc:title>PowerPoint Presentation</dc:title>
</cp:coreProperties>
</file>