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F725-D930-4D47-B70C-41A6AB63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B17-66DF-4B0E-B59F-104B332D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EFC-81AB-457B-90AA-5A361055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B73-9991-4896-A85A-4CDFD57D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4750-FEBE-42C1-9A9A-47E96569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AD1-60B8-489E-B581-CE54FF79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31C7-EEF9-49D0-ACE7-82425B1F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9101-3454-4B22-9533-BB8D74BD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92C8-A197-4106-832E-FCB4027C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8E5F-FC54-43C6-B691-2407D3D6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2516-F11C-4C8A-A68A-15CB102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507-F8D6-4849-AD48-2C4C55A3F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6C5D-E76E-4173-A9D4-755FBB616D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lection Criter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posed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tegrates multiple and mutually supportive farming system components OR builds new partnerships that will facilitate the longer-term RISING research progr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involves substantive collaboration between at least three organiz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ject will complete reportable results that further the objectives of Feed the Future by September 30, 201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ssing boundaries, one collaborator not a CG cen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velopment partner involv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age with existing or previous initiatives, syner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s are known and mapp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igned with national progr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ilding partnership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 participatory diagnostics to determine concrete issues, develop action plans, design pilot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information baseline for impact assess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t too broad/generic: need focus to be achiev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 materials needed for next planting seas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vide proposals into numerical results versus steps towards networks/partnerships; consider research and development projects separate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gh-potential propos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1: Catalogue of crop varieties; aflatoxins literature review; catalogue of crop management options; off-season seed produc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2: Inventory of system components; mapping of development actors. Would like to see this kind of process tied to a specific probl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p 3: Concerned that the important, strategic projects may not be easily reportable. Training farmers to produce certified seed; dissemination of post-harvest technologies; communication, technology transfer, and outreach strategies; nutrient-enhancing recipes in local languages; identification of networks that support extensio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7:23:25Z</dcterms:created>
  <dc:creator>Windows User</dc:creator>
  <dc:description/>
  <dc:language>en-US</dc:language>
  <cp:lastModifiedBy>eleborgne</cp:lastModifiedBy>
  <dcterms:modified xsi:type="dcterms:W3CDTF">2012-02-09T10:59:21Z</dcterms:modified>
  <cp:revision>4</cp:revision>
  <dc:subject/>
  <dc:title>Early Wins</dc:title>
</cp:coreProperties>
</file>