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4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5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4AA1B-ABC5-4473-88B1-CBC9A3FDD2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2ADF5-D084-4611-B7D2-C7C1416495A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91785-4AD9-4726-81FF-10DBB7C227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10758-8581-4B8A-B077-75DA0552B9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D8495-FAD3-4CA3-99DF-81187E6036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DA587-D349-4CB6-912B-628BEEFCD5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15584-6353-4E9E-8374-967DA85CEA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FFA52-6207-46AE-A314-90FD568E4A5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CB27D-495D-4160-8C5B-31BBB297E74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46992-3C93-4B39-AD50-738A76611D4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00F43-16FA-4E2C-BA1E-4046CD307B4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06E6A-73D6-4205-BB3A-7DFE58C56C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4DF58-A744-4218-B26B-E4DBA202219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5487E-1376-4A31-977C-ED01929335E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8B399-278F-443B-918C-AD85855DB2C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E779D-7163-4D47-AF19-43120D2DBC7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5FA2F-167D-407D-B479-EC67A1FE604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D86A0-76E0-408F-9A84-7AD6245B3AC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593B7-BE38-41FA-AB98-D0E99B21132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18FCE-FAD7-4CEE-850B-6EAEEA034BB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9E796-8E1C-4F1B-8AD1-DCDB4B2AD55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852DB-8D51-4574-AD02-EC3CB3999A4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841AC-EE0B-46D9-BCBA-80B9D5EFB11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947FE-8E0E-4D96-B817-4598139F5D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5BF21-BC34-43F2-9174-EBFD414AB1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9182A-5BCC-49BA-A4FF-75CA6EC70D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631000" y="6421320"/>
            <a:ext cx="56880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8393A-A444-4E9B-A296-C8DF4C78F8D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grpSp>
        <p:nvGrpSpPr>
          <p:cNvPr id="39" name="Group 3"/>
          <p:cNvGrpSpPr/>
          <p:nvPr/>
        </p:nvGrpSpPr>
        <p:grpSpPr>
          <a:xfrm>
            <a:off x="2327400" y="5987880"/>
            <a:ext cx="3943080" cy="606600"/>
            <a:chOff x="2327400" y="5987880"/>
            <a:chExt cx="3943080" cy="606600"/>
          </a:xfrm>
        </p:grpSpPr>
        <p:pic>
          <p:nvPicPr>
            <p:cNvPr id="40" name="Picture 4" descr=""/>
            <p:cNvPicPr/>
            <p:nvPr/>
          </p:nvPicPr>
          <p:blipFill>
            <a:blip r:embed="rId4"/>
            <a:stretch/>
          </p:blipFill>
          <p:spPr>
            <a:xfrm>
              <a:off x="5162400" y="6121800"/>
              <a:ext cx="1108080" cy="33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" name="Picture 5" descr=""/>
            <p:cNvPicPr/>
            <p:nvPr/>
          </p:nvPicPr>
          <p:blipFill>
            <a:blip r:embed="rId5"/>
            <a:stretch/>
          </p:blipFill>
          <p:spPr>
            <a:xfrm>
              <a:off x="3222720" y="6168600"/>
              <a:ext cx="1561320" cy="245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" name="Picture 6" descr=""/>
            <p:cNvPicPr/>
            <p:nvPr/>
          </p:nvPicPr>
          <p:blipFill>
            <a:blip r:embed="rId6"/>
            <a:stretch/>
          </p:blipFill>
          <p:spPr>
            <a:xfrm>
              <a:off x="2327400" y="5987880"/>
              <a:ext cx="511200" cy="606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sldNum" idx="2"/>
          </p:nvPr>
        </p:nvSpPr>
        <p:spPr>
          <a:xfrm>
            <a:off x="8706960" y="6421320"/>
            <a:ext cx="6447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8A75D-5383-4768-A88D-682CB74D34F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" descr=""/>
          <p:cNvPicPr/>
          <p:nvPr/>
        </p:nvPicPr>
        <p:blipFill>
          <a:blip r:embed="rId3"/>
          <a:stretch/>
        </p:blipFill>
        <p:spPr>
          <a:xfrm>
            <a:off x="0" y="-58680"/>
            <a:ext cx="9144000" cy="1353960"/>
          </a:xfrm>
          <a:prstGeom prst="rect">
            <a:avLst/>
          </a:prstGeom>
          <a:ln w="0">
            <a:noFill/>
          </a:ln>
        </p:spPr>
      </p:pic>
      <p:sp>
        <p:nvSpPr>
          <p:cNvPr id="155" name="TextBox 3"/>
          <p:cNvSpPr/>
          <p:nvPr/>
        </p:nvSpPr>
        <p:spPr>
          <a:xfrm>
            <a:off x="0" y="21337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4" descr="AR_WA_partners.jpg"/>
          <p:cNvPicPr/>
          <p:nvPr/>
        </p:nvPicPr>
        <p:blipFill>
          <a:blip r:embed="rId4"/>
          <a:stretch/>
        </p:blipFill>
        <p:spPr>
          <a:xfrm>
            <a:off x="1295280" y="3809880"/>
            <a:ext cx="6782040" cy="24717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22860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45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40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34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684360" y="1752120"/>
            <a:ext cx="777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925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ational Stakeholders’ Consultation Meeting on Livestock for Africa RISING Phase 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1"/>
          <p:cNvSpPr/>
          <p:nvPr/>
        </p:nvSpPr>
        <p:spPr>
          <a:xfrm>
            <a:off x="1835280" y="465300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uidelines for Group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380880" y="198864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st of priority research for development livestock issues for Africa RISING Phase 2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ree to four livestock technologies for sca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ey actors to be involved in the implementation of livestock related activities in Phase 2 are identified and their potential contribu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raft logical framework with activities based on Phase 2 proposa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76201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alibri"/>
              </a:rPr>
              <a:t>Expected Outputs from Group Wor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68360" y="177336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here will be 3 groups of about 8 persons per gro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Group 1: Leader: Dr Emmanuel Adu; Rapporteur: Dr Addah Wese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Group 2: Leader: Prof Emmanuel Osafo; Rapporteur: Mr Sadat Salif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Group 3: Leader: Dr Victoria Attoh-Kotoku; Rapporteur: Mr Solomon Kon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457200" y="1988640"/>
            <a:ext cx="77724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istency with the Africa RISING project objectives for Phase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ientific sound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easibility (in terms of design, time and budge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ffing capac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calability and potential impa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rtnership requir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engthening crop-livestock integ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8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nkage with human nutr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2184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Criteria for identification of priority issu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1988640"/>
            <a:ext cx="77724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 can score each livestock issue or thematic identified using the six criteria above on the scale of 0 (None/Poor) to 10 (Very High/Excellen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72316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Scoring of different proposed livestock issu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250920" y="3357720"/>
          <a:ext cx="8723160" cy="2371680"/>
        </p:xfrm>
        <a:graphic>
          <a:graphicData uri="http://schemas.openxmlformats.org/drawingml/2006/table">
            <a:tbl>
              <a:tblPr/>
              <a:tblGrid>
                <a:gridCol w="720720"/>
                <a:gridCol w="1079280"/>
                <a:gridCol w="936720"/>
                <a:gridCol w="1008000"/>
                <a:gridCol w="792360"/>
                <a:gridCol w="1008000"/>
                <a:gridCol w="1152360"/>
                <a:gridCol w="1079640"/>
                <a:gridCol w="946080"/>
              </a:tblGrid>
              <a:tr h="36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ss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coring based on selected crite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istenc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ientific qua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asi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ffing capac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ala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tnershi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-L integr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uman nutri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814716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Key points from Phase 2 Proposal on Livest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71600" y="2054160"/>
            <a:ext cx="7772400" cy="43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generic research will complete the loose ends of research on the Sustainable Intensification innovations in phase I as follow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oaden and strengthen partnerships particularly with the private s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cument adequately research outputs through publication of technical and non-technical repor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 a livestock research strategy to increase visibility of livestock-related activities especially those about small ruminants and pi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814716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Key points from Phase 2 Proposal on Livest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71600" y="2054160"/>
            <a:ext cx="7772400" cy="43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generic research will complete the loose ends of research on the Sustainable Intensification innovations in phase I as follow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 more linkages between crop-livestock diversification and human nutr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ek opportunities to link adaptive research with agricultural development projects to add value/complement their activities, and to scale-out tested and validated SI innovations identified from phase I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762012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New Research areas in Phas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2027160"/>
            <a:ext cx="8348760" cy="43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hase II will also explore new research areas and utilization of tools emerging from phase I, identified as follow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engthen crop-livestock integration involving different livestock spec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engthen post-harvest management and value addition, and demonstration of proven technologi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aluate small-scale mechanization (labor-savi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y more attention to climate-smart-agriculture pack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lore the potential of dairy goats and milk processing for improved nutrition and income generatio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250920" y="1218960"/>
            <a:ext cx="864216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107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Logframe– Livestock related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250920" y="1785960"/>
          <a:ext cx="8497800" cy="4738680"/>
        </p:xfrm>
        <a:graphic>
          <a:graphicData uri="http://schemas.openxmlformats.org/drawingml/2006/table">
            <a:tbl>
              <a:tblPr/>
              <a:tblGrid>
                <a:gridCol w="2174760"/>
                <a:gridCol w="2239920"/>
                <a:gridCol w="2163960"/>
                <a:gridCol w="1919160"/>
              </a:tblGrid>
              <a:tr h="107460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roject Outcome 1: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Productivity and resilience of smallholder crop-livestock systems in the Guinea and Sudan savanna zones of West Africa increase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</a:tr>
              <a:tr h="225720">
                <a:tc gridSpan="4">
                  <a:txBody>
                    <a:bodyPr lIns="65160" rIns="651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UTPUT 1.1 Options for more intensive, diversified, productive, and resilient crop-livestock systems valida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0200">
                <a:tc>
                  <a:txBody>
                    <a:bodyPr lIns="65160" rIns="651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CTIV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BJECTIVELY VERIFIABLE INDICATO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marL="9036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EANS/SOURCE OF VERIFI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MPORTANT ASSUMPTION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86040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ctivity 1.1.1: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valuate and disseminate climate-resilient cropping and livestock systems to reduce risk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 marL="9036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0336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ctivity 1.1.2: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est and disseminate a combination of improved breeds, housing, feeding, health and breeding management practices to intensify livestock (sheep, goat, pig, and poultry) production.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4400"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ctivity 1.1.3: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troduce and evaluate dairy breeds of goats and sheep for milk production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65f91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9T10:36:32Z</dcterms:created>
  <dc:creator>IZeledon</dc:creator>
  <dc:description/>
  <dc:language>en-US</dc:language>
  <cp:lastModifiedBy>AA</cp:lastModifiedBy>
  <cp:lastPrinted>2011-10-06T11:45:23Z</cp:lastPrinted>
  <dcterms:modified xsi:type="dcterms:W3CDTF">2016-11-14T17:30:58Z</dcterms:modified>
  <cp:revision>59</cp:revision>
  <dc:subject/>
  <dc:title>Slide 1</dc:title>
</cp:coreProperties>
</file>