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5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6C4C-9C09-48C8-9900-0D3DE71F4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B3BE-89CA-4554-A6AC-BB4F3387692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98190-6F53-4464-BE97-164FB88BE9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11870-3506-4ADF-8F88-75629F591C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427E8-4EF8-4D5C-A64A-75C35DB400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0ABE2-9A4B-46D3-862E-3C160630ED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9B7E0-89A0-4BEF-BB27-95E0D90340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1105D-12D1-4DA5-AAF7-BD7ACDD73CE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8CE4B-FFB7-4296-9940-819E278C8E6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BD2E1-7058-4128-80BA-DE66A72AE6C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D6346-1B50-46B4-AE53-97E74673F48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4055C-A4FC-4D25-ADB9-CD29E45564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9F42E-EBE4-4BC1-B04A-52A7E9EDE55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D1764-15F2-4715-823A-FC50E4AAAE8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3F240-F509-4F80-8691-B2B93B04A03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4CF33-6A4A-446E-ACB4-D57AFE924AB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C828E-9411-4A19-BC7F-96EB1828374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B08D5-EADD-4A62-B585-E5414A2B363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66838-4CBB-4204-9966-FFDBB055CDF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417A1-7340-426D-B486-1BE1F423EEE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8DAA1-ADC9-40DC-AB62-FCCA53D7858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9D24F-4C25-44D5-B116-962A6A28075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4A5D7-64EB-4C7B-A227-E212F23E0B1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D6EF7-BC1C-4009-993E-A33CC61A7C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7CADA-0013-460D-8A76-E49FBEFA09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4697A-27B4-44FC-8C1C-F5C1516794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64FB-B01B-4C28-BC77-FF1437BF8E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3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8706960" y="64213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9A44-F971-43D1-B166-3C5E6D7C01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21337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AR_WA_partners.jpg"/>
          <p:cNvPicPr/>
          <p:nvPr/>
        </p:nvPicPr>
        <p:blipFill>
          <a:blip r:embed="rId4"/>
          <a:stretch/>
        </p:blipFill>
        <p:spPr>
          <a:xfrm>
            <a:off x="1295280" y="3809880"/>
            <a:ext cx="6782040" cy="2471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4360" y="17521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92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ational Stakeholders’ Consultation Meeting on Livestock for Africa RISING Phase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1"/>
          <p:cNvSpPr/>
          <p:nvPr/>
        </p:nvSpPr>
        <p:spPr>
          <a:xfrm>
            <a:off x="1835280" y="465300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uidelines for Group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80880" y="198864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 of priority research for development livestock issues for Africa RISING Phase 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e to four livestock technologies for sca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actors to be involved in the implementation of livestock related activities in Phase 2 are identified and their potential contrib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ft logical framework with activities based on Phase 2 propos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Expected Outputs from Group 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will be 3 groups of about 8 persons per gro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roup 1: Leader: Dr Emmanuel Adu; Rapporteur: Dr Addah Wese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roup 2: Leader: Prof Emmanuel Osafo; Rapporteur: Mr Sadat Salif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roup 3: Leader: Dr Victoria Attoh-Kotoku; Rapporteur: Mr Solomon Kon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988640"/>
            <a:ext cx="777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ency with the Africa RISING project objectives for Phase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ientific sound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asibility (in terms of design, time and budge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ffing capa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alability and potential imp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nership requi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ing crop-livestock integ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nkage with human nutr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2184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riteria for identification of priority 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988640"/>
            <a:ext cx="777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can score each livestock issue or thematic identified using the six criteria above on the scale of 0 (None/Poor) to 10 (Very High/Excell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2316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Scoring of different proposed livestock 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50920" y="3357720"/>
          <a:ext cx="8723160" cy="2371680"/>
        </p:xfrm>
        <a:graphic>
          <a:graphicData uri="http://schemas.openxmlformats.org/drawingml/2006/table">
            <a:tbl>
              <a:tblPr/>
              <a:tblGrid>
                <a:gridCol w="720720"/>
                <a:gridCol w="1079280"/>
                <a:gridCol w="936720"/>
                <a:gridCol w="1008000"/>
                <a:gridCol w="792360"/>
                <a:gridCol w="1008000"/>
                <a:gridCol w="1152360"/>
                <a:gridCol w="1079640"/>
                <a:gridCol w="946080"/>
              </a:tblGrid>
              <a:tr h="36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oring based on selected crit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ist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ientific qua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a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ffing capac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al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nersh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-L integ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man nutri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14716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Key points from Phase 2 Proposal on Livest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71600" y="2054160"/>
            <a:ext cx="777240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generic research will complete the loose ends of research on the Sustainable Intensification innovations in phase I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aden and strengthen partnerships particularly with the private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cument adequately research outputs through publication of technical and non-technical rep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 a livestock research strategy to increase visibility of livestock-related activities especially those about small ruminants and pi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14716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Key points from Phase 2 Proposal on Livest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71600" y="2054160"/>
            <a:ext cx="777240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generic research will complete the loose ends of research on the Sustainable Intensification innovations in phase I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 more linkages between crop-livestock diversification and human nutr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ek opportunities to link adaptive research with agricultural development projects to add value/complement their activities, and to scale-out tested and validated SI innovations identified from phase 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New Research areas in Phas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2027160"/>
            <a:ext cx="83487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ase II will also explore new research areas and utilization of tools emerging from phase I, identified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 crop-livestock integration involving different livestock spe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 post-harvest management and value addition, and demonstration of proven technolog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luate small-scale mechanization (labor-sav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y more attention to climate-smart-agriculture pack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lore the potential of dairy goats and milk processing for improved nutrition and income genera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50920" y="1218960"/>
            <a:ext cx="8642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07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Logframe– Livestock related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50920" y="1785960"/>
          <a:ext cx="8497800" cy="4738680"/>
        </p:xfrm>
        <a:graphic>
          <a:graphicData uri="http://schemas.openxmlformats.org/drawingml/2006/table">
            <a:tbl>
              <a:tblPr/>
              <a:tblGrid>
                <a:gridCol w="2174760"/>
                <a:gridCol w="2239920"/>
                <a:gridCol w="2163960"/>
                <a:gridCol w="1919160"/>
              </a:tblGrid>
              <a:tr h="107460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ject Outcome 1: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Productivity and resilience of smallholder crop-livestock systems in the Guinea and Sudan savanna zones of West Africa increase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25720">
                <a:tc gridSpan="4"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UTPUT 1.1 Options for more intensive, diversified, productive, and resilient crop-livestock systems valid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CTIVELY VERIFIABLE INDICA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marL="9036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ANS/SOURCE OF VE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MPORTANT ASSUMPTION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86040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tivity 1.1.1: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valuate and disseminate climate-resilient cropping and livestock systems to reduce risk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marL="9036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033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tivity 1.1.2: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st and disseminate a combination of improved breeds, housing, feeding, health and breeding management practices to intensify livestock (sheep, goat, pig, and poultry) production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440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tivity 1.1.3: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troduce and evaluate dairy breeds of goats and sheep for milk produc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10:36:32Z</dcterms:created>
  <dc:creator>IZeledon</dc:creator>
  <dc:description/>
  <dc:language>en-US</dc:language>
  <cp:lastModifiedBy>AA</cp:lastModifiedBy>
  <cp:lastPrinted>2011-10-06T11:45:23Z</cp:lastPrinted>
  <dcterms:modified xsi:type="dcterms:W3CDTF">2016-11-14T17:30:58Z</dcterms:modified>
  <cp:revision>59</cp:revision>
  <dc:subject/>
  <dc:title>Slide 1</dc:title>
</cp:coreProperties>
</file>