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962B-5C1A-41A7-969E-66A302B18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52C7-9968-4667-83E0-28A2E852FF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7894-70BB-450B-81C8-4CBD432BC4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A3D2-CF93-44FA-8960-730211BA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5557-E648-4592-9972-30AE077B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40D6-E62C-40B2-97BD-75B8F4B7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720E-C722-49C8-BCE0-3C446537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D7F-6804-454A-BBB0-4D900EEA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4EC2-F43A-425B-9DB9-8DA62D69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0D2-6BD9-4A3F-BA93-9EB2DF5D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C04C-B6C9-4ED2-B722-995F7ACE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BB09-3FA5-4622-BC81-90771B08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F091-F59F-44BF-A3AF-DEFCC637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63A7-DEA8-4132-BA32-23731EFD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8D9A-20FE-4702-BF14-2F8D5896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8515-5BF5-4954-B5EE-1DEB737A8B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6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mplementation Strateg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ngagement with farmers and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arification of roles (incl. limited nature of engagement) and expec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selection should be inclusive and transpar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emerging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ngagement with farmers and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entive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Very sensitive matter that needs to be handled carefully (basically no handing out money to participants when they come to training meetings in the villag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ensation guidelines for events such as training outside the village, exchange visits have guidelines that we need to follow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ther actors may be doing it, but we need to avoi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13800" indent="-21924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puts (not free, but we need to hear from the experienced partner, NAFAKA on how this is done from this ang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eam eng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utual resp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communication ( and feedback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bcontractors should follow engagement standard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NAFAKA 2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ffing in NAFAKA original locations (Zone 1) and new locations (Zone 2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eographical fit of the partnership projec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it from locations where NAFAKA is not presen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53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454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6-07-05T05:51:43Z</dcterms:modified>
  <cp:revision>19</cp:revision>
  <dc:subject/>
  <dc:title>PowerPoint Presentation</dc:title>
</cp:coreProperties>
</file>