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7CB4-3310-4C37-8437-2AE45845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2F80-8C10-4C18-8AF2-D6A61AD1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F341-F286-4E27-AA27-25DB3B9D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CD69-110A-4BCB-9113-59762421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C27-5DAF-42D4-9903-25156D39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503-1883-40B2-8D68-BC73FD6E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8439-3B30-4190-A405-AAACDA1F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782-4139-4F18-95E0-53A9C29A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BE8-3EA6-46A3-A7FE-3F32720BE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F58-0282-4BF0-92A0-07B5BBEA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B886-1053-47F2-AB44-A0718B79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0B8-43B5-4025-AF8F-FE41B3BC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6726-13DB-4E2A-B945-E3CBEFC2B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iller Interventions’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rig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benefits: raises water productivity; double the cropping season and thus yields; greater food security and cash income; high value crops; integration with other components (fruit trees, legumes, grains, fod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sible Issues: siltation; upstream/downstream conflicts and competition; glut on market; equity issues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rofore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soil fertility; reduce soil erosion; cash income; food; fodder; construction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fic practices: improved fallow; trees on farm; woodlots; fencing,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competition over limited space; ownership of trees; establishment challenges (management, livestock predation); labor; access to seed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high yielding varieties increasing harvest for food and cash; fodder; fuel; thatc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access to markets for inputs (fertilizer, herbicides); land preparation and management; trade-offs of improved variety for grain versus fodder needs; quality of grain affected by man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 and sweet potato benefits: high value per unit of water; can store in field; food security – fills hunger gap; cash crop not as affected by global price fluctuations; high yielding ‘lazy farmer’ crop; drought resistant; relay crop; good in rotation; use of residual soil moisture; dual purpose – fodder and food; Vitamin A from orange-fleshed sweet potato – addressed malnutrition; new storage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tatoes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torage, weight-distance to market, rainy season spoilage (though improved varieties address this)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e Rid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benefits: yield increases; improved water 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sible issues: soils; slope; la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ps for Re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 a conceptual framework to rapidly assess complex system to determine possible inven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ckground 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y facilitation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tor and Institution map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earch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earch on the process: what are the impacts of the conceptual approach and implementation on the project outco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tors affecting ado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best approach and operationalize integ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1:09:35Z</dcterms:created>
  <dc:creator>Katherine</dc:creator>
  <dc:description/>
  <dc:language>en-US</dc:language>
  <cp:lastModifiedBy>Katherine</cp:lastModifiedBy>
  <dcterms:modified xsi:type="dcterms:W3CDTF">2012-02-01T12:21:20Z</dcterms:modified>
  <cp:revision>7</cp:revision>
  <dc:subject/>
  <dc:title>‘Killer Interventions’</dc:title>
</cp:coreProperties>
</file>