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93EA-4468-4F35-AF21-320748B3C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7D55-286A-4984-BFD0-2591EC28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7634-0568-43A6-820A-196DB2D7C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233F-1041-4FDB-80C3-11807C528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7B5A-9F97-4968-83B4-4FB4CA18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EF77-DCE5-4653-865A-82BC6337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8EC4-020D-4390-9EBC-1614671D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0596-2724-45DA-A6D2-3F44D2B6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8F07-9E45-4717-ADF6-DDE41D5D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FA00-C24F-4CCB-A107-EB1C5923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9687-9BC4-4E7F-B65D-592FD79D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1166-84D3-4C2E-AA73-B26A21F7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B34A-6F8C-4F5E-ACF9-C5AE33AB10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70452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h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h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h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00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est officially released vegetable varieties and associated technologies in rotation, relay, mixed cro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Vegetables already released by the Tanzanian govern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VRDC, HORT CRS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8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itiate partnerships with stakeholders especially farmer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etter ensures relevance with what we should 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ITA (TZ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apacity building in crucial areas (field agents, nutrition) in preparation for participation in the 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eed skilled and knowledgeable partners in component technolo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search groups of the specific technolo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2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Extension of animal feeding technologies that lead to rapid fattening or increased milk/meat/egg p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Will create a link between the project and the part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District ag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6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raining farmer groups to produce quality declared (certified) s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Making seed of superior varieties available 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SCI, District agents, CG centers  involv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4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Building networks/relationship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lignment of SI technologies with mar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dentify market opportun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gional traders, PPP, IFP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ommunication, technology transfer and outreach strategy (field days, 8-8, seedfairs, on-farm demos, leaflets et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Reach thousands of people; supporting the project stimulate interest of stakeholders about project out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ational programmes, supported by IITA/local researc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Identification of potential students (selection and placement of MSc. And PhD studen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Human capital; sustainable program operations; capacity buil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roject partners, CRS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utrient enhancing recipes in local langu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lready being done by AVRDC, requires scaling 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VR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ost-harvest technologies for longer and safer sto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ncrease food supply/safety and improve nutr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ivate sector, TFNC, IITA, AVRD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47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Nutrient dense varieties (eg. Fortified maize varieties, iron-reach mung-bean, protein rich soy bean, vitamin-rich vegetabl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Optimization of components of systems intensification. Improve nutrient level of vulnerable grou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ject partners especially ICRISAT, ILRI, AVRDC. Linkages with HarvestPlus, Peanut CSR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99444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205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Participatory Diagnosis of opportunities for systems intensification; Farmer-identified priorities for 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o identify the best local opportunities for intensifying local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Outreach partners, farmers and other stakehold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ush-pull technique for  stem borer control and forage produ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an be done together with variety evaluation; integration of livestock and c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LRI, CIAT, NARS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Identification of networks that support knowledge prov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To know who potential partners are local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roject partners, SANREM CRSP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3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ppropriate and safe soil, water and pest management options for produc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Co-adapt with farmers available soil, water and pest management technologies to boost current vegetable productivity in a cereal-vegetable-livestock system contex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VRDC, CIAT, IITA, ILRI, N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7:06:57Z</dcterms:created>
  <dc:creator>cojiewo</dc:creator>
  <dc:description/>
  <dc:language>en-US</dc:language>
  <cp:lastModifiedBy>eleborgne</cp:lastModifiedBy>
  <dcterms:modified xsi:type="dcterms:W3CDTF">2012-02-08T11:28:45Z</dcterms:modified>
  <cp:revision>14</cp:revision>
  <dc:subject/>
  <dc:title>Slide 1</dc:title>
</cp:coreProperties>
</file>