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1984-4698-45BE-B209-36FEB5F76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0380-5241-4489-AA44-622A8C70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EB35-773E-4BD2-822C-047F4C26B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B83C-47CB-4A6F-AA72-E68961E5D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EEC3-5195-4AAC-95DD-75D290E3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3B85-94F5-4118-9F96-D7D2351A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92AC-ACDF-427D-84D5-5BEFC714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36EB-D95F-4BA5-A00C-AF3E53F7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4ED7-E6D4-439F-A3D2-848823E3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4277-5D4B-4C86-98E4-3A91D7F6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AF73-E304-44CC-BC8F-1E3F73BE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56A9-9EDB-4B34-B094-E64033E5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BC5B-FF1D-4EE1-AF6D-AAC39B224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africamap"/>
          <p:cNvPicPr/>
          <p:nvPr/>
        </p:nvPicPr>
        <p:blipFill>
          <a:blip r:embed="rId1"/>
          <a:stretch/>
        </p:blipFill>
        <p:spPr>
          <a:xfrm>
            <a:off x="6134040" y="333360"/>
            <a:ext cx="3009960" cy="2300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87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ustainable Intensification of Cereal-based Farming Systems in the Sudano-Sahelian Zone of West Africa: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ing the Draft Concept Note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I. Hoeschle-Zele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5932440"/>
            <a:ext cx="914400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tainable Intensification of Cereal-based Farming Systems in the Sudano-Sahelian Zone of West Africa: Project Design Workshop, Tamale, Ghana, 9-12 Jan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laborative effort by colleagues from ICRISAT, ILRI, CIAT, ICRAF, AfricaRice, IMWI, IFPRI, AVRCD, and IITA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mary partners, others will be part of the further project design process, project implementation and dissemination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 outputs for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ject leader: IITA</a:t>
            </a:r>
            <a:br>
              <a:rPr sz="32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4"/>
          <p:cNvSpPr/>
          <p:nvPr/>
        </p:nvSpPr>
        <p:spPr>
          <a:xfrm flipV="1">
            <a:off x="4067280" y="98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verall objective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rove livelihoods through sustainably increased productivity of cereal-legume-tree-horticulture-livestock integrated farming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project addressing 3 cereal-based farming systems (compon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­ ma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orghum/mil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ric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ographic focu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92088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rther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hana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Northern, Upper East, Upper West Regions;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ze, rice, sorghum, pearl mil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outher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Mali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ikasso Region (similar agro-eco zone, extends into drier areas north); sorghum, pearl millet, ma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verty level, food insecurity risk, gender inequity, potential for productivity improvement with manifold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earch sites: tbd at thi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&amp;E: Impact evaluation, scaling up and out assessments,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d by IFPRI, separate f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ject duration: 5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ding: US$ 3.2m/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8T13:13:07Z</dcterms:created>
  <dc:creator>zeledon</dc:creator>
  <dc:description/>
  <dc:language>en-US</dc:language>
  <cp:lastModifiedBy>PBallantyne</cp:lastModifiedBy>
  <dcterms:modified xsi:type="dcterms:W3CDTF">2012-01-10T07:22:25Z</dcterms:modified>
  <cp:revision>7</cp:revision>
  <dc:subject/>
  <dc:title>Sustainable Intensification of Cereal-based Farming Systems in the Sudano-Sahelian Zone</dc:title>
</cp:coreProperties>
</file>