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F0C8-955D-4B92-AF3D-B84BA1C6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2768-056B-4C19-8C71-9488E7B2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DBF-ABF6-4316-B8D9-2708F9D27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3E37-E1D6-42A2-B669-A1F3263A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30E-C5BE-4746-BECD-85F82B52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E8BE-4E86-46AA-AFFA-50F868815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49F7-2AD5-4D83-A4B1-76B08F74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3290-9E63-4BED-809E-C19498B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9650-F676-49A5-A5E3-8328532A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D2E-3C85-4C8C-A27B-B1FAEAF2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B5F-3368-4FB0-A059-BB47D37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F75-647C-41D8-AF7B-1BCF9FEF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0DA1-F436-4810-A715-D6183F2EA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fricamap"/>
          <p:cNvPicPr/>
          <p:nvPr/>
        </p:nvPicPr>
        <p:blipFill>
          <a:blip r:embed="rId1"/>
          <a:stretch/>
        </p:blipFill>
        <p:spPr>
          <a:xfrm>
            <a:off x="6134040" y="333360"/>
            <a:ext cx="3009960" cy="230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ing the Draft Concept Not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I. Hoeschle-Zele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93244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effort by colleagues from ICRISAT, ILRI, CIAT, ICRAF, AfricaRice, IMWI, IFPRI, AVRCD, and IIT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partners, others will be part of the further project design process, project implementation and dissemin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outputs fo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leader: IITA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067280" y="98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 livelihoods through sustainably increased productivity of cereal-legume-tree-horticulture-livestock integrated farm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roject addressing 3 cereal-based farming systems (com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­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rghum/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ographic foc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208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r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han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thern, Upper East, Upper West Region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ze, rice, sorghum, pearl 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u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ali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kasso Region (similar agro-eco zone, extends into drier areas north); sorghum, pearl millet,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level, food insecurity risk, gender inequity, potential for productivity improvement with manifol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sites: tbd at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&amp;E: Impact evaluation, scaling up and out assessment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 by IFPRI, separate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duration: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: US$ 3.2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3:13:07Z</dcterms:created>
  <dc:creator>zeledon</dc:creator>
  <dc:description/>
  <dc:language>en-US</dc:language>
  <cp:lastModifiedBy>PBallantyne</cp:lastModifiedBy>
  <dcterms:modified xsi:type="dcterms:W3CDTF">2012-01-10T07:22:25Z</dcterms:modified>
  <cp:revision>7</cp:revision>
  <dc:subject/>
  <dc:title>Sustainable Intensification of Cereal-based Farming Systems in the Sudano-Sahelian Zone</dc:title>
</cp:coreProperties>
</file>