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1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CDC-6B21-4B7A-8034-8BEAE0559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34E5-BA14-4C10-A3DE-0E4F17D85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51CC-CC16-446D-A80B-E96C3FE0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E5E9-03DE-42BB-94E0-23E66631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3CAD-69CE-47AA-BC95-218E6AA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92F-7D8D-4C3F-9ACC-0B2267FA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7F13-DF1A-4534-8D1C-9E854692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D660-D218-4EA9-BCF8-6095DA48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6800-577A-4F05-B7A0-E948346B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C23-0FE2-4387-88A5-E8A498F0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5F3-B8FB-42DD-8BBC-A3325FD50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590-B19B-4667-8D2A-6E6A3995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461-E71F-41B4-9202-5C5BDFFD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7806-7F6A-4F7E-981C-4FDD0B27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9593-936C-4982-B313-2DCE5DEC800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47320" y="1447560"/>
            <a:ext cx="771516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5000"/>
          </a:bodyPr>
          <a:p>
            <a:pPr marL="6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FRICA RISING- 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ill Sans"/>
              </a:rPr>
              <a:t>Maize Based Syst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0200" y="4302000"/>
            <a:ext cx="616428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right Jumbo, Swai Elirehema, Freddy Baijukya, Anthony Kimaro, Zubeda Mduruma, Silvanus Mruma, Haroon Sseguya, Job Kihara, Fred Kizito, Chacha Watanga, Yangole, Einothy Laizer, Flavia, Elvis and many others ……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633040" y="2939760"/>
            <a:ext cx="631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PMingLiU"/>
              </a:rPr>
              <a:t>Table 1. Names of districts and Villages selected for mother and baby demons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39760" y="1401840"/>
          <a:ext cx="8729640" cy="5218200"/>
        </p:xfrm>
        <a:graphic>
          <a:graphicData uri="http://schemas.openxmlformats.org/drawingml/2006/table">
            <a:tbl>
              <a:tblPr/>
              <a:tblGrid>
                <a:gridCol w="898560"/>
                <a:gridCol w="1003320"/>
                <a:gridCol w="841320"/>
                <a:gridCol w="1262160"/>
                <a:gridCol w="892080"/>
                <a:gridCol w="1023840"/>
                <a:gridCol w="1146240"/>
                <a:gridCol w="1063440"/>
                <a:gridCol w="598680"/>
              </a:tblGrid>
              <a:tr h="26064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6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l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laya Kibao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urugum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igi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wad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eng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ump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`o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hi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i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ti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ye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ll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ng'om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igu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gu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o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an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do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gara 'A'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pere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uf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’uruh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a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yaman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gu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nga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lole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ke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um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g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mbin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dali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wan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hi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uy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buru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n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60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dud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20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vil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  <p:sp>
        <p:nvSpPr>
          <p:cNvPr id="259" name="Rectangle 98"/>
          <p:cNvSpPr/>
          <p:nvPr/>
        </p:nvSpPr>
        <p:spPr>
          <a:xfrm>
            <a:off x="468360" y="328320"/>
            <a:ext cx="8305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Names of districts and Villages selected for mother and baby demonstrations in 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92040" y="2666880"/>
          <a:ext cx="8501040" cy="3299040"/>
        </p:xfrm>
        <a:graphic>
          <a:graphicData uri="http://schemas.openxmlformats.org/drawingml/2006/table">
            <a:tbl>
              <a:tblPr/>
              <a:tblGrid>
                <a:gridCol w="1443240"/>
                <a:gridCol w="1346040"/>
                <a:gridCol w="895320"/>
                <a:gridCol w="1346400"/>
                <a:gridCol w="1004760"/>
                <a:gridCol w="1320840"/>
                <a:gridCol w="1144440"/>
              </a:tblGrid>
              <a:tr h="900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moth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mother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baby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baby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number dem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total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8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99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0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ea5d8"/>
                    </a:solidFill>
                  </a:tcPr>
                </a:tc>
              </a:tr>
            </a:tbl>
          </a:graphicData>
        </a:graphic>
      </p:graphicFrame>
      <p:sp>
        <p:nvSpPr>
          <p:cNvPr id="261" name="Rectangle 1"/>
          <p:cNvSpPr/>
          <p:nvPr/>
        </p:nvSpPr>
        <p:spPr>
          <a:xfrm>
            <a:off x="316080" y="1556280"/>
            <a:ext cx="85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in the seven districts in 2016 vs targeted number of demos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74600" y="2125800"/>
          <a:ext cx="8707320" cy="3539880"/>
        </p:xfrm>
        <a:graphic>
          <a:graphicData uri="http://schemas.openxmlformats.org/drawingml/2006/table">
            <a:tbl>
              <a:tblPr/>
              <a:tblGrid>
                <a:gridCol w="1011240"/>
                <a:gridCol w="827280"/>
                <a:gridCol w="277560"/>
                <a:gridCol w="865440"/>
                <a:gridCol w="826920"/>
                <a:gridCol w="795240"/>
                <a:gridCol w="292320"/>
                <a:gridCol w="784080"/>
                <a:gridCol w="754200"/>
                <a:gridCol w="766800"/>
                <a:gridCol w="836280"/>
                <a:gridCol w="669960"/>
              </a:tblGrid>
              <a:tr h="253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50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oth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baby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number dem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arn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3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inga Ru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  <p:sp>
        <p:nvSpPr>
          <p:cNvPr id="263" name="Rectangle 1"/>
          <p:cNvSpPr/>
          <p:nvPr/>
        </p:nvSpPr>
        <p:spPr>
          <a:xfrm>
            <a:off x="316080" y="731520"/>
            <a:ext cx="854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ther and baby demonstrations across target districts in 2015, 2016 and 2017 and number of anticipated learners compared to 2017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511200" y="1317240"/>
            <a:ext cx="77724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Field Day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423720" y="2122560"/>
          <a:ext cx="8393400" cy="4083120"/>
        </p:xfrm>
        <a:graphic>
          <a:graphicData uri="http://schemas.openxmlformats.org/drawingml/2006/table">
            <a:tbl>
              <a:tblPr/>
              <a:tblGrid>
                <a:gridCol w="1094040"/>
                <a:gridCol w="876240"/>
                <a:gridCol w="876240"/>
                <a:gridCol w="876240"/>
                <a:gridCol w="874800"/>
                <a:gridCol w="291960"/>
                <a:gridCol w="876600"/>
                <a:gridCol w="876240"/>
                <a:gridCol w="874440"/>
                <a:gridCol w="876600"/>
              </a:tblGrid>
              <a:tr h="325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fe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m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2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1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0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5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544680" y="13060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2" descr="E:\africa RISING 2017\photo for march aprl may 2017\100PHOTO\SAM_7396.JPG"/>
          <p:cNvPicPr/>
          <p:nvPr/>
        </p:nvPicPr>
        <p:blipFill>
          <a:blip r:embed="rId1"/>
          <a:stretch/>
        </p:blipFill>
        <p:spPr>
          <a:xfrm>
            <a:off x="6216480" y="1549440"/>
            <a:ext cx="2806920" cy="210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68" name=""/>
          <p:cNvGraphicFramePr/>
          <p:nvPr/>
        </p:nvGraphicFramePr>
        <p:xfrm>
          <a:off x="119160" y="2222640"/>
          <a:ext cx="5878440" cy="3396960"/>
        </p:xfrm>
        <a:graphic>
          <a:graphicData uri="http://schemas.openxmlformats.org/drawingml/2006/table">
            <a:tbl>
              <a:tblPr/>
              <a:tblGrid>
                <a:gridCol w="1076400"/>
                <a:gridCol w="609480"/>
                <a:gridCol w="687240"/>
                <a:gridCol w="824040"/>
                <a:gridCol w="206280"/>
                <a:gridCol w="825480"/>
                <a:gridCol w="824040"/>
                <a:gridCol w="825480"/>
              </a:tblGrid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bo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lo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4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5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5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269" name="Picture 4" descr="E:\DCIM\100PHOTO\SAM_4170.JPG"/>
          <p:cNvPicPr/>
          <p:nvPr/>
        </p:nvPicPr>
        <p:blipFill>
          <a:blip r:embed="rId2"/>
          <a:stretch/>
        </p:blipFill>
        <p:spPr>
          <a:xfrm>
            <a:off x="6167520" y="4111560"/>
            <a:ext cx="2855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76280" y="9410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Arial Black"/>
              </a:rPr>
              <a:t>Planning Meetings and Field Day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1" name="Content Placeholder 3" descr="SAM_0861"/>
          <p:cNvPicPr/>
          <p:nvPr/>
        </p:nvPicPr>
        <p:blipFill>
          <a:blip r:embed="rId1"/>
          <a:stretch/>
        </p:blipFill>
        <p:spPr>
          <a:xfrm>
            <a:off x="6033960" y="1817640"/>
            <a:ext cx="2867040" cy="21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72" name="Picture 4" descr="E:\Field day picture\Riroda School\DSC02393.JPG"/>
          <p:cNvPicPr/>
          <p:nvPr/>
        </p:nvPicPr>
        <p:blipFill>
          <a:blip r:embed="rId2"/>
          <a:stretch/>
        </p:blipFill>
        <p:spPr>
          <a:xfrm>
            <a:off x="536400" y="1319040"/>
            <a:ext cx="3975120" cy="2791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bjumbo\Desktop\Field days Kilosa\DSC_1510.JPG"/>
          <p:cNvPicPr/>
          <p:nvPr/>
        </p:nvPicPr>
        <p:blipFill>
          <a:blip r:embed="rId3"/>
          <a:stretch/>
        </p:blipFill>
        <p:spPr>
          <a:xfrm>
            <a:off x="6296040" y="4267080"/>
            <a:ext cx="2739960" cy="21243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8" descr="Description: C:\Users\EYSWAI\Desktop\NGIPA harvesting 2015\100PHOTO\SAM_0921.JPG"/>
          <p:cNvPicPr/>
          <p:nvPr/>
        </p:nvPicPr>
        <p:blipFill>
          <a:blip r:embed="rId4"/>
          <a:stretch/>
        </p:blipFill>
        <p:spPr>
          <a:xfrm>
            <a:off x="409680" y="4371840"/>
            <a:ext cx="410184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1200" y="1428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Where did we do bes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873160"/>
            <a:ext cx="8229600" cy="32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Successful establishment of demonstration plots across all target distr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Field day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44680" y="9475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 - Babati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78" name="Content Placeholder 3" descr=""/>
          <p:cNvPicPr/>
          <p:nvPr/>
        </p:nvPicPr>
        <p:blipFill>
          <a:blip r:embed="rId1"/>
          <a:stretch/>
        </p:blipFill>
        <p:spPr>
          <a:xfrm>
            <a:off x="1436760" y="1600200"/>
            <a:ext cx="6696000" cy="386388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4"/>
          <p:cNvSpPr/>
          <p:nvPr/>
        </p:nvSpPr>
        <p:spPr>
          <a:xfrm>
            <a:off x="1371600" y="5522760"/>
            <a:ext cx="74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grain yield observed under different varieties and treatments in mother demonstrations for three communities (Hallu, Ayamango and Orngadida) within the low altitude low rainfall agro-ecozone in Babati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 Kitet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4"/>
          <p:cNvSpPr/>
          <p:nvPr/>
        </p:nvSpPr>
        <p:spPr>
          <a:xfrm>
            <a:off x="1447920" y="6045120"/>
            <a:ext cx="70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at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ong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522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4"/>
          <p:cNvSpPr/>
          <p:nvPr/>
        </p:nvSpPr>
        <p:spPr>
          <a:xfrm>
            <a:off x="1109520" y="60228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maize grain yields under baby plots in Kongwa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 Placeholder 1"/>
          <p:cNvSpPr/>
          <p:nvPr/>
        </p:nvSpPr>
        <p:spPr>
          <a:xfrm>
            <a:off x="314280" y="2543040"/>
            <a:ext cx="856296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MMY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Maize and Wheat Improvement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CIAT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Centr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CRAF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World Agroforestry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RI-Hombolo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Research Institute, Hombol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IT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International Institute for Tropical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NAFAKA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Tanzania Staples Value Chain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MINATA Quality S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ARI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SELIAN agricultural Research S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Meru Agro S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"/>
              </a:rPr>
              <a:t>Agricultural Extension. Ministry of Agri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451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-Kilolo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87" name="Content Placeholder 3" descr=""/>
          <p:cNvPicPr/>
          <p:nvPr/>
        </p:nvPicPr>
        <p:blipFill>
          <a:blip r:embed="rId1"/>
          <a:stretch/>
        </p:blipFill>
        <p:spPr>
          <a:xfrm>
            <a:off x="457200" y="1163520"/>
            <a:ext cx="8229600" cy="45309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1557360" y="5495760"/>
            <a:ext cx="71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ze response to various types of fertilizer at agronomic recommended rate and blanket rate in Mother Demonstrations in Kilol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Key resul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ilos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Chart 3" descr=""/>
          <p:cNvPicPr/>
          <p:nvPr/>
        </p:nvPicPr>
        <p:blipFill>
          <a:blip r:embed="rId1"/>
          <a:stretch/>
        </p:blipFill>
        <p:spPr>
          <a:xfrm>
            <a:off x="1785960" y="1305000"/>
            <a:ext cx="6553080" cy="39988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4"/>
          <p:cNvSpPr/>
          <p:nvPr/>
        </p:nvSpPr>
        <p:spPr>
          <a:xfrm>
            <a:off x="1938240" y="5580000"/>
            <a:ext cx="576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s of improved maize variety in the mother demonstration sites in Kilosa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85640" y="693360"/>
            <a:ext cx="82296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Other outpu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5000" y="1247400"/>
            <a:ext cx="8458200" cy="53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tocols for setting up demonstration plots for groundnuts, maize, beans, and soybean were developed and are in us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eld maps and field books avail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FAKA agronomists have been trained on implementation of demonstrations and the protocols to be used for setting up demonstration plo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xtension staff have been tr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oduction guide- These have been developed but need to be finalized together with NAFAK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Recommending a stakeholder meeting that includes the Ministry of Agriculture to look at the draf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CT has been introduced in some projec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7840" y="118116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Challen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2257560"/>
            <a:ext cx="8229600" cy="38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drought in Kongwa, Kiteto and baba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sect pests outbreak (Fall Armywo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ional challenges in sites where our partners such as NAFAKA are not pres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ever this is addressed by engaging exten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ft of crops in the field (Mai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38120" y="703440"/>
            <a:ext cx="8229600" cy="67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uture Pla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more Trai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ish production guid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rvesting (collect da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s project has potential impacts but we need continued support to mature the implemen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028600" y="893520"/>
            <a:ext cx="6686280" cy="73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for providing financial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 our valued partners for their suppo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0680" y="571320"/>
            <a:ext cx="822960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23232"/>
                </a:solidFill>
                <a:latin typeface="Calibri"/>
              </a:rPr>
              <a:t>Summary description of Key Activities of Maize Based Systems Component</a:t>
            </a:r>
            <a:endParaRPr b="0" lang="en-US" sz="3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14000" y="1858680"/>
            <a:ext cx="494172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improved crop varieties (maize, beans, groundnuts, soybean) to improv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e best bet agronomic management options to enhance crop productivity in target s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e land, soil and water conservation technologies for sustainable use of land, soil and water in project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 algn="just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mpower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3" descr="Maze photo.jpg"/>
          <p:cNvPicPr/>
          <p:nvPr/>
        </p:nvPicPr>
        <p:blipFill>
          <a:blip r:embed="rId1"/>
          <a:stretch/>
        </p:blipFill>
        <p:spPr>
          <a:xfrm>
            <a:off x="5562720" y="1569960"/>
            <a:ext cx="3483000" cy="2054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Users\user\Desktop\URGEST090315\Kongwa Mand E_09032015\touse\groundnut\vihingo\Farmers marvel atgrowthdiffoptioins.JPG"/>
          <p:cNvPicPr/>
          <p:nvPr/>
        </p:nvPicPr>
        <p:blipFill>
          <a:blip r:embed="rId2"/>
          <a:stretch/>
        </p:blipFill>
        <p:spPr>
          <a:xfrm>
            <a:off x="5562720" y="3973680"/>
            <a:ext cx="3483000" cy="26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15998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Gill Sans"/>
              </a:rPr>
              <a:t>Core Activities</a:t>
            </a:r>
            <a:endParaRPr b="0" lang="en-US" sz="3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Title 1"/>
          <p:cNvSpPr/>
          <p:nvPr/>
        </p:nvSpPr>
        <p:spPr>
          <a:xfrm>
            <a:off x="409680" y="2448000"/>
            <a:ext cx="7619760" cy="39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Introduce and promote improved varie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Maize, groundnuts, Soybean and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the performance of organic and inorganic fertilizer in maize and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improved maize and legume varieties under good agronomic managemen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Demonstrate appropriate in-situ soil and water conservation measures  i.e.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ontour and 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Times New Roman"/>
              </a:rPr>
              <a:t>tie ri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</a:rPr>
              <a:t>Demonstrate appropriate water harvesting and irrigation o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0120" y="9316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1. Maize Varieti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352440" y="1609560"/>
          <a:ext cx="8582040" cy="4938840"/>
        </p:xfrm>
        <a:graphic>
          <a:graphicData uri="http://schemas.openxmlformats.org/drawingml/2006/table">
            <a:tbl>
              <a:tblPr/>
              <a:tblGrid>
                <a:gridCol w="600120"/>
                <a:gridCol w="1836720"/>
                <a:gridCol w="1947960"/>
                <a:gridCol w="1233360"/>
                <a:gridCol w="1658880"/>
                <a:gridCol w="1305000"/>
              </a:tblGrid>
              <a:tr h="104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Relea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tu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ield potent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t/h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 H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8 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4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nSe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baseline="30000">
                          <a:solidFill>
                            <a:srgbClr val="ffffff"/>
                          </a:solidFill>
                          <a:latin typeface="Calibri"/>
                        </a:rPr>
                        <a:t>†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H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A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 - 130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-13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04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 (110 t0 12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H1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medi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60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A K6Q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IN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rly (90 to 110 day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4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H9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M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 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620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HB513** Low N, DT var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RU AG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-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-10t/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8120" y="140760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Table 2. Legumes planted at various 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2143080"/>
          <a:ext cx="4886280" cy="1920960"/>
        </p:xfrm>
        <a:graphic>
          <a:graphicData uri="http://schemas.openxmlformats.org/drawingml/2006/table">
            <a:tbl>
              <a:tblPr/>
              <a:tblGrid>
                <a:gridCol w="1752480"/>
                <a:gridCol w="1819440"/>
                <a:gridCol w="1314360"/>
              </a:tblGrid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roundnu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a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e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anj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yole Nja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5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ano S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pic>
        <p:nvPicPr>
          <p:cNvPr id="247" name="Picture 25" descr=""/>
          <p:cNvPicPr/>
          <p:nvPr/>
        </p:nvPicPr>
        <p:blipFill>
          <a:blip r:embed="rId1"/>
          <a:stretch/>
        </p:blipFill>
        <p:spPr>
          <a:xfrm>
            <a:off x="5153040" y="2190600"/>
            <a:ext cx="3753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434880" y="2308320"/>
          <a:ext cx="8502840" cy="4365360"/>
        </p:xfrm>
        <a:graphic>
          <a:graphicData uri="http://schemas.openxmlformats.org/drawingml/2006/table">
            <a:tbl>
              <a:tblPr/>
              <a:tblGrid>
                <a:gridCol w="1376280"/>
                <a:gridCol w="2327400"/>
                <a:gridCol w="2212920"/>
                <a:gridCol w="1584360"/>
                <a:gridCol w="1001880"/>
              </a:tblGrid>
              <a:tr h="12873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Number of learners per 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 III (Number of learners per distri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2404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 (5 Lead farmers/district  x 25 lear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 (lead x 15 learn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 (1875 x 5 recrui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076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22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49" name="Rectangle 1"/>
          <p:cNvSpPr/>
          <p:nvPr/>
        </p:nvSpPr>
        <p:spPr>
          <a:xfrm>
            <a:off x="566640" y="1670400"/>
            <a:ext cx="832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Gill Sans MT"/>
              </a:rPr>
              <a:t>Table 1. Scaling plan from year 1 to year III for each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47760" y="1143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How would this plan 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25240" y="2068560"/>
            <a:ext cx="4081320" cy="36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demonstration of selected technolog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field day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24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onducting train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4" descr="Description: C:\Users\IITA-11\Desktop\pic.jpg"/>
          <p:cNvPicPr/>
          <p:nvPr/>
        </p:nvPicPr>
        <p:blipFill>
          <a:blip r:embed="rId1"/>
          <a:stretch/>
        </p:blipFill>
        <p:spPr>
          <a:xfrm>
            <a:off x="5410080" y="4278240"/>
            <a:ext cx="3487680" cy="247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Description: C:\Users\USER\Desktop\iporoto and Haroon visits\101MSDCF\DSC04744.JPG"/>
          <p:cNvPicPr/>
          <p:nvPr/>
        </p:nvPicPr>
        <p:blipFill>
          <a:blip r:embed="rId2"/>
          <a:stretch/>
        </p:blipFill>
        <p:spPr>
          <a:xfrm>
            <a:off x="5410080" y="1855800"/>
            <a:ext cx="3395880" cy="220968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C:\Users\pc\AppData\Local\Temp\Temp1_h.zip\IMG-20160721-WA0021.jpg"/>
          <p:cNvPicPr/>
          <p:nvPr/>
        </p:nvPicPr>
        <p:blipFill>
          <a:blip r:embed="rId3"/>
          <a:stretch/>
        </p:blipFill>
        <p:spPr>
          <a:xfrm>
            <a:off x="525600" y="4354560"/>
            <a:ext cx="44924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28760" y="77940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23232"/>
                </a:solidFill>
                <a:latin typeface="Calibri"/>
              </a:rPr>
              <a:t>Criteria for selecting villag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52440" y="15523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line with the feed the future expectations, target numbers to be achiev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roduction area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 they producing the crops we are trying to promo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scale is this crop being produced-in terms of importance is it a priority crop (value-food, cash, fe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 a crop they are already producing (We do not want to introduce the crop as a new c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sibility- close to the ro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rop potential in terms of market access/ li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 the future site where our partners (NAFAKA) already have net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16:50:55Z</dcterms:created>
  <dc:creator>ALUNA</dc:creator>
  <dc:description/>
  <dc:language>en-US</dc:language>
  <cp:lastModifiedBy>Jumbo, Bright (CIMMYT)</cp:lastModifiedBy>
  <dcterms:modified xsi:type="dcterms:W3CDTF">2017-07-03T06:42:39Z</dcterms:modified>
  <cp:revision>671</cp:revision>
  <dc:subject/>
  <dc:title>Slide 1</dc:title>
</cp:coreProperties>
</file>