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F41-B627-41E2-82B0-2D890E93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16C-1CFF-4576-89D9-3CC05E5E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F0D-FBA5-4EE3-9101-6D71508C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258-9F55-4393-944D-369B5B55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B68-D339-4201-99B6-DA090270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81A-3FE4-4E84-A5D5-D56780EB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03A-0809-4869-B521-B6907CEC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29C-8C47-4798-BA53-281E9A00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139-6A92-495A-AA44-46C4CA07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9BE-0F5C-45F6-8D0E-C47ABF42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2DA-0913-4897-8395-E03EFCCB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8E8-50AA-4502-800E-79773058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80BE-C384-4F2F-8A6F-374594F4F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 and Plan for Organizing ESA Research Across Tanzania, Malawi and Zamb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Zambia: SIML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MMYT and IITA (maize-legume syst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ern Zam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TF – Zamb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ICRIS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ndnut + 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Tanzani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Morogoro (rice); Manyara and Dodoma (maize);  Mbeya (horticulture), et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aize-legume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awi, Tanzania, Mozambique, Kenya, Ethi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llover – Uganda, Rwanda, Zambia, Botsw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aize, legumes, livest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ct orientation  - shared vision to change livelihoods through integrated interven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untry participation and ownership – not contract 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gagement of all relevant stakehold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a lead national partner (research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ignment with national and regional investment and food security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ster the systems perspectiv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acity strengthening to rebuild national capac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ing participation and recognition of farmers’ contribu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der equity - inclusion of women (and me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coordinator (lead cen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coordinators (assigned by national lead partn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objective or theme leaders (key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focal points for each theme/obj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coordination by regional/zonal research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ed report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, national, objective focal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nerships to make thi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arch centers (germplasm and technolog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nsion agenc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vate sector (feed, seed, fert, vet, finance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GOs – out-sca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gulatory agencies, bureau of standards, et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k with other projects (scaling up/out, spillov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ledge management system for the project (website, data, newsletter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novation platforms to support learning and farmer-led innov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ross farming system in each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ss-country vi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ientist and partn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ion plots/model fa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icipatory on-farm tr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ilitating and spillov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 plannin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ing of resul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coordinator plus 4-5 reps from country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eld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rom SRO for spillovers (CCARDESA, ASARECA, ECA, COMESA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level (in-kind awards for team wo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level awards to recognize team work and excell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of farmer contributions and lead innov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6:19:04Z</dcterms:created>
  <dc:creator>bshiferaw</dc:creator>
  <dc:description/>
  <dc:language>en-US</dc:language>
  <cp:lastModifiedBy>eleborgne</cp:lastModifiedBy>
  <dcterms:modified xsi:type="dcterms:W3CDTF">2012-02-09T09:06:56Z</dcterms:modified>
  <cp:revision>16</cp:revision>
  <dc:subject/>
  <dc:title>Plan and Principles for Organizing ESA Research Across Tanzania, Malawi and Zambia</dc:title>
</cp:coreProperties>
</file>