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B339-7307-4573-9CD1-23E47C27A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E72C-AD0D-4D58-8312-8BA916CB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D790-7D95-41BF-8916-06D77BAC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0473-BD73-4C85-AFC6-968B4CD07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341E-0681-41F0-B099-8741C862C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FA95-622B-4E3F-8673-5D958708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B350-0FA1-4F1C-9840-4CD61864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8013-F2DC-4FDC-8C2E-2594E90F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C78D-7A2C-4443-A166-42922C4F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95D9-43EA-4F74-913E-942E3B7A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74C1-98EA-4375-A4B1-E25E1AD8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A964-42D2-41D0-957C-C5ECC77D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737A2-2EE6-4EC7-8E55-471B44980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inciples and Plan for Organizing ESA Research Across Tanzania, Malawi and Zamb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roup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ilding Bl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6840" y="11426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TF – Zambia: SIMLEZ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IMMYT and IITA (maize-legume system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stern Zamb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TF – Zambia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 ICRIS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oundnut + aflatox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TF – Tanzania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Morogoro (rice); Manyara and Dodoma (maize);  Mbeya (horticulture), et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MLES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aize-legume syste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lawi, Tanzania, Mozambique, Kenya, Ethiop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illover – Uganda, Rwanda, Zambia, Botsw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IMLES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maize, legumes, livestoc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incip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mpact orientation  - shared vision to change livelihoods through integrated interven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untry participation and ownership – not contract research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gagement of all relevant stakehold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dentify a lead national partner (research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ignment with national and regional investment and food security priorit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oster the systems perspective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pacity strengthening to rebuild national capacit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nsuring participation and recognition of farmers’ contribution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Gender equity - inclusion of women (and men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coordinator (lead cent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coordinators (assigned by national lead partn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objective or theme leaders (key partn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focal points for each theme/obje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coordination by regional/zonal research cen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ed reporting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al, national, objective focal poi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nerships to make this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earch centers (germplasm and technologie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xtension agenci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ivate sector (feed, seed, fert, vet, finance, et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rmer grou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GOs – out-scal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gulatory agencies, bureau of standards, etc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nk with other projects (scaling up/out, spillove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ng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nowledge management system for the project (website, data, newsletter, et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novation platforms to support learning and farmer-led innovation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rmer exchange vis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ross farming system in each count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oss-country vis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ientist and partner exchange vis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rmer field day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monstration plots/model fa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rticipatory on-farm tri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ilitating and spillov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 planning me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aring of resul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onal coordinator plus 4-5 reps from country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eld 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 from SRO for spillovers (CCARDESA, ASARECA, ECA, COMESA, et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og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gional level (in-kind awards for team wor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ional level awards to recognize team work and excell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gnition of farmer contributions and lead innov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06:19:04Z</dcterms:created>
  <dc:creator>bshiferaw</dc:creator>
  <dc:description/>
  <dc:language>en-US</dc:language>
  <cp:lastModifiedBy>eleborgne</cp:lastModifiedBy>
  <dcterms:modified xsi:type="dcterms:W3CDTF">2012-02-09T09:06:56Z</dcterms:modified>
  <cp:revision>16</cp:revision>
  <dc:subject/>
  <dc:title>Plan and Principles for Organizing ESA Research Across Tanzania, Malawi and Zambia</dc:title>
</cp:coreProperties>
</file>