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2E3C-F3CA-4A41-99C1-08BB86CAB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8809-A783-4373-ADBC-0E131DF6F68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ED45-CBA5-4A16-AB92-0B2138CC5C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41129-E1E9-4179-AC52-13E82C8BC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CC400-D108-48C1-A702-9CF7C6D194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D348A-77A4-43FD-A75B-E085494045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6BE0-CDB5-4E99-A257-99DBC5DF4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90FBF-0197-4967-8160-776FCFD51E5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586E7-0B8F-4E32-ADC8-AF88EB2D7B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F0C89-453D-45C1-8E52-999830D55B0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C964D-6561-4069-84BA-CAB1EF4409F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7868E-2029-430A-960A-427EF12FAD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8C04-7BD7-4666-9054-25A6B5AE08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4A2D2-3D9B-4B3A-B58D-57D50DC7AC2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5A999-50A1-4150-9E11-3361CCD6AB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52D69-3D85-4DE4-BB2D-9CDAADE705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F14FA-EF66-4DA8-B6C2-9000DCC2D6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7F18A-E739-4A21-9275-599456BE5EB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FF973-AF3F-4077-A323-23488A7B9EC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54C6D-CACA-432B-A683-52DC0DA939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7B661-DE28-4B29-B25F-89A213D06EF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501F7-65B0-496C-AC55-B414CAA0070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D1A4-0881-49D4-90F2-0C17F4B97D6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CC4AB-C752-47EC-8B07-12F95731E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824DE-F91F-4E7A-92BB-FA63D72A00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903A6-2C64-407B-A0C8-8C6D8B9B1C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3FF7-4B91-45AA-B943-C3AB3ED3FF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99CAE-5C86-40E7-A788-ADC20F009D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4360" y="17521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87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ensifying Livestock Production (Theme 3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878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IMG00556-20120925-1305"/>
          <p:cNvPicPr/>
          <p:nvPr/>
        </p:nvPicPr>
        <p:blipFill>
          <a:blip r:embed="rId1"/>
          <a:stretch/>
        </p:blipFill>
        <p:spPr>
          <a:xfrm>
            <a:off x="1258920" y="1770120"/>
            <a:ext cx="3090960" cy="18954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Figure 1"/>
          <p:cNvPicPr/>
          <p:nvPr/>
        </p:nvPicPr>
        <p:blipFill>
          <a:blip r:embed="rId2"/>
          <a:stretch/>
        </p:blipFill>
        <p:spPr>
          <a:xfrm>
            <a:off x="4349880" y="1790640"/>
            <a:ext cx="3024000" cy="1874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IMG00565-20120925-1354"/>
          <p:cNvPicPr/>
          <p:nvPr/>
        </p:nvPicPr>
        <p:blipFill>
          <a:blip r:embed="rId3"/>
          <a:stretch/>
        </p:blipFill>
        <p:spPr>
          <a:xfrm>
            <a:off x="1258920" y="3665520"/>
            <a:ext cx="3090960" cy="20671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wagashibrine"/>
          <p:cNvPicPr/>
          <p:nvPr/>
        </p:nvPicPr>
        <p:blipFill>
          <a:blip r:embed="rId4"/>
          <a:stretch/>
        </p:blipFill>
        <p:spPr>
          <a:xfrm>
            <a:off x="4335480" y="3675240"/>
            <a:ext cx="3024000" cy="20476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1042920" y="587700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ining of milk processors in “Wagashi”  (soft cheese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684360" y="1601640"/>
            <a:ext cx="705636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existing and potential feed resources using FEAST in six intervention communities in the 3 regions of Northern Ghana. Surveys on feed market potential in 3 regions in Gh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ervation techniques for efficient use of crop residues as animal fe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promising livestock value chains in 3 regions  - Guinea fowl in Northern, small ruminants in Upper West and pig in Upper East reg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 MSc students from University of Ghana, Legon completed their thesis; 1 PhD student (UDS Tamale) completed field work and preparing for his defen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TextBox 2"/>
          <p:cNvSpPr/>
          <p:nvPr/>
        </p:nvSpPr>
        <p:spPr>
          <a:xfrm>
            <a:off x="684360" y="1601640"/>
            <a:ext cx="82087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nosis of baseline situation with respect to biophysical, socio-economic and institutional profiles of the study sites, and the production systems (crop, livestock &amp; agroforestry) in Bougouni and Koutiala, Mali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nthesis report on review of existing land use plans and local conventions in Bougouni and Koutiala districts, M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ssessment of feed resources and constraints to livestock production in six intervention communities in Bougouni and Koutiala districts using FEAST (Feed Assessment Tool) developed by ILR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 of strength and weakness of local institutions governing natural resources, and strategies to strengthen th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cumentation of transhumance practices and the effects on natural resource management in the six intervention comm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ticipatory analysis of the immediate and long-term causes of conflict over natural resource use and identification of  options to reduce conflicts and associated probl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TextBox 2"/>
          <p:cNvSpPr/>
          <p:nvPr/>
        </p:nvSpPr>
        <p:spPr>
          <a:xfrm>
            <a:off x="684360" y="1601640"/>
            <a:ext cx="8208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of chopping machine for conservation of crop residues and better util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7740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4. Major Gaps in Phase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684360" y="1916280"/>
            <a:ext cx="820728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ed improvement, particularly community breeding sche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household nutrition through animal source fo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nutrient flows in crop-livestock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vestock water productivity including rainwater harv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ving drudgery in production (small scale mechaniz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ing smallholder milk production, value addition and ut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97740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5.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TextBox 2"/>
          <p:cNvSpPr/>
          <p:nvPr/>
        </p:nvSpPr>
        <p:spPr>
          <a:xfrm>
            <a:off x="684360" y="1916280"/>
            <a:ext cx="82072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GIAR: ILRI, ICRIS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RS: CSIR-Animal Research Institute, Ghana; IER Mali; UDS Tamale; KNUST Kuma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GO: AMEDD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799128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00000"/>
                </a:solidFill>
                <a:latin typeface="Calibri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1. Baseline (Project Starting point in 2012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2. Evolution of Livestock Research for Development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3. Key Milestones (Achievements &amp; Less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4. Major Gaps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5. Part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880" y="198720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kshop to review constraints and opportunities for intensification of ruminant and non-ruminant production systems in northern Ghana (27-28 Aug 201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munity analysi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constraints &amp; opportunities to livestock production) in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Baseline survey in Mali in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ntory of technologies for Quick Wins in 20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haracterization of 3 key livestock value chains (guinea fowl in Northern region, pig in Upper East and small ruminants in Upper W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1. Baseline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42560" y="105228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1. Baseline Inform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" name="Objet 1"/>
          <p:cNvGraphicFramePr/>
          <p:nvPr/>
        </p:nvGraphicFramePr>
        <p:xfrm>
          <a:off x="2187720" y="2028960"/>
          <a:ext cx="4768560" cy="280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Obje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7720" y="2028960"/>
                    <a:ext cx="4768560" cy="28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Rectangle 2"/>
          <p:cNvSpPr/>
          <p:nvPr/>
        </p:nvSpPr>
        <p:spPr>
          <a:xfrm>
            <a:off x="684360" y="494172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opulation pyramid of Fonfana Village in Koutiala in 2009/2010 (Source: Travail des enfants dans l’agriculture; total population 63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684360" y="5672160"/>
            <a:ext cx="739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th dominance of youthful population in both study sites, household labour for farming is a critical iss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ild nutrition is important in both Bougouni &amp; Koutiala in view of the significant proportion of the population that is childr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85680" y="1267920"/>
            <a:ext cx="88790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5280" y="1961640"/>
            <a:ext cx="77724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Testing of Quick Wins technologies – No coordinated research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On-station evaluation of some technologies e.g. non-conventional feeds for pigs and guinea fowl (replacing maize with false yam tuber meals for local pig Ashanti Black; replacing maize with false yam seed or sorghum spent grain (pito mash) for local guinea fowl; to replace maize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Baseline studies in Ghana and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2: Capacity building – non-degree short term training for farmers and researc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0" y="1287000"/>
            <a:ext cx="8820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090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: Training in FEAST and evaluation of feed resour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3 -2016: On-farm testing and evaluation of technologies e.g. feed-health interventions in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3 – 2016: PhD Research (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Nutrient use in smallholder livestock production systems in Northern Ghana;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2. Loc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titutions governing NRM in Mal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3-2014: Testing feed and housing options to improve productivity of rural poultry and pig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4: Characterization of 3 key livestock value chains (guinea fowl in Northern region, pig in Upper East and small ruminants in Upper W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0" y="1287000"/>
            <a:ext cx="8820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2. Evolution of Livestock Research for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4920" y="1844280"/>
            <a:ext cx="82090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5-2016: Ensiling techniques for conservation of crop residues in Ghana – On=farm demonstration and training of farm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6 – 2017: Piloting feed-health interventions in Mal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015-2016: Development oriented activities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aboration and formalization of local conventions in 3 communities in Bougouni and Koutiala, and demarcation of livestock routes; training in conflict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179280" y="1601640"/>
            <a:ext cx="864072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synthesis on sustainable intensification of cereal-based farming systems in the Sudano-Sahelian zone of Ghana: Analysis of constraints and opportunities for the sustainable intensification of mixed crop-livestock farming systems in northern Ghan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iagnostic workshop to analyze constraints and opportunities of sustainable intensification of crop-livestock systems in Northern Ghana held in August 2012. The proceedings from the workshop is avail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four day training course was organized on crop-livestock farming systems in Tamale, Ghana from 19 to 22 September, 201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73 herdsmen, women and cattle owners were trained in milk hygiene practices in 3 districts of northern Ghana in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539280" y="90756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3. Mileston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2"/>
          <p:cNvSpPr/>
          <p:nvPr/>
        </p:nvSpPr>
        <p:spPr>
          <a:xfrm>
            <a:off x="684360" y="1601640"/>
            <a:ext cx="82087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hievements – Gh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25 processors were trained in ‘wagashi’ (soft cheese) processing in the 3 districts in Northern Ghana and 40 milk processors were introduced to rudiments of yoghurt processing in one district in 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eed-health interventions for improved small ruminant production in 9 communities in 3 regions - increased weight gain, significant decline in mortality and increase in manure output from the treatment animals. More than 5,000 sheep and goats were vaccinated against PP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truction of 12 model houses for sheep and goat in 6 intervention communities in Northern Gha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aseline studies on options to increase productivity of rural poultry and pig production systems, and feeding trials on use of non-conventional feed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on Feed Assessment Tool (FEAST) in Tamale in August 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0:36:32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12-14T07:51:04Z</dcterms:modified>
  <cp:revision>80</cp:revision>
  <dc:subject/>
  <dc:title>Slide 1</dc:title>
</cp:coreProperties>
</file>