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6.jpeg" ContentType="image/jpeg"/>
  <Override PartName="/ppt/media/image8.png" ContentType="image/png"/>
  <Override PartName="/ppt/media/image11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C988B-D83F-454F-8A33-52CDCE477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3AC59-BCCC-40D1-A49D-2EEA86DF2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4D300-AE5B-4B67-AC94-705554CFC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5F781-CB64-4DE4-A438-E853E34A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8E5E5-99F2-470A-B4C6-603F80EB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7BD9E-66E4-4992-B8CD-44E2F5E9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3B284-1A37-4E56-A831-6ABAF8979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D27FC-6164-4CB0-B91D-C711FFB94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15475-DF48-41F4-AB45-9873ACC1E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9D313-4F24-4216-B777-F77AC3686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51F38-FA94-41F5-9779-E1FCB039A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C5E63-96A9-4923-A61E-98B58C290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7E84D-458A-4BC3-A9E6-BFCFEC325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554AE-480E-48EB-A988-993F11B08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03CB4-ED87-4F86-A857-F61B80883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8041F-ADBC-48D7-B578-8BD1292D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C16E8-7422-4A64-9D14-FCE618BE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EFF46-B4E5-4E54-A80F-3992B3BB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B66AE-BFB6-45C2-9CFD-94E6EC27D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EC7B3-4E0D-4ED8-87BB-717AAFDEF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C30E4-356A-41F8-A73E-DC6B59E23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8AA3-EE9B-4FCA-A4D1-823B2D45C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34F7-1C90-430C-9292-5DA1EB342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8D95-F70E-4A1C-8FE4-956CB6938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3981-0A1F-48AF-9DC8-C21AC3661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B63D-C6EF-47F7-9A98-28B50075A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5C21-74BB-44AD-BCED-D380755ED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507F-4060-4D35-94EF-BBB91F5D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AC28-7B27-42C9-AB86-F29F42A1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1FBD-0E0D-4F27-AEFB-D45278A5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F81E-28F0-46F1-92A3-A917B212E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C794-148E-461B-9C72-449ADCD76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1403-261F-4013-B46E-817E4F1EC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F2AA5-1750-493F-8A1E-0E39CE341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EEACE-7835-4550-A7DC-CEDE7AF84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1A127-8526-4121-BF16-4F77885E7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E5C2B-08DE-4810-BC34-83FD1701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22D66-510B-46DC-8007-050325258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C2DE3-D317-437F-9FCD-1689ADEA4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46497-6967-41FA-9672-8340889A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90C41-A423-4DF2-8F41-5FD75D0C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DED49-2B2A-4E9A-8230-E721BD6B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95279-CC6B-44F6-ADC0-82DD686D5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D1B18-8AD8-4B0E-B9EE-E90E7301D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E7880-CF8C-49A9-8D68-C94B5F383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80299-D6E1-490A-BF39-18CD5B550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D5993-5DE3-4430-A5F3-382BF8E96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9B630-DFA7-43FC-A4B1-D1A96134F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E414-0FD9-4DEF-B821-254CD7E881C6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4"/>
          <a:stretch/>
        </p:blipFill>
        <p:spPr>
          <a:xfrm>
            <a:off x="1762200" y="593568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113" name="TextBox 2"/>
          <p:cNvSpPr/>
          <p:nvPr/>
        </p:nvSpPr>
        <p:spPr>
          <a:xfrm>
            <a:off x="0" y="205740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AR_Global_partners.jpg"/>
          <p:cNvPicPr/>
          <p:nvPr/>
        </p:nvPicPr>
        <p:blipFill>
          <a:blip r:embed="rId4"/>
          <a:stretch/>
        </p:blipFill>
        <p:spPr>
          <a:xfrm>
            <a:off x="1733400" y="5533920"/>
            <a:ext cx="5677200" cy="561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B4260-4060-44E9-906F-30F5028FFE2E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94333-37D6-48E9-8002-21506A1B1C79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"/>
          <p:cNvPicPr/>
          <p:nvPr/>
        </p:nvPicPr>
        <p:blipFill>
          <a:blip r:embed="rId4"/>
          <a:stretch/>
        </p:blipFill>
        <p:spPr>
          <a:xfrm>
            <a:off x="1762200" y="593568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70" name="TextBox 2"/>
          <p:cNvSpPr/>
          <p:nvPr/>
        </p:nvSpPr>
        <p:spPr>
          <a:xfrm>
            <a:off x="0" y="205740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AR_Global_partners.jpg"/>
          <p:cNvPicPr/>
          <p:nvPr/>
        </p:nvPicPr>
        <p:blipFill>
          <a:blip r:embed="rId4"/>
          <a:stretch/>
        </p:blipFill>
        <p:spPr>
          <a:xfrm>
            <a:off x="1733400" y="5533920"/>
            <a:ext cx="5677200" cy="56196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3627C-B619-4109-ADDA-CC44A48D0BF7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itle 1"/>
          <p:cNvSpPr/>
          <p:nvPr/>
        </p:nvSpPr>
        <p:spPr>
          <a:xfrm>
            <a:off x="762120" y="1066680"/>
            <a:ext cx="7696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itle 1"/>
          <p:cNvSpPr/>
          <p:nvPr/>
        </p:nvSpPr>
        <p:spPr>
          <a:xfrm>
            <a:off x="38160" y="1492200"/>
            <a:ext cx="910584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vestock corralling, planting density and N fertilizer rate effect on soil quality, weed dynamics and maize yield in Northern Ghan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Content Placeholder 2"/>
          <p:cNvSpPr/>
          <p:nvPr/>
        </p:nvSpPr>
        <p:spPr>
          <a:xfrm>
            <a:off x="1519200" y="5516640"/>
            <a:ext cx="5877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bdul Rahman Nurud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8928000" y="692280"/>
            <a:ext cx="2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B4A99-7448-418D-A147-A2EC39CA923B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itle 1"/>
          <p:cNvSpPr/>
          <p:nvPr/>
        </p:nvSpPr>
        <p:spPr>
          <a:xfrm>
            <a:off x="0" y="6367320"/>
            <a:ext cx="8317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hoto 2: Manure and soil sampling from SDSG pl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8628120" y="6381720"/>
            <a:ext cx="503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1BCAE-706F-4CAB-A092-4D8FBD3E138F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2" descr="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408720"/>
          </a:xfrm>
          <a:prstGeom prst="rect">
            <a:avLst/>
          </a:prstGeom>
          <a:ln w="0">
            <a:noFill/>
          </a:ln>
        </p:spPr>
      </p:pic>
      <p:sp>
        <p:nvSpPr>
          <p:cNvPr id="426" name="TextBox 1"/>
          <p:cNvSpPr/>
          <p:nvPr/>
        </p:nvSpPr>
        <p:spPr>
          <a:xfrm>
            <a:off x="6875640" y="-100080"/>
            <a:ext cx="2268360" cy="585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l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mi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/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log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B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rthworm 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lk den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o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is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2"/>
          <p:cNvSpPr/>
          <p:nvPr/>
        </p:nvSpPr>
        <p:spPr>
          <a:xfrm>
            <a:off x="15840" y="4276800"/>
            <a:ext cx="2278080" cy="2014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re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yphen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/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Slide Number Placeholder 3"/>
          <p:cNvSpPr/>
          <p:nvPr/>
        </p:nvSpPr>
        <p:spPr>
          <a:xfrm>
            <a:off x="8710560" y="0"/>
            <a:ext cx="433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777D2-9873-4A96-8533-9F486AB499F0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"/>
          <p:cNvPicPr/>
          <p:nvPr/>
        </p:nvPicPr>
        <p:blipFill>
          <a:blip r:embed="rId1"/>
          <a:stretch/>
        </p:blipFill>
        <p:spPr>
          <a:xfrm>
            <a:off x="684360" y="166680"/>
            <a:ext cx="7886520" cy="4581360"/>
          </a:xfrm>
          <a:prstGeom prst="rect">
            <a:avLst/>
          </a:prstGeom>
          <a:ln w="0">
            <a:noFill/>
          </a:ln>
        </p:spPr>
      </p:pic>
      <p:sp>
        <p:nvSpPr>
          <p:cNvPr id="430" name="TextBox 3"/>
          <p:cNvSpPr/>
          <p:nvPr/>
        </p:nvSpPr>
        <p:spPr>
          <a:xfrm>
            <a:off x="6480" y="6454800"/>
            <a:ext cx="909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ig. 1.  Soil quality index triangle indicating sub-indices of quality index (Kang et al., 2005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TextBox 1" descr=""/>
          <p:cNvPicPr/>
          <p:nvPr/>
        </p:nvPicPr>
        <p:blipFill>
          <a:blip r:embed="rId2"/>
          <a:stretch/>
        </p:blipFill>
        <p:spPr>
          <a:xfrm>
            <a:off x="109440" y="4761000"/>
            <a:ext cx="8991720" cy="157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itle 1"/>
          <p:cNvSpPr/>
          <p:nvPr/>
        </p:nvSpPr>
        <p:spPr>
          <a:xfrm>
            <a:off x="0" y="6381720"/>
            <a:ext cx="8381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Photo 3: Female farmers preference for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lide Number Placeholder 4"/>
          <p:cNvSpPr/>
          <p:nvPr/>
        </p:nvSpPr>
        <p:spPr>
          <a:xfrm>
            <a:off x="8639280" y="6361200"/>
            <a:ext cx="5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00D9F-E7C8-4D3B-B9E6-A4B466C31330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1" descr=""/>
          <p:cNvPicPr/>
          <p:nvPr/>
        </p:nvPicPr>
        <p:blipFill>
          <a:blip r:embed="rId1"/>
          <a:stretch/>
        </p:blipFill>
        <p:spPr>
          <a:xfrm>
            <a:off x="-9360" y="-95400"/>
            <a:ext cx="9210600" cy="654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itle 1"/>
          <p:cNvSpPr/>
          <p:nvPr/>
        </p:nvSpPr>
        <p:spPr>
          <a:xfrm>
            <a:off x="0" y="6308640"/>
            <a:ext cx="9144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Photo 4: Female farmers preference for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Slide Number Placeholder 4"/>
          <p:cNvSpPr/>
          <p:nvPr/>
        </p:nvSpPr>
        <p:spPr>
          <a:xfrm>
            <a:off x="8616960" y="6372360"/>
            <a:ext cx="503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AAF09-A752-42FD-B623-461A3F073D31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2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4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itle 1"/>
          <p:cNvSpPr/>
          <p:nvPr/>
        </p:nvSpPr>
        <p:spPr>
          <a:xfrm>
            <a:off x="-33480" y="196524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Table 1. Manure chemical prope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8632800" y="765000"/>
            <a:ext cx="477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97841-8C19-498C-BAF0-F65775F5458A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Box 3"/>
          <p:cNvSpPr/>
          <p:nvPr/>
        </p:nvSpPr>
        <p:spPr>
          <a:xfrm>
            <a:off x="333360" y="1087560"/>
            <a:ext cx="849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ults and discus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93600" y="2708280"/>
          <a:ext cx="8975880" cy="3897360"/>
        </p:xfrm>
        <a:graphic>
          <a:graphicData uri="http://schemas.openxmlformats.org/drawingml/2006/table">
            <a:tbl>
              <a:tblPr/>
              <a:tblGrid>
                <a:gridCol w="1351080"/>
                <a:gridCol w="1305000"/>
                <a:gridCol w="1014120"/>
                <a:gridCol w="1013040"/>
                <a:gridCol w="1014480"/>
                <a:gridCol w="1209600"/>
                <a:gridCol w="1012680"/>
                <a:gridCol w="281160"/>
                <a:gridCol w="774720"/>
              </a:tblGrid>
              <a:tr h="353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O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lyphen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gn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/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42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g k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t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42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7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itle 1"/>
          <p:cNvSpPr/>
          <p:nvPr/>
        </p:nvSpPr>
        <p:spPr>
          <a:xfrm>
            <a:off x="-20520" y="150804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Table 2. Soil biological properties as affected by SDS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8645400" y="744480"/>
            <a:ext cx="478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7E97E-1B8D-443A-BF1D-920532B28CE8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41400" y="2084400"/>
          <a:ext cx="9082080" cy="4460760"/>
        </p:xfrm>
        <a:graphic>
          <a:graphicData uri="http://schemas.openxmlformats.org/drawingml/2006/table">
            <a:tbl>
              <a:tblPr/>
              <a:tblGrid>
                <a:gridCol w="1806120"/>
                <a:gridCol w="963000"/>
                <a:gridCol w="1078560"/>
                <a:gridCol w="1080000"/>
                <a:gridCol w="647280"/>
                <a:gridCol w="862920"/>
                <a:gridCol w="162000"/>
                <a:gridCol w="1430640"/>
                <a:gridCol w="1051560"/>
              </a:tblGrid>
              <a:tr h="3427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DSG (heads ha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ast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30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ble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vs (70 + 14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 vs 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 seas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45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BC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1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8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30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BN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27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MQ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30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. cast (0.25 m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3 (0.9)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5 (1.2)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7 (1.3)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27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 seas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30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BC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8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4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45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BN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27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MQ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30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. cast (0.25 m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8 (0.9)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9 (1.2)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2 (1.3)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27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itle 1"/>
          <p:cNvSpPr/>
          <p:nvPr/>
        </p:nvSpPr>
        <p:spPr>
          <a:xfrm>
            <a:off x="108000" y="118584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Table 3. Soil chemical properties as affected by SDS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8637480" y="728640"/>
            <a:ext cx="478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A419-5304-4D69-8153-9F7BF7EDC060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0" y="1700280"/>
          <a:ext cx="9082080" cy="5048280"/>
        </p:xfrm>
        <a:graphic>
          <a:graphicData uri="http://schemas.openxmlformats.org/drawingml/2006/table">
            <a:tbl>
              <a:tblPr/>
              <a:tblGrid>
                <a:gridCol w="2624400"/>
                <a:gridCol w="576000"/>
                <a:gridCol w="576000"/>
                <a:gridCol w="862560"/>
                <a:gridCol w="648720"/>
                <a:gridCol w="862920"/>
                <a:gridCol w="167040"/>
                <a:gridCol w="1570320"/>
                <a:gridCol w="1194120"/>
              </a:tblGrid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DSG (heads ha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ast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ble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vs (70 + 14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 vs 1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 sea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856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 (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C (g k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N (g k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ailable P (mg k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ch. K (cmol k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x 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/ N rat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 sea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856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 (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C (g k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N (g k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ailable P (mg k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ch. K (cmol k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x 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/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itle 1"/>
          <p:cNvSpPr/>
          <p:nvPr/>
        </p:nvSpPr>
        <p:spPr>
          <a:xfrm>
            <a:off x="108000" y="118584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Table 4. Soil physical properties as affected by SDS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8594640" y="763560"/>
            <a:ext cx="54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A49BD-CFE1-4618-95E9-1CAA28B6F6B2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0" name=""/>
          <p:cNvGraphicFramePr/>
          <p:nvPr/>
        </p:nvGraphicFramePr>
        <p:xfrm>
          <a:off x="76320" y="1762200"/>
          <a:ext cx="9005760" cy="4906800"/>
        </p:xfrm>
        <a:graphic>
          <a:graphicData uri="http://schemas.openxmlformats.org/drawingml/2006/table">
            <a:tbl>
              <a:tblPr/>
              <a:tblGrid>
                <a:gridCol w="2541600"/>
                <a:gridCol w="488880"/>
                <a:gridCol w="592200"/>
                <a:gridCol w="885600"/>
                <a:gridCol w="635040"/>
                <a:gridCol w="865080"/>
                <a:gridCol w="1603440"/>
                <a:gridCol w="1393920"/>
              </a:tblGrid>
              <a:tr h="49032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DSG (heads ha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ast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068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ble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valu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vs (70 + 140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 vs 14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 seas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9032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lk density (g cm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68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ros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212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isture (cm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x 10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32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 seas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68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lk density (gcm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68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ros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32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isture (cm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x 10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itle 1"/>
          <p:cNvSpPr/>
          <p:nvPr/>
        </p:nvSpPr>
        <p:spPr>
          <a:xfrm>
            <a:off x="30240" y="0"/>
            <a:ext cx="907560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Table 5. Result of principal component analysis for selecting soil quality indicators under SDS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8690040" y="34920"/>
            <a:ext cx="453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F290E-3D9F-4660-8045-4E3CBDB46CA5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42840" y="911160"/>
          <a:ext cx="9094680" cy="5994360"/>
        </p:xfrm>
        <a:graphic>
          <a:graphicData uri="http://schemas.openxmlformats.org/drawingml/2006/table">
            <a:tbl>
              <a:tblPr/>
              <a:tblGrid>
                <a:gridCol w="2206800"/>
                <a:gridCol w="766440"/>
                <a:gridCol w="766800"/>
                <a:gridCol w="766800"/>
                <a:gridCol w="766800"/>
                <a:gridCol w="328680"/>
                <a:gridCol w="865080"/>
                <a:gridCol w="792360"/>
                <a:gridCol w="925560"/>
                <a:gridCol w="909360"/>
              </a:tblGrid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 sea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 sea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ncipal Compon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igen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nce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mulative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igenvectors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0.4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3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3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3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3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0.4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ail. 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5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0.3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0.3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ch.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3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0.4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/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0.4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5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B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0.3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B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7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M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5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4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. c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3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lk dens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3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3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ros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0.3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0.3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is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3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0.5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itle 1"/>
          <p:cNvSpPr/>
          <p:nvPr/>
        </p:nvSpPr>
        <p:spPr>
          <a:xfrm>
            <a:off x="4680" y="1312920"/>
            <a:ext cx="889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542960" indent="-1542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Table 6. SDSG effect on soil qua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4"/>
          <p:cNvSpPr/>
          <p:nvPr/>
        </p:nvSpPr>
        <p:spPr>
          <a:xfrm>
            <a:off x="8618400" y="836640"/>
            <a:ext cx="509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89BFB-D266-43DC-935F-9CFCE390E2DB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6" name=""/>
          <p:cNvGraphicFramePr/>
          <p:nvPr/>
        </p:nvGraphicFramePr>
        <p:xfrm>
          <a:off x="0" y="1955880"/>
          <a:ext cx="9144000" cy="4713120"/>
        </p:xfrm>
        <a:graphic>
          <a:graphicData uri="http://schemas.openxmlformats.org/drawingml/2006/table">
            <a:tbl>
              <a:tblPr/>
              <a:tblGrid>
                <a:gridCol w="3132000"/>
                <a:gridCol w="1584360"/>
                <a:gridCol w="1368360"/>
                <a:gridCol w="1295640"/>
                <a:gridCol w="1763640"/>
              </a:tblGrid>
              <a:tr h="523800"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DSG (heads ha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iologi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hemic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hysi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oil qual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4 sea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3800"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4160"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2000"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4160"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5 sea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3800"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3800"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3800"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itle 1"/>
          <p:cNvSpPr/>
          <p:nvPr/>
        </p:nvSpPr>
        <p:spPr>
          <a:xfrm>
            <a:off x="762120" y="1066680"/>
            <a:ext cx="769608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Outlin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1"/>
          <p:cNvSpPr/>
          <p:nvPr/>
        </p:nvSpPr>
        <p:spPr>
          <a:xfrm>
            <a:off x="127080" y="1936800"/>
            <a:ext cx="892944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erials and meth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mmend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ons and way forw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lide Number Placeholder 4"/>
          <p:cNvSpPr/>
          <p:nvPr/>
        </p:nvSpPr>
        <p:spPr>
          <a:xfrm>
            <a:off x="8732880" y="828720"/>
            <a:ext cx="323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5B121-79B0-4888-B1A6-E05781471E06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itle 1"/>
          <p:cNvSpPr/>
          <p:nvPr/>
        </p:nvSpPr>
        <p:spPr>
          <a:xfrm>
            <a:off x="0" y="1300320"/>
            <a:ext cx="9144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542960" indent="-1542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Table 7. Weed species count as affected by SDS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4"/>
          <p:cNvSpPr/>
          <p:nvPr/>
        </p:nvSpPr>
        <p:spPr>
          <a:xfrm>
            <a:off x="8639280" y="824040"/>
            <a:ext cx="50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68F42-5B0B-4FA7-8F76-0F76D294BA66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0" y="1874880"/>
          <a:ext cx="9180360" cy="5154480"/>
        </p:xfrm>
        <a:graphic>
          <a:graphicData uri="http://schemas.openxmlformats.org/drawingml/2006/table">
            <a:tbl>
              <a:tblPr/>
              <a:tblGrid>
                <a:gridCol w="1857240"/>
                <a:gridCol w="1017720"/>
                <a:gridCol w="941400"/>
                <a:gridCol w="1042920"/>
                <a:gridCol w="576360"/>
                <a:gridCol w="865080"/>
                <a:gridCol w="1584360"/>
                <a:gridCol w="1295280"/>
              </a:tblGrid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DSG (heads ha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ast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ed species (m-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valu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vs (70 + 140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 vs 14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 seas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oadleaf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1 (0.8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4 (0.9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9 (0.9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s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 (0.4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8 (0.6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0 (0.7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dg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 (0.2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 (0.5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6 (0.6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 seas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oadleaf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 (0.8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0 (0.9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5 (1.0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s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 (0.3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8 (0.7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8 (0.6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dg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 (0.2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 (0.3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 (0.5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itle 1"/>
          <p:cNvSpPr/>
          <p:nvPr/>
        </p:nvSpPr>
        <p:spPr>
          <a:xfrm>
            <a:off x="44280" y="6338880"/>
            <a:ext cx="90997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00000"/>
                </a:solidFill>
                <a:latin typeface="Arial"/>
              </a:rPr>
              <a:t>Table 2. Maize grain yield as affected by SDSG and MP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4"/>
          <p:cNvSpPr/>
          <p:nvPr/>
        </p:nvSpPr>
        <p:spPr>
          <a:xfrm>
            <a:off x="8602560" y="0"/>
            <a:ext cx="530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16113-30EA-44FA-9EAE-C04F543AD2A4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2" name="Chart 4"/>
          <p:cNvGraphicFramePr/>
          <p:nvPr/>
        </p:nvGraphicFramePr>
        <p:xfrm>
          <a:off x="-50760" y="-50760"/>
          <a:ext cx="9194760" cy="638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3" name="Char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0760" y="-50760"/>
                    <a:ext cx="9194760" cy="63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itle 1"/>
          <p:cNvSpPr/>
          <p:nvPr/>
        </p:nvSpPr>
        <p:spPr>
          <a:xfrm>
            <a:off x="60480" y="6350040"/>
            <a:ext cx="90835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Fig. 3. Maize grain yield as affected by SDSG and NF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8639280" y="0"/>
            <a:ext cx="50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79D7A-7A23-4710-892F-F3DFC5EC5D15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6" name="Chart 4"/>
          <p:cNvGraphicFramePr/>
          <p:nvPr/>
        </p:nvGraphicFramePr>
        <p:xfrm>
          <a:off x="-50760" y="-50760"/>
          <a:ext cx="9194760" cy="640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7" name="Char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0760" y="-50760"/>
                    <a:ext cx="919476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itle 1"/>
          <p:cNvSpPr/>
          <p:nvPr/>
        </p:nvSpPr>
        <p:spPr>
          <a:xfrm>
            <a:off x="108000" y="6338880"/>
            <a:ext cx="903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85760" indent="-10857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Fig. 4. Farmer preference for corralling technology  at Navron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8602560" y="0"/>
            <a:ext cx="5032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1389A-C58B-48AC-A9BA-7A06EEE43F25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0" name="Chart 4"/>
          <p:cNvGraphicFramePr/>
          <p:nvPr/>
        </p:nvGraphicFramePr>
        <p:xfrm>
          <a:off x="-50760" y="-34920"/>
          <a:ext cx="9194760" cy="637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1" name="Char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0760" y="-34920"/>
                    <a:ext cx="9194760" cy="63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itle 1"/>
          <p:cNvSpPr/>
          <p:nvPr/>
        </p:nvSpPr>
        <p:spPr>
          <a:xfrm>
            <a:off x="0" y="6338880"/>
            <a:ext cx="9142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85760" indent="-10857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Fig. 5. Farmer preference for maize density at Navron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8672400" y="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2012E-5D6A-4823-BCD1-761678546104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4" name="Chart 4"/>
          <p:cNvGraphicFramePr/>
          <p:nvPr/>
        </p:nvGraphicFramePr>
        <p:xfrm>
          <a:off x="-50760" y="-22320"/>
          <a:ext cx="9193320" cy="636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5" name="Char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0760" y="-22320"/>
                    <a:ext cx="9193320" cy="636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itle 1"/>
          <p:cNvSpPr/>
          <p:nvPr/>
        </p:nvSpPr>
        <p:spPr>
          <a:xfrm>
            <a:off x="28440" y="6288120"/>
            <a:ext cx="909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00000"/>
                </a:solidFill>
                <a:latin typeface="Arial"/>
              </a:rPr>
              <a:t>Fig. 6. Farmer preference for N fertilizer rate at Navrong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8629560" y="0"/>
            <a:ext cx="514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0C85F-E863-4501-B849-A4BA3335163D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8" name="Chart 4"/>
          <p:cNvGraphicFramePr/>
          <p:nvPr/>
        </p:nvGraphicFramePr>
        <p:xfrm>
          <a:off x="-50760" y="-50760"/>
          <a:ext cx="9194760" cy="6338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9" name="Char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0760" y="-50760"/>
                    <a:ext cx="9194760" cy="63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itle 1"/>
          <p:cNvSpPr/>
          <p:nvPr/>
        </p:nvSpPr>
        <p:spPr>
          <a:xfrm>
            <a:off x="22320" y="1197000"/>
            <a:ext cx="518940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1"/>
          <p:cNvSpPr/>
          <p:nvPr/>
        </p:nvSpPr>
        <p:spPr>
          <a:xfrm>
            <a:off x="22320" y="1822320"/>
            <a:ext cx="914400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alling of sheep and goat improved soil quality inde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alling of sheep and goat increased weed divers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SG and MPD interaction increased maize grain yield by about 92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SG and NFR interaction also increased maize grain yield by 92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jority of farmers preferred maize performance under SDSG at 140 heads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MPD at 100 000 plants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NFR at 90 kg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8640720" y="795240"/>
            <a:ext cx="503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0906E-B14F-4261-A5B8-6B4EB8487BCE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itle 1"/>
          <p:cNvSpPr/>
          <p:nvPr/>
        </p:nvSpPr>
        <p:spPr>
          <a:xfrm>
            <a:off x="0" y="1197000"/>
            <a:ext cx="446400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Recommend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2"/>
          <p:cNvSpPr/>
          <p:nvPr/>
        </p:nvSpPr>
        <p:spPr>
          <a:xfrm>
            <a:off x="141120" y="1803240"/>
            <a:ext cx="885852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Maize-livestock farmers with low resource endowment may also corral sheep and goat 70 or 140 heads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with maize plant density at 100 000 plants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for increased grain y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Times New Roman"/>
              <a:buAutoNum type="roman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Those with low number flock size can corral at 70 heads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with mineral fertilizer at 90 kg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N for high grain yiel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Times New Roman"/>
              <a:buAutoNum type="roman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Those with large flock size can also corral at 140 herd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with mineral fertilizer at 60 kg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N for increased grain y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4"/>
          <p:cNvSpPr/>
          <p:nvPr/>
        </p:nvSpPr>
        <p:spPr>
          <a:xfrm>
            <a:off x="8639280" y="785880"/>
            <a:ext cx="50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99360-2245-4038-BA0A-EF69AA4FB64C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itle 1"/>
          <p:cNvSpPr/>
          <p:nvPr/>
        </p:nvSpPr>
        <p:spPr>
          <a:xfrm>
            <a:off x="0" y="1197000"/>
            <a:ext cx="694836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Lessons and way forw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2"/>
          <p:cNvSpPr/>
          <p:nvPr/>
        </p:nvSpPr>
        <p:spPr>
          <a:xfrm>
            <a:off x="108000" y="2060640"/>
            <a:ext cx="8858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Farmers complained about theft of animal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Times New Roman"/>
              <a:buAutoNum type="roman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Quality of manure from livestock was 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Times New Roman"/>
              <a:buAutoNum type="roman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Supplementary feeding to improve manure qua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Times New Roman"/>
              <a:buAutoNum type="roman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How the quality manure also affects fodder qua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lide Number Placeholder 4"/>
          <p:cNvSpPr/>
          <p:nvPr/>
        </p:nvSpPr>
        <p:spPr>
          <a:xfrm>
            <a:off x="8639280" y="785880"/>
            <a:ext cx="50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A965C-766A-4F2D-955B-5D3A772204AD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Picture 2" descr=""/>
          <p:cNvPicPr/>
          <p:nvPr/>
        </p:nvPicPr>
        <p:blipFill>
          <a:blip r:embed="rId1"/>
          <a:stretch/>
        </p:blipFill>
        <p:spPr>
          <a:xfrm>
            <a:off x="76320" y="3141720"/>
            <a:ext cx="8915400" cy="1295280"/>
          </a:xfrm>
          <a:prstGeom prst="rect">
            <a:avLst/>
          </a:prstGeom>
          <a:ln w="0">
            <a:noFill/>
          </a:ln>
        </p:spPr>
      </p:pic>
      <p:pic>
        <p:nvPicPr>
          <p:cNvPr id="490" name="Content Placeholder 3" descr="E:\Pictures\Knust campus\KNUST EMBLEM.png"/>
          <p:cNvPicPr/>
          <p:nvPr/>
        </p:nvPicPr>
        <p:blipFill>
          <a:blip r:embed="rId2"/>
          <a:stretch/>
        </p:blipFill>
        <p:spPr>
          <a:xfrm>
            <a:off x="4081320" y="4437000"/>
            <a:ext cx="9367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"/>
          <p:cNvSpPr/>
          <p:nvPr/>
        </p:nvSpPr>
        <p:spPr>
          <a:xfrm>
            <a:off x="590400" y="34920"/>
            <a:ext cx="82296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"/>
          <p:cNvSpPr/>
          <p:nvPr/>
        </p:nvSpPr>
        <p:spPr>
          <a:xfrm>
            <a:off x="36000" y="504720"/>
            <a:ext cx="23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3"/>
          <p:cNvSpPr/>
          <p:nvPr/>
        </p:nvSpPr>
        <p:spPr>
          <a:xfrm>
            <a:off x="0" y="1077840"/>
            <a:ext cx="9144000" cy="55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 farming system in Africa is intensifying across various agro-ecological zone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anginga et al., 2003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in human and livestock growth is leading to crop-livestock intensification (Powell et al., 2004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ple crops grown are mainly cereals (maize, rice, millet and sorghu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estock reared are mainly ruminants with poultry and lit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o-gastr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lide Number Placeholder 4"/>
          <p:cNvSpPr/>
          <p:nvPr/>
        </p:nvSpPr>
        <p:spPr>
          <a:xfrm>
            <a:off x="8928000" y="0"/>
            <a:ext cx="2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5B9B9-A0B1-410E-9C4E-209D8D4B2C5D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itle 1"/>
          <p:cNvSpPr/>
          <p:nvPr/>
        </p:nvSpPr>
        <p:spPr>
          <a:xfrm>
            <a:off x="611280" y="83664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Introduction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3"/>
          <p:cNvSpPr/>
          <p:nvPr/>
        </p:nvSpPr>
        <p:spPr>
          <a:xfrm>
            <a:off x="0" y="1467000"/>
            <a:ext cx="72835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 Stat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Content Placeholder 2"/>
          <p:cNvSpPr/>
          <p:nvPr/>
        </p:nvSpPr>
        <p:spPr>
          <a:xfrm>
            <a:off x="1440" y="2114640"/>
            <a:ext cx="914400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p yields on farmers field are low due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atic rainfa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soil fertility (Bationo et al., 200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or integration of crop and livestock enterprise (Tarawali et al., 1999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or agronomic practi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planting dens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anket fertilizer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lide Number Placeholder 5"/>
          <p:cNvSpPr/>
          <p:nvPr/>
        </p:nvSpPr>
        <p:spPr>
          <a:xfrm>
            <a:off x="8837640" y="770040"/>
            <a:ext cx="28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A5554-B28B-4771-9B86-47489DE5D0E1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itle 1"/>
          <p:cNvSpPr/>
          <p:nvPr/>
        </p:nvSpPr>
        <p:spPr>
          <a:xfrm>
            <a:off x="466560" y="3816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Introduction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3"/>
          <p:cNvSpPr/>
          <p:nvPr/>
        </p:nvSpPr>
        <p:spPr>
          <a:xfrm>
            <a:off x="9360" y="371520"/>
            <a:ext cx="3816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Content Placeholder 2"/>
          <p:cNvSpPr/>
          <p:nvPr/>
        </p:nvSpPr>
        <p:spPr>
          <a:xfrm>
            <a:off x="9360" y="847800"/>
            <a:ext cx="9099720" cy="58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estock corralling results in high crop yields (Powell et al., 2004; 201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fertilizer us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uah et al., 2009; Abdul Rahman et al., 2015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ing planting density (Conley et al., 2005; Adeniyan, 201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anket fertilizer recommendation not useful in recent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licting results on effect of plant density on yield of ma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ch remains unknown on the interaction effect of these three factors on grain yield in crop-livestock system in West Afr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5"/>
          <p:cNvSpPr/>
          <p:nvPr/>
        </p:nvSpPr>
        <p:spPr>
          <a:xfrm>
            <a:off x="8832960" y="-1440"/>
            <a:ext cx="284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09A53-8DED-49A3-BFB8-7F24C4E5C07F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itle 1"/>
          <p:cNvSpPr/>
          <p:nvPr/>
        </p:nvSpPr>
        <p:spPr>
          <a:xfrm>
            <a:off x="2700360" y="0"/>
            <a:ext cx="43196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Introduction 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Content Placeholder 2"/>
          <p:cNvSpPr/>
          <p:nvPr/>
        </p:nvSpPr>
        <p:spPr>
          <a:xfrm>
            <a:off x="46080" y="620640"/>
            <a:ext cx="91314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 Objectiv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etermined the interaction effect of SDSG, MPD and NFR on yield of maize in a small-scaled crop-livestock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c objectives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etermine effect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SG on soil qua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SG on weed divers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on effect of SDSG, MPD and NFR on yield of ma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rmer preference for SDSG, MPD and NFR technologies on maiz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lide Number Placeholder 4"/>
          <p:cNvSpPr/>
          <p:nvPr/>
        </p:nvSpPr>
        <p:spPr>
          <a:xfrm>
            <a:off x="8928000" y="0"/>
            <a:ext cx="2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E660E-E2D4-40D0-8DB6-2B94B6C9F999}" type="slidenum">
              <a:rPr b="1" lang="en-US" sz="3200" spc="-1" strike="noStrike">
                <a:solidFill>
                  <a:srgbClr val="003300"/>
                </a:solidFill>
                <a:latin typeface="Calibri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itle 1"/>
          <p:cNvSpPr/>
          <p:nvPr/>
        </p:nvSpPr>
        <p:spPr>
          <a:xfrm>
            <a:off x="468360" y="-20520"/>
            <a:ext cx="822960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Materials and Meth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3" descr="E:\UER. jpg"/>
          <p:cNvPicPr/>
          <p:nvPr/>
        </p:nvPicPr>
        <p:blipFill>
          <a:blip r:embed="rId1"/>
          <a:stretch/>
        </p:blipFill>
        <p:spPr>
          <a:xfrm>
            <a:off x="3708360" y="549360"/>
            <a:ext cx="5435640" cy="6308640"/>
          </a:xfrm>
          <a:prstGeom prst="rect">
            <a:avLst/>
          </a:prstGeom>
          <a:ln w="0">
            <a:noFill/>
          </a:ln>
        </p:spPr>
      </p:pic>
      <p:sp>
        <p:nvSpPr>
          <p:cNvPr id="414" name="Content Placeholder 2"/>
          <p:cNvSpPr/>
          <p:nvPr/>
        </p:nvSpPr>
        <p:spPr>
          <a:xfrm>
            <a:off x="0" y="549360"/>
            <a:ext cx="392436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y Area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per East (Sudan Savann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itude:10̊ 30’ 11’’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titude: 0̊ 1’ 30’’ 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viron.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ean annual Max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34.3̊ 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ean annual Mini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22.3̊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 annual Rainfall: 750-1204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ource: Navrongo Meteo. Depar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8871120" y="17640"/>
            <a:ext cx="26640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C95B-6216-415B-87B1-8D8F40342E94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itle 1"/>
          <p:cNvSpPr/>
          <p:nvPr/>
        </p:nvSpPr>
        <p:spPr>
          <a:xfrm>
            <a:off x="762120" y="1066680"/>
            <a:ext cx="7696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Content Placeholder 2"/>
          <p:cNvSpPr/>
          <p:nvPr/>
        </p:nvSpPr>
        <p:spPr>
          <a:xfrm>
            <a:off x="54000" y="1441440"/>
            <a:ext cx="90709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xperimental Desig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lit-split plot with 8 rep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lide Number Placeholder 4"/>
          <p:cNvSpPr/>
          <p:nvPr/>
        </p:nvSpPr>
        <p:spPr>
          <a:xfrm>
            <a:off x="8908920" y="765000"/>
            <a:ext cx="2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7E38D-87FA-4458-850B-FC9A7535272F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4"/>
          <p:cNvSpPr/>
          <p:nvPr/>
        </p:nvSpPr>
        <p:spPr>
          <a:xfrm>
            <a:off x="30240" y="2565360"/>
            <a:ext cx="9126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60640" indent="-20606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ain plot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cking density of sheep and goat corralling(SDSG) (0, 70, 140 heads h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60640" indent="-20606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60640" indent="-20606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ub plot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ze plant density (MPD)                                   (66 667, 100 000, 133 333 plants h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60640" indent="-20606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60640" indent="-20606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ub-sub plot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fertilizer rate (NFR)                                      (0-40-40, 60-40-40, 90-40-40 kg h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P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itle 1"/>
          <p:cNvSpPr/>
          <p:nvPr/>
        </p:nvSpPr>
        <p:spPr>
          <a:xfrm>
            <a:off x="0" y="6381720"/>
            <a:ext cx="9144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hoto 1: Stocking density of sheep and goat corralling (SDSG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lide Number Placeholder 4"/>
          <p:cNvSpPr/>
          <p:nvPr/>
        </p:nvSpPr>
        <p:spPr>
          <a:xfrm>
            <a:off x="8897760" y="6381720"/>
            <a:ext cx="2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0BD6F-B9FD-4E00-B60F-930FB99827A6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3" descr=""/>
          <p:cNvPicPr/>
          <p:nvPr/>
        </p:nvPicPr>
        <p:blipFill>
          <a:blip r:embed="rId1"/>
          <a:stretch/>
        </p:blipFill>
        <p:spPr>
          <a:xfrm>
            <a:off x="-9360" y="-4762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Odhong</cp:lastModifiedBy>
  <cp:lastPrinted>2015-09-01T11:16:39Z</cp:lastPrinted>
  <dcterms:modified xsi:type="dcterms:W3CDTF">2016-12-22T10:52:12Z</dcterms:modified>
  <cp:revision>973</cp:revision>
  <dc:subject/>
  <dc:title>Diapositiva 1</dc:title>
</cp:coreProperties>
</file>