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6.jpeg" ContentType="image/jpeg"/>
  <Override PartName="/ppt/media/image8.png" ContentType="image/png"/>
  <Override PartName="/ppt/media/image11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94E50-01EC-423B-9030-A42D27DC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57D92-D280-4B3D-890D-A954F05A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AC926-CEE4-44D2-B1DF-01FB2DD73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1A322-10BF-4913-BC80-B3ED0F5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9BF62-FCBD-483F-B2E0-D9FE99EC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7A0B9-EAF3-4D46-A241-DEAD4A8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FE21F-7812-4A37-B011-D4DEC685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12929-6B9B-4C7B-86E9-9808A6762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E9D31-72FA-4F55-8A3B-3EF180F8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35489-F8BD-4780-A713-5309EAF53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5B851-FAF3-4774-A064-6900AF5A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56E6D-EC41-4BC5-A5D0-C7D08991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6BE44-095A-42CD-98BD-C7D806AF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22E8A-204C-4594-984A-D91428C7A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EDB26-8B7A-41FB-9002-945568B6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297E3-AABD-4432-8597-A8DB3663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DC00D-374C-476E-89BC-A45414F7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2B8E0-D670-4C6E-A64C-6C804CDF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E789C-D28A-434C-8CE1-24648BF8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9DE38-1435-4A38-9CB3-16C4717E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F257-94E1-44D5-A872-A7318505D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D90-19C9-4225-A270-2B5766E1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2FD7-C4F5-4306-887D-829B2C031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62A5-6F5A-4687-94FA-C2315F0E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B68-6A75-4095-A362-A1F1CFB3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1853-2BBA-4D95-AA58-FC6B41DA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A2EC-1D9D-4189-93B1-2FF0DF60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96AC-CEC9-489B-9AA8-7D35CB0E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19CE-49D4-4E4A-BC42-83804EB6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C58C-F4C1-4B65-8E0F-3A229F47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BABA-5883-4524-8C04-D4B59EF8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95A2-30AA-4790-9373-32DD2EB9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F54B-4ECE-4FFE-B775-B0090B58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1069-EF4E-4D45-A3AB-DD7E895FA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8C58A-C9F7-41C2-9158-EC700D8D5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6757-0D33-48D7-B1D5-2D7C8BE7B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4F64D-1B10-46AD-A639-2D12ED7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F624-300C-40CA-B844-BF247413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3F4E-0B0B-447E-BDD7-43E5A5599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648E-6C88-4D5C-A5B4-5B4024E1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C93B-406E-46EF-B953-1EDE219A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F78E-B59F-4085-B892-12A5626D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B9E6-86A0-415E-AE38-3758C263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1C25-D5B7-4240-8905-B8BF62494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BEC36-5968-452B-971B-2AC5D134A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A9477-BCFF-45E8-89B8-2CD7B6B2F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8DDF3-E1DD-45CD-A1C2-AF703BD0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FDC8F-8746-4DBB-949F-C215D8F1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BE43-C952-4EB4-9A57-C371BFCBFDD9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13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BFC0-9397-4F72-B0DC-89514FF63DB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ED553-81FE-4F1F-8BC9-86977586B23E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762200" y="593568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0" y="205740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AR_Global_partners.jpg"/>
          <p:cNvPicPr/>
          <p:nvPr/>
        </p:nvPicPr>
        <p:blipFill>
          <a:blip r:embed="rId4"/>
          <a:stretch/>
        </p:blipFill>
        <p:spPr>
          <a:xfrm>
            <a:off x="1733400" y="5533920"/>
            <a:ext cx="5677200" cy="5619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3"/>
          <a:stretch/>
        </p:blipFill>
        <p:spPr>
          <a:xfrm>
            <a:off x="0" y="-5400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8C5-A0C0-4DE1-9D04-172CDD7AF10D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itle 1"/>
          <p:cNvSpPr/>
          <p:nvPr/>
        </p:nvSpPr>
        <p:spPr>
          <a:xfrm>
            <a:off x="38160" y="1492200"/>
            <a:ext cx="910584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vestock corralling, planting density and N fertilizer rate effect on soil quality, weed dynamics and maize yield in Northern Gha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tent Placeholder 2"/>
          <p:cNvSpPr/>
          <p:nvPr/>
        </p:nvSpPr>
        <p:spPr>
          <a:xfrm>
            <a:off x="1519200" y="5516640"/>
            <a:ext cx="5877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bdul Rahman Nurud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8928000" y="69228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244C-8E25-4444-A413-B5F720E40EF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itle 1"/>
          <p:cNvSpPr/>
          <p:nvPr/>
        </p:nvSpPr>
        <p:spPr>
          <a:xfrm>
            <a:off x="0" y="6367320"/>
            <a:ext cx="831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2: Manure and soil sampling from SDSG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8628120" y="638172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759D-10E4-401A-A6B0-8B00EEB8BF47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408720"/>
          </a:xfrm>
          <a:prstGeom prst="rect">
            <a:avLst/>
          </a:prstGeom>
          <a:ln w="0">
            <a:noFill/>
          </a:ln>
        </p:spPr>
      </p:pic>
      <p:sp>
        <p:nvSpPr>
          <p:cNvPr id="426" name="TextBox 1"/>
          <p:cNvSpPr/>
          <p:nvPr/>
        </p:nvSpPr>
        <p:spPr>
          <a:xfrm>
            <a:off x="6875640" y="-100080"/>
            <a:ext cx="2268360" cy="5854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il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mic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B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thworm 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lk 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o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is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"/>
          <p:cNvSpPr/>
          <p:nvPr/>
        </p:nvSpPr>
        <p:spPr>
          <a:xfrm>
            <a:off x="15840" y="4276800"/>
            <a:ext cx="2278080" cy="2014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ure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yphen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8710560" y="0"/>
            <a:ext cx="433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839A-3F3B-455A-8AF6-2A4CFE441C23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684360" y="166680"/>
            <a:ext cx="7886520" cy="4581360"/>
          </a:xfrm>
          <a:prstGeom prst="rect">
            <a:avLst/>
          </a:prstGeom>
          <a:ln w="0">
            <a:noFill/>
          </a:ln>
        </p:spPr>
      </p:pic>
      <p:sp>
        <p:nvSpPr>
          <p:cNvPr id="430" name="TextBox 3"/>
          <p:cNvSpPr/>
          <p:nvPr/>
        </p:nvSpPr>
        <p:spPr>
          <a:xfrm>
            <a:off x="6480" y="6454800"/>
            <a:ext cx="90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g. 1.  Soil quality index triangle indicating sub-indices of quality index (Kang et al., 200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TextBox 1" descr=""/>
          <p:cNvPicPr/>
          <p:nvPr/>
        </p:nvPicPr>
        <p:blipFill>
          <a:blip r:embed="rId2"/>
          <a:stretch/>
        </p:blipFill>
        <p:spPr>
          <a:xfrm>
            <a:off x="109440" y="4761000"/>
            <a:ext cx="8991720" cy="157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itle 1"/>
          <p:cNvSpPr/>
          <p:nvPr/>
        </p:nvSpPr>
        <p:spPr>
          <a:xfrm>
            <a:off x="0" y="6381720"/>
            <a:ext cx="8381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3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4"/>
          <p:cNvSpPr/>
          <p:nvPr/>
        </p:nvSpPr>
        <p:spPr>
          <a:xfrm>
            <a:off x="8639280" y="6361200"/>
            <a:ext cx="511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0E2C-4A41-4E90-9BB4-FFEA9C00A18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1" descr=""/>
          <p:cNvPicPr/>
          <p:nvPr/>
        </p:nvPicPr>
        <p:blipFill>
          <a:blip r:embed="rId1"/>
          <a:stretch/>
        </p:blipFill>
        <p:spPr>
          <a:xfrm>
            <a:off x="-9360" y="-95400"/>
            <a:ext cx="9210600" cy="654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itle 1"/>
          <p:cNvSpPr/>
          <p:nvPr/>
        </p:nvSpPr>
        <p:spPr>
          <a:xfrm>
            <a:off x="0" y="6308640"/>
            <a:ext cx="914400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Photo 4: Female farmers preference for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4"/>
          <p:cNvSpPr/>
          <p:nvPr/>
        </p:nvSpPr>
        <p:spPr>
          <a:xfrm>
            <a:off x="8616960" y="637236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D76A-CA57-4A26-BBCB-E072C6F634A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itle 1"/>
          <p:cNvSpPr/>
          <p:nvPr/>
        </p:nvSpPr>
        <p:spPr>
          <a:xfrm>
            <a:off x="-33480" y="19652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1. Manure chemical proper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632800" y="765000"/>
            <a:ext cx="477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4452-2B60-4813-A28A-9E8FCD3CF70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3"/>
          <p:cNvSpPr/>
          <p:nvPr/>
        </p:nvSpPr>
        <p:spPr>
          <a:xfrm>
            <a:off x="333360" y="1087560"/>
            <a:ext cx="849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lts and discus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93600" y="2708280"/>
          <a:ext cx="8975880" cy="3897360"/>
        </p:xfrm>
        <a:graphic>
          <a:graphicData uri="http://schemas.openxmlformats.org/drawingml/2006/table">
            <a:tbl>
              <a:tblPr/>
              <a:tblGrid>
                <a:gridCol w="1351080"/>
                <a:gridCol w="1305000"/>
                <a:gridCol w="1014120"/>
                <a:gridCol w="1013040"/>
                <a:gridCol w="1014480"/>
                <a:gridCol w="1209600"/>
                <a:gridCol w="1012680"/>
                <a:gridCol w="281160"/>
                <a:gridCol w="774720"/>
              </a:tblGrid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yphe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gn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a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4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Title 1"/>
          <p:cNvSpPr/>
          <p:nvPr/>
        </p:nvSpPr>
        <p:spPr>
          <a:xfrm>
            <a:off x="-20520" y="15080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2. Soil biolog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8645400" y="74448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AD80-3151-4FE4-8B13-32DE306F8B7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41400" y="2084400"/>
          <a:ext cx="9082080" cy="4460760"/>
        </p:xfrm>
        <a:graphic>
          <a:graphicData uri="http://schemas.openxmlformats.org/drawingml/2006/table">
            <a:tbl>
              <a:tblPr/>
              <a:tblGrid>
                <a:gridCol w="1806120"/>
                <a:gridCol w="963000"/>
                <a:gridCol w="1078560"/>
                <a:gridCol w="1080000"/>
                <a:gridCol w="647280"/>
                <a:gridCol w="862920"/>
                <a:gridCol w="162000"/>
                <a:gridCol w="1430640"/>
                <a:gridCol w="1051560"/>
              </a:tblGrid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8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7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C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8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4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5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 (g kg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308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 (0.25 m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 (0.9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 (1.2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 (1.3)</a:t>
                      </a:r>
                      <a:r>
                        <a:rPr b="0" lang="en-US" sz="16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2720"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000" rIns="630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3000" marR="63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3. Soil chemical properties as affected by SDS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8637480" y="728640"/>
            <a:ext cx="478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5E44-CF3F-488B-9451-A99A9E9E413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7" name=""/>
          <p:cNvGraphicFramePr/>
          <p:nvPr/>
        </p:nvGraphicFramePr>
        <p:xfrm>
          <a:off x="0" y="1700280"/>
          <a:ext cx="9082080" cy="5048280"/>
        </p:xfrm>
        <a:graphic>
          <a:graphicData uri="http://schemas.openxmlformats.org/drawingml/2006/table">
            <a:tbl>
              <a:tblPr/>
              <a:tblGrid>
                <a:gridCol w="2624400"/>
                <a:gridCol w="576000"/>
                <a:gridCol w="576000"/>
                <a:gridCol w="862560"/>
                <a:gridCol w="648720"/>
                <a:gridCol w="862920"/>
                <a:gridCol w="167040"/>
                <a:gridCol w="1570320"/>
                <a:gridCol w="1194120"/>
              </a:tblGrid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 rat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856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 (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 (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able P (mg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 (cmol kg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5520" marR="655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itle 1"/>
          <p:cNvSpPr/>
          <p:nvPr/>
        </p:nvSpPr>
        <p:spPr>
          <a:xfrm>
            <a:off x="108000" y="11858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4. Soil physical properties as affected by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8594640" y="763560"/>
            <a:ext cx="549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88E8-DE13-41F9-9B91-B216D83B775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0" name=""/>
          <p:cNvGraphicFramePr/>
          <p:nvPr/>
        </p:nvGraphicFramePr>
        <p:xfrm>
          <a:off x="76320" y="1762200"/>
          <a:ext cx="9005760" cy="4906800"/>
        </p:xfrm>
        <a:graphic>
          <a:graphicData uri="http://schemas.openxmlformats.org/drawingml/2006/table">
            <a:tbl>
              <a:tblPr/>
              <a:tblGrid>
                <a:gridCol w="2541600"/>
                <a:gridCol w="488880"/>
                <a:gridCol w="592200"/>
                <a:gridCol w="885600"/>
                <a:gridCol w="635040"/>
                <a:gridCol w="865080"/>
                <a:gridCol w="1603440"/>
                <a:gridCol w="1393920"/>
              </a:tblGrid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ble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 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1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 (g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6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032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 (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 x 10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tle 1"/>
          <p:cNvSpPr/>
          <p:nvPr/>
        </p:nvSpPr>
        <p:spPr>
          <a:xfrm>
            <a:off x="30240" y="0"/>
            <a:ext cx="9075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able 5. Result of principal component analysis for selecting soil quality indicators under SDS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8690040" y="34920"/>
            <a:ext cx="453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95FA-A682-4483-9F42-CDFED8006A4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2840" y="911160"/>
          <a:ext cx="9094680" cy="5994360"/>
        </p:xfrm>
        <a:graphic>
          <a:graphicData uri="http://schemas.openxmlformats.org/drawingml/2006/table">
            <a:tbl>
              <a:tblPr/>
              <a:tblGrid>
                <a:gridCol w="2206800"/>
                <a:gridCol w="766440"/>
                <a:gridCol w="766800"/>
                <a:gridCol w="766800"/>
                <a:gridCol w="766800"/>
                <a:gridCol w="328680"/>
                <a:gridCol w="865080"/>
                <a:gridCol w="792360"/>
                <a:gridCol w="925560"/>
                <a:gridCol w="909360"/>
              </a:tblGrid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ncipal Compo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rianc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mulative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genvectors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il. 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ch.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4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B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7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M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5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4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9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. c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lk den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.3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ros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5720"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s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3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2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0.59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0" marR="64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itle 1"/>
          <p:cNvSpPr/>
          <p:nvPr/>
        </p:nvSpPr>
        <p:spPr>
          <a:xfrm>
            <a:off x="4680" y="1312920"/>
            <a:ext cx="889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Arial"/>
              </a:rPr>
              <a:t>Table 6. SDSG effect on soil qua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4"/>
          <p:cNvSpPr/>
          <p:nvPr/>
        </p:nvSpPr>
        <p:spPr>
          <a:xfrm>
            <a:off x="8618400" y="836640"/>
            <a:ext cx="509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6772-7B41-42FE-A77B-4609A37324A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6" name=""/>
          <p:cNvGraphicFramePr/>
          <p:nvPr/>
        </p:nvGraphicFramePr>
        <p:xfrm>
          <a:off x="0" y="1955880"/>
          <a:ext cx="9144000" cy="4713120"/>
        </p:xfrm>
        <a:graphic>
          <a:graphicData uri="http://schemas.openxmlformats.org/drawingml/2006/table">
            <a:tbl>
              <a:tblPr/>
              <a:tblGrid>
                <a:gridCol w="3132000"/>
                <a:gridCol w="1584360"/>
                <a:gridCol w="1368360"/>
                <a:gridCol w="1295640"/>
                <a:gridCol w="1763640"/>
              </a:tblGrid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DSG (heads ha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-1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iolog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hemic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il qual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4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0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4160"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15 seas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2280" rIns="62280" tIns="0" bIns="0" anchor="b">
                      <a:noAutofit/>
                    </a:bodyPr>
                    <a:p>
                      <a:pPr marL="173160" indent="-11772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itle 1"/>
          <p:cNvSpPr/>
          <p:nvPr/>
        </p:nvSpPr>
        <p:spPr>
          <a:xfrm>
            <a:off x="762120" y="1066680"/>
            <a:ext cx="769608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1"/>
          <p:cNvSpPr/>
          <p:nvPr/>
        </p:nvSpPr>
        <p:spPr>
          <a:xfrm>
            <a:off x="127080" y="1936800"/>
            <a:ext cx="892944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s and way for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8732880" y="828720"/>
            <a:ext cx="323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DB41-9D5E-4C46-9FD1-9B5DA7A13B8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itle 1"/>
          <p:cNvSpPr/>
          <p:nvPr/>
        </p:nvSpPr>
        <p:spPr>
          <a:xfrm>
            <a:off x="0" y="1300320"/>
            <a:ext cx="9144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542960" indent="-15429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00000"/>
                </a:solidFill>
                <a:latin typeface="Arial"/>
              </a:rPr>
              <a:t>Table 7. Weed species count as affected by SDS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8639280" y="82404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30942-5968-4AB6-AF9F-3FFC4C33D39B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0" y="1874880"/>
          <a:ext cx="9180360" cy="5154480"/>
        </p:xfrm>
        <a:graphic>
          <a:graphicData uri="http://schemas.openxmlformats.org/drawingml/2006/table">
            <a:tbl>
              <a:tblPr/>
              <a:tblGrid>
                <a:gridCol w="1857240"/>
                <a:gridCol w="1017720"/>
                <a:gridCol w="941400"/>
                <a:gridCol w="1042920"/>
                <a:gridCol w="576360"/>
                <a:gridCol w="865080"/>
                <a:gridCol w="1584360"/>
                <a:gridCol w="1295280"/>
              </a:tblGrid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DSG (heads ha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rast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ed species (m-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.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-valu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vs (70 + 140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 vs 14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1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4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9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0.4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0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4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6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5 seas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oadleaf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3 (0.8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0 (0.9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 (1.0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s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7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8 (0.6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d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0.2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 (0.3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 (0.5)</a:t>
                      </a:r>
                      <a:r>
                        <a:rPr b="0" lang="en-US" sz="17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*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240" rIns="6624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6240" marR="662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itle 1"/>
          <p:cNvSpPr/>
          <p:nvPr/>
        </p:nvSpPr>
        <p:spPr>
          <a:xfrm>
            <a:off x="44280" y="6338880"/>
            <a:ext cx="909972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Table 2. Maize grain yield as affected by SDSG and MP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4"/>
          <p:cNvSpPr/>
          <p:nvPr/>
        </p:nvSpPr>
        <p:spPr>
          <a:xfrm>
            <a:off x="8602560" y="0"/>
            <a:ext cx="53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2BD9-057E-4F80-9BC6-5E671181D91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Chart 4"/>
          <p:cNvGraphicFramePr/>
          <p:nvPr/>
        </p:nvGraphicFramePr>
        <p:xfrm>
          <a:off x="-50760" y="-50760"/>
          <a:ext cx="9194760" cy="638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3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8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itle 1"/>
          <p:cNvSpPr/>
          <p:nvPr/>
        </p:nvSpPr>
        <p:spPr>
          <a:xfrm>
            <a:off x="60480" y="6350040"/>
            <a:ext cx="90835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3. Maize grain yield as affected by SDSG and NF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8639280" y="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C399-098E-49D2-944C-57E1011D1DB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Chart 4"/>
          <p:cNvGraphicFramePr/>
          <p:nvPr/>
        </p:nvGraphicFramePr>
        <p:xfrm>
          <a:off x="-50760" y="-50760"/>
          <a:ext cx="9194760" cy="640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7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itle 1"/>
          <p:cNvSpPr/>
          <p:nvPr/>
        </p:nvSpPr>
        <p:spPr>
          <a:xfrm>
            <a:off x="108000" y="6338880"/>
            <a:ext cx="9036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Fig. 4. Farmer preference for corralling technology  at Navron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02560" y="0"/>
            <a:ext cx="5032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7B0B-9214-4F45-ABD7-6CC3BCEC2CF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Chart 4"/>
          <p:cNvGraphicFramePr/>
          <p:nvPr/>
        </p:nvGraphicFramePr>
        <p:xfrm>
          <a:off x="-50760" y="-34920"/>
          <a:ext cx="9194760" cy="637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1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34920"/>
                    <a:ext cx="9194760" cy="63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itle 1"/>
          <p:cNvSpPr/>
          <p:nvPr/>
        </p:nvSpPr>
        <p:spPr>
          <a:xfrm>
            <a:off x="0" y="6338880"/>
            <a:ext cx="9142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85760" indent="-108576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Fig. 5. Farmer preference for maize density at Navron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72400" y="0"/>
            <a:ext cx="470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6569-3AEF-4847-A6AA-B4F55AD8A9AA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Chart 4"/>
          <p:cNvGraphicFramePr/>
          <p:nvPr/>
        </p:nvGraphicFramePr>
        <p:xfrm>
          <a:off x="-50760" y="-22320"/>
          <a:ext cx="9193320" cy="636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5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22320"/>
                    <a:ext cx="919332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itle 1"/>
          <p:cNvSpPr/>
          <p:nvPr/>
        </p:nvSpPr>
        <p:spPr>
          <a:xfrm>
            <a:off x="28440" y="6288120"/>
            <a:ext cx="909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71600" indent="-13716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Fig. 6. Farmer preference for N fertilizer rate at Navron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8629560" y="0"/>
            <a:ext cx="514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857-7035-4213-BCA2-5B4539760D6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Chart 4"/>
          <p:cNvGraphicFramePr/>
          <p:nvPr/>
        </p:nvGraphicFramePr>
        <p:xfrm>
          <a:off x="-50760" y="-50760"/>
          <a:ext cx="9194760" cy="63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9" name="Char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-50760"/>
                    <a:ext cx="9194760" cy="63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itle 1"/>
          <p:cNvSpPr/>
          <p:nvPr/>
        </p:nvSpPr>
        <p:spPr>
          <a:xfrm>
            <a:off x="22320" y="1197000"/>
            <a:ext cx="51894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2320" y="1822320"/>
            <a:ext cx="914400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mproved soil quality 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ralling of sheep and goat increased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MPD interaction increased maize grain yield by about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and NFR interaction also increased maize grain yield by 92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jority of farmers preferred maize performance under SDSG at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MPD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NF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8640720" y="795240"/>
            <a:ext cx="503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D2EB-090A-4B44-85CE-EF7D9402BE2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itle 1"/>
          <p:cNvSpPr/>
          <p:nvPr/>
        </p:nvSpPr>
        <p:spPr>
          <a:xfrm>
            <a:off x="0" y="1197000"/>
            <a:ext cx="446400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Recomme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"/>
          <p:cNvSpPr/>
          <p:nvPr/>
        </p:nvSpPr>
        <p:spPr>
          <a:xfrm>
            <a:off x="141120" y="1803240"/>
            <a:ext cx="885852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Maize-livestock farmers with low resource endowment may also corral sheep and goat 70 or 14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aize plant density at 100 000 plant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ow number flock size can corral at 70 heads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9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high grain yiel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Those with large flock size can also corral at 140 herd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with mineral fertilizer at 60 kg h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N for increased grain y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5F4-5E95-4026-9750-E0F022CAC9DD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itle 1"/>
          <p:cNvSpPr/>
          <p:nvPr/>
        </p:nvSpPr>
        <p:spPr>
          <a:xfrm>
            <a:off x="0" y="1197000"/>
            <a:ext cx="69483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Arial"/>
              </a:rPr>
              <a:t>Lessons and way for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"/>
          <p:cNvSpPr/>
          <p:nvPr/>
        </p:nvSpPr>
        <p:spPr>
          <a:xfrm>
            <a:off x="108000" y="2060640"/>
            <a:ext cx="8858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Farmers complained about theft of ani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Quality of manure from livestock was 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Supplementary feeding to improve manure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buClr>
                <a:srgbClr val="000000"/>
              </a:buClr>
              <a:buFont typeface="Times New Roman"/>
              <a:buAutoNum type="roman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How the quality manure also affects fodder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4"/>
          <p:cNvSpPr/>
          <p:nvPr/>
        </p:nvSpPr>
        <p:spPr>
          <a:xfrm>
            <a:off x="8639280" y="785880"/>
            <a:ext cx="504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989C-6F2D-4EB3-BF15-DE3D66D9F95F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76320" y="3141720"/>
            <a:ext cx="8915400" cy="1295280"/>
          </a:xfrm>
          <a:prstGeom prst="rect">
            <a:avLst/>
          </a:prstGeom>
          <a:ln w="0">
            <a:noFill/>
          </a:ln>
        </p:spPr>
      </p:pic>
      <p:pic>
        <p:nvPicPr>
          <p:cNvPr id="490" name="Content Placeholder 3" descr="E:\Pictures\Knust campus\KNUST EMBLEM.png"/>
          <p:cNvPicPr/>
          <p:nvPr/>
        </p:nvPicPr>
        <p:blipFill>
          <a:blip r:embed="rId2"/>
          <a:stretch/>
        </p:blipFill>
        <p:spPr>
          <a:xfrm>
            <a:off x="4081320" y="4437000"/>
            <a:ext cx="936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590400" y="34920"/>
            <a:ext cx="82296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"/>
          <p:cNvSpPr/>
          <p:nvPr/>
        </p:nvSpPr>
        <p:spPr>
          <a:xfrm>
            <a:off x="36000" y="504720"/>
            <a:ext cx="23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0" y="1077840"/>
            <a:ext cx="9144000" cy="55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rent farming system in Africa is intensifying across various agro-ecological zone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nginga et al., 2003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in human and livestock growth is leading to crop-livestock intensification (Powell et al., 2004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ple crops grown are mainly cereals (maize, rice, millet and sorghu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reared are mainly ruminants with poultry and litt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no-gastr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1CDB-FD84-45F5-8409-B6E0773F11B0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611280" y="8366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1467000"/>
            <a:ext cx="7283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Content Placeholder 2"/>
          <p:cNvSpPr/>
          <p:nvPr/>
        </p:nvSpPr>
        <p:spPr>
          <a:xfrm>
            <a:off x="1440" y="2114640"/>
            <a:ext cx="914400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op yields on farmers field are low du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atic rainf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soil fertility (Bationo et al., 2000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integration of crop and livestock enterprise (Tarawali et al., 1999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or agronomic pract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planting dens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837640" y="770040"/>
            <a:ext cx="28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5108-778F-40B7-9F8A-4312DA0208D4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itle 1"/>
          <p:cNvSpPr/>
          <p:nvPr/>
        </p:nvSpPr>
        <p:spPr>
          <a:xfrm>
            <a:off x="466560" y="38160"/>
            <a:ext cx="82296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"/>
          <p:cNvSpPr/>
          <p:nvPr/>
        </p:nvSpPr>
        <p:spPr>
          <a:xfrm>
            <a:off x="9360" y="371520"/>
            <a:ext cx="3816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Content Placeholder 2"/>
          <p:cNvSpPr/>
          <p:nvPr/>
        </p:nvSpPr>
        <p:spPr>
          <a:xfrm>
            <a:off x="9360" y="847800"/>
            <a:ext cx="9099720" cy="58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vestock corralling results in high crop yields (Powell et al., 2004;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use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uah et al., 2009; Abdul Rahman et al., 2015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planting density (Conley et al., 2005; Adeniyan, 2014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nket fertilizer recommendation not useful in recent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licting results on effect of plant density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ch remains unknown on the interaction effect of these three factors on grain yield in crop-livestock system in West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8832960" y="-1440"/>
            <a:ext cx="284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3E1F-A653-4D1C-BD66-76BC5764C7F5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itle 1"/>
          <p:cNvSpPr/>
          <p:nvPr/>
        </p:nvSpPr>
        <p:spPr>
          <a:xfrm>
            <a:off x="2700360" y="0"/>
            <a:ext cx="43196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Introduction …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Content Placeholder 2"/>
          <p:cNvSpPr/>
          <p:nvPr/>
        </p:nvSpPr>
        <p:spPr>
          <a:xfrm>
            <a:off x="46080" y="620640"/>
            <a:ext cx="91314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Objectiv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d the interaction effect of SDSG, MPD and NFR on yield of maize in a small-scaled crop-livestock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ic objectiv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determine effect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soil qu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DSG on weed divers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on effect of SDSG, MPD and NFR on yield of ma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 preference for SDSG, MPD and NFR technologies on maiz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8928000" y="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6ACB-30AC-40B8-8DE8-798CEEBDE6C3}" type="slidenum">
              <a:rPr b="1" lang="en-US" sz="3200" spc="-1" strike="noStrike">
                <a:solidFill>
                  <a:srgbClr val="003300"/>
                </a:solidFill>
                <a:latin typeface="Calibri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itle 1"/>
          <p:cNvSpPr/>
          <p:nvPr/>
        </p:nvSpPr>
        <p:spPr>
          <a:xfrm>
            <a:off x="468360" y="-20520"/>
            <a:ext cx="82296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Materials and Metho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3" descr="E:\UER. jpg"/>
          <p:cNvPicPr/>
          <p:nvPr/>
        </p:nvPicPr>
        <p:blipFill>
          <a:blip r:embed="rId1"/>
          <a:stretch/>
        </p:blipFill>
        <p:spPr>
          <a:xfrm>
            <a:off x="3708360" y="549360"/>
            <a:ext cx="5435640" cy="6308640"/>
          </a:xfrm>
          <a:prstGeom prst="rect">
            <a:avLst/>
          </a:prstGeom>
          <a:ln w="0">
            <a:noFill/>
          </a:ln>
        </p:spPr>
      </p:pic>
      <p:sp>
        <p:nvSpPr>
          <p:cNvPr id="414" name="Content Placeholder 2"/>
          <p:cNvSpPr/>
          <p:nvPr/>
        </p:nvSpPr>
        <p:spPr>
          <a:xfrm>
            <a:off x="0" y="549360"/>
            <a:ext cx="3924360" cy="56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Are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per East (Sudan Savann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ngitude:10̊ 30’ 11’’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titude: 0̊ 1’ 30’’ 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iron.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ax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34.3̊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ean annual Min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22.3̊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n annual Rainfall: 750-1204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urce: Navrongo Meteo. Depar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8871120" y="17640"/>
            <a:ext cx="26640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CCD5-5AFC-4FF8-8B92-9926326C64FE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itle 1"/>
          <p:cNvSpPr/>
          <p:nvPr/>
        </p:nvSpPr>
        <p:spPr>
          <a:xfrm>
            <a:off x="762120" y="1066680"/>
            <a:ext cx="7696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Content Placeholder 2"/>
          <p:cNvSpPr/>
          <p:nvPr/>
        </p:nvSpPr>
        <p:spPr>
          <a:xfrm>
            <a:off x="54000" y="1441440"/>
            <a:ext cx="907092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xperimental Design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it-split plot with 8 rep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8908920" y="76500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11A4-FD24-4330-BA97-4AEB1F5A55A1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0240" y="2565360"/>
            <a:ext cx="9126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ain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cking density of sheep and goat corralling(SDSG) (0, 70, 140 head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ze plant density (MPD)                                   (66 667, 100 000, 133 333 plants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0640" indent="-206064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b-sub plot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fertilizer rate (NFR)                                      (0-40-40, 60-40-40, 90-40-40 kg h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P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itle 1"/>
          <p:cNvSpPr/>
          <p:nvPr/>
        </p:nvSpPr>
        <p:spPr>
          <a:xfrm>
            <a:off x="0" y="6381720"/>
            <a:ext cx="914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oto 1: Stocking density of sheep and goat corralling (SDSG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4"/>
          <p:cNvSpPr/>
          <p:nvPr/>
        </p:nvSpPr>
        <p:spPr>
          <a:xfrm>
            <a:off x="8897760" y="6381720"/>
            <a:ext cx="216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F809-0A41-4657-80D4-80FA15355BB8}" type="slidenum">
              <a:rPr b="1" lang="en-US" sz="3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"/>
          <p:cNvPicPr/>
          <p:nvPr/>
        </p:nvPicPr>
        <p:blipFill>
          <a:blip r:embed="rId1"/>
          <a:stretch/>
        </p:blipFill>
        <p:spPr>
          <a:xfrm>
            <a:off x="-9360" y="-476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Odhong</cp:lastModifiedBy>
  <cp:lastPrinted>2015-09-01T11:16:39Z</cp:lastPrinted>
  <dcterms:modified xsi:type="dcterms:W3CDTF">2016-12-22T10:52:12Z</dcterms:modified>
  <cp:revision>973</cp:revision>
  <dc:subject/>
  <dc:title>Diapositiva 1</dc:title>
</cp:coreProperties>
</file>