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1E8-6DCD-4CDC-8EB9-A57EC1441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7A9-7B80-4C33-A734-C5453385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8D6-FD5D-4B85-A38D-EE8B2A3D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7D0-26D8-46E2-88ED-55E5443A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17EC-D143-497E-B2D0-138CF41E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E4E8-794A-4673-9D0F-9BE70502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D23-9BC2-4DC5-8BF2-B1ECF1C6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57A5-CD50-42DA-BB02-38F60D7F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6F8F-3639-4580-98DE-BA3E366D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B09-2E1D-4F65-B3B0-12C90084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258-7DD3-4F95-A351-5D83BF83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597-9292-4D14-A7A9-6216BC8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BE76-C832-4131-BF00-08959478AD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1125-2521-4983-8F84-5A92D94CE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4AFE-6AB3-4260-8A25-9249EA014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47DD-2160-4F61-9A53-524ACF221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5542-416A-4032-A41A-F567880CA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his Workshop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view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opportunities presented by “Quick Wi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miliarisation with modes of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priority research t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raft operation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 partnership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7E02-013F-48A3-A2D4-DEF8D571E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8:39Z</dcterms:modified>
  <cp:revision>83</cp:revision>
  <dc:subject/>
  <dc:title>PowerPoint Presentation</dc:title>
</cp:coreProperties>
</file>