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CCDA-7E63-4150-8C5A-2678C7479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BF461-5482-4C2E-B90D-D09B0FAB8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63613-5DC4-4E77-85CF-26676EEF3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C116B-013A-4A99-8E41-0971832DE7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4BB5-E6B9-4BD8-B45F-670164F5C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990BA-1D6B-4119-B52C-97B209ACB9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7B64E-DF90-4DCB-98D2-47D90C30DD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88687-87DF-494D-B5C9-DA5BF63782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DC9BD-2860-4A53-A7EC-6155BF8B67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A6C6D-70B8-4350-BB1E-0CC5FEFA1B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F0D69-A0F8-442C-8747-6E4E93548A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99C92-B569-4F5E-8D13-39E9679F83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BBB85-AD08-4283-932B-9C197F70ED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0CB66-56D5-45F8-866F-DB6E9580BA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08F55-3DB9-4886-9B6E-EFED48CBB2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B3B15-B17B-42CE-8082-D51CAFCF63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DC787-4FDF-48E0-8925-1AF5D8AA776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863C5-B405-4442-811D-BF5F85FB8ED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D37EA-1B6F-4D7A-9569-B40412676EB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C55FB-7CB4-404C-8E37-A3C47844A25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55FB-25DC-4C39-9D98-2727F0C8D97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9F2F0-7489-4C5C-8EA5-538C94AE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F9332-18C7-468B-8DBA-7AB4E3DD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57695-6FA6-4FAE-8860-A756F974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46677-3D51-4162-A905-4FFFAB60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A87C8-7B35-4255-8BD0-68DBD4AD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3FDA8-1635-4FF9-AE17-B1EE8722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93D60-9514-4907-92AD-C90443E8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0DC16-6BCB-4D5A-A5C2-AE005CAD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228E0-6667-4581-B895-267444C9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3654-CEE4-4461-8AC1-2BB46C25873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DBE46-23DF-4133-8EC2-B7F18FC2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E977F-B81F-4B2C-BFEC-0C48ED97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E3FAF-9372-4AB6-A714-87519157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F142-6C0A-4623-B036-E6E3B293E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8274B-59E9-4F79-9ECB-842DC2C0C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F3B9-18E2-46C6-A223-AE2C2A2331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5A9E-9F9A-4102-A5E8-F6D24E3D85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5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AC8C-889D-4336-9D5B-506CCFD7EB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78920" y="1600200"/>
            <a:ext cx="2089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entry points &amp; integration levels (Mal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60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683712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3:59:44Z</dcterms:created>
  <dc:creator>IZeledon</dc:creator>
  <dc:description/>
  <dc:language>en-US</dc:language>
  <cp:lastModifiedBy>LeBorgne, Ewen (ILRI)</cp:lastModifiedBy>
  <cp:lastPrinted>2011-10-06T11:45:23Z</cp:lastPrinted>
  <dcterms:modified xsi:type="dcterms:W3CDTF">2012-10-31T06:47:43Z</dcterms:modified>
  <cp:revision>21</cp:revision>
  <dc:subject/>
  <dc:title>Slide 1</dc:title>
</cp:coreProperties>
</file>