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2615B-FB6F-48AC-A9AE-8D414A7E2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E705D-23CE-428E-B948-0FC7E10CC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1238-5B8E-4993-9977-BA163C555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41A56-A8F8-4340-9E79-CC48A871DB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5F7A-5AF3-4FBB-BD60-D0717EF6B1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A5740-C873-45F6-A441-7961B7C787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DF069-8AAF-40A8-8345-CE76D2DA3C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65CC6-D846-4A99-A7F9-D513D2FCFD8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D1CB4-3236-4B6C-9846-4D3F55E322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9CF05-27B1-4016-9CE4-9ADE8497D8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63A76-FB4D-4E43-9639-9A23FE3E53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E26F2-F407-4709-BDB5-438F4A18982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9931-65A0-4599-B585-E11C02CECE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99F97-F0D2-412A-934B-21876DAF075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D4ACD-0FD7-4EE3-9E63-3140241A806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31258-D17A-4199-ADCF-B77FE263D48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68356-9A1B-455F-8E30-10E15CD286D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7DB4F-872E-4314-A3FF-5F8DA75A72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10E1-1F4C-464F-9476-8B4CE47834B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2437-C864-45B3-8186-F2CEEDA52A1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C418-0285-4D49-81F6-8B7384CFAC8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A32D9-0DBC-47BD-9256-714E325D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F6438-5A7F-4C1E-8C22-AA73157DF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33FD9F-9D82-42F9-9F9E-BBFD3DD4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B717AA-F5E9-4AE2-A2E2-56CF8D8B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A42A7B-0B4E-4BE5-8331-75D42679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869E8-E578-46A1-9D9D-3B2EA204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D7C29-C023-48A7-B1D9-4AD20B0E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E80CB-0E57-408A-8F7B-42637FF8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593E3-9413-4F97-B091-FA3BEEC4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8C24-4D7F-46D4-A081-89B86004523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F402A9-9750-4CE1-B5C3-99BAC4291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23455-9A66-405E-B7AC-991EA3E38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96441-A08E-4124-A151-F8D39C24D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7F091-6A8B-4FB0-85B7-7E4F01A71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006F-2B44-44B0-9127-EDFBC55B6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21B7-5BE0-42A4-A581-3F68C2FF7F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2B54-1D6A-49E6-84F5-2D262BB0A6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5ED3E-EB7C-4C48-861B-0E14FB3DCC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78920" y="1600200"/>
            <a:ext cx="2089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frica RISING entry points &amp; integration levels (Mali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60" descr=""/>
          <p:cNvPicPr/>
          <p:nvPr/>
        </p:nvPicPr>
        <p:blipFill>
          <a:blip r:embed="rId1"/>
          <a:stretch/>
        </p:blipFill>
        <p:spPr>
          <a:xfrm>
            <a:off x="2195640" y="692280"/>
            <a:ext cx="683712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8T13:59:44Z</dcterms:created>
  <dc:creator>IZeledon</dc:creator>
  <dc:description/>
  <dc:language>en-US</dc:language>
  <cp:lastModifiedBy>LeBorgne, Ewen (ILRI)</cp:lastModifiedBy>
  <cp:lastPrinted>2011-10-06T11:45:23Z</cp:lastPrinted>
  <dcterms:modified xsi:type="dcterms:W3CDTF">2012-10-31T06:47:43Z</dcterms:modified>
  <cp:revision>21</cp:revision>
  <dc:subject/>
  <dc:title>Slide 1</dc:title>
</cp:coreProperties>
</file>